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5.png" ContentType="image/png"/>
  <Override PartName="/ppt/media/image3.png" ContentType="image/png"/>
  <Override PartName="/ppt/media/image4.png" ContentType="image/png"/>
  <Override PartName="/ppt/media/image7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media/image6.wmf" ContentType="image/x-wmf"/>
  <Override PartName="/ppt/media/image11.png" ContentType="image/png"/>
  <Override PartName="/ppt/media/image2.png" ContentType="image/png"/>
  <Override PartName="/ppt/media/image29.wmf" ContentType="image/x-wmf"/>
  <Override PartName="/ppt/media/image31.png" ContentType="image/png"/>
  <Override PartName="/ppt/media/image14.wmf" ContentType="image/x-wmf"/>
  <Override PartName="/ppt/media/image30.png" ContentType="image/png"/>
  <Override PartName="/ppt/media/image28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0E7D-7880-4DEA-9590-A986BF2D20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B29F-6AAB-47DD-967C-20C929767F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F491-6D70-4CF2-B14E-00AEB5FF3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D98B-86EF-4AB9-8A81-43E67EE92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43F4-BF3B-4487-B1B7-BBDAEBEDF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BD81A-2D7C-43A1-B32F-5E5EE13C5B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0A68B-BAE6-4907-ABD2-178E1AF441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DC6A-B55A-4459-84F5-753E5590F2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9F83B-84B6-4AA0-AF37-C9EB3871CB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3134-051B-4508-A2F2-AD7732D3CF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2D22-58C0-4CBE-8B5B-287A8F409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47AF-CEF0-4C50-98DE-6D1C53D79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0343A-BEDB-4545-882D-85DCEDC9ED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7A33-A450-4291-9F93-740C16D95F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17005-E239-4941-97DC-062394B7D0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DE57-3D16-4460-992C-CEF470E2F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9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42800" y="144792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56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9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42800" y="4034880"/>
            <a:ext cx="2373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AD142-EDEF-4FD3-8968-9BF2D3FA49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26AD5-8663-4AEC-A874-47B09C7CD7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FF99-0E5E-4202-ADA2-EB6BC506F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68C66-51A7-4740-AC56-6B241170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85400" y="152280"/>
            <a:ext cx="872964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AF25-857C-4BC5-8816-EDD2C7619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A164-234F-4EA0-8D6C-742D21B80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34640" y="403488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A79E-19CB-4994-ADBF-6FF961D36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5680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4640" y="1447920"/>
            <a:ext cx="3597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56800" y="4034880"/>
            <a:ext cx="73724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CF10A-0FD1-4C8E-9F69-1AD24164D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Calibri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0DCD-9524-4AFC-AA76-CFBDA99E160D}" type="slidenum">
              <a:rPr b="0" lang="ko-KR" sz="1200" spc="-1" strike="noStrike">
                <a:solidFill>
                  <a:srgbClr val="f8f8f8"/>
                </a:solidFill>
                <a:latin typeface="Calibri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4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4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4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pic>
        <p:nvPicPr>
          <p:cNvPr id="44" name="图片 1" descr=""/>
          <p:cNvPicPr/>
          <p:nvPr/>
        </p:nvPicPr>
        <p:blipFill>
          <a:blip r:embed="rId2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6" name="图片 1" descr=""/>
          <p:cNvPicPr/>
          <p:nvPr/>
        </p:nvPicPr>
        <p:blipFill>
          <a:blip r:embed="rId3"/>
          <a:stretch/>
        </p:blipFill>
        <p:spPr>
          <a:xfrm>
            <a:off x="5896080" y="6408720"/>
            <a:ext cx="404640" cy="405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6246720" y="641664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99"/>
                </a:solidFill>
                <a:latin typeface="华文行楷"/>
                <a:ea typeface="华文行楷"/>
              </a:rPr>
              <a:t>东北财经大学统计学院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56800" y="1447920"/>
            <a:ext cx="73724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11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85400" y="152280"/>
            <a:ext cx="8729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99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228600" y="6477120"/>
            <a:ext cx="5335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8f8f8"/>
                </a:solidFill>
                <a:latin typeface="Calibri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6C8B-91AD-4378-8159-3E222A585F3E}" type="slidenum">
              <a:rPr b="0" lang="ko-KR" sz="1200" spc="-1" strike="noStrike">
                <a:solidFill>
                  <a:srgbClr val="f8f8f8"/>
                </a:solidFill>
                <a:latin typeface="Calibri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52320" y="1601280"/>
            <a:ext cx="5592600" cy="6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第十章  时间序列</a:t>
            </a:r>
            <a:endParaRPr b="1" lang="en-US" sz="3600" spc="-1" strike="noStrike">
              <a:solidFill>
                <a:srgbClr val="6699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195640" y="2491920"/>
            <a:ext cx="4838400" cy="325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一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间序列构成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二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波动性的表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三节  长期趋势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四节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季节波动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五节  循环趋势的测定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 319"/>
          <p:cNvGrpSpPr/>
          <p:nvPr/>
        </p:nvGrpSpPr>
        <p:grpSpPr>
          <a:xfrm>
            <a:off x="0" y="685800"/>
            <a:ext cx="9144000" cy="776160"/>
            <a:chOff x="0" y="685800"/>
            <a:chExt cx="9144000" cy="776160"/>
          </a:xfrm>
        </p:grpSpPr>
        <p:sp>
          <p:nvSpPr>
            <p:cNvPr id="90" name="Rectangle 304"/>
            <p:cNvSpPr/>
            <p:nvPr/>
          </p:nvSpPr>
          <p:spPr>
            <a:xfrm>
              <a:off x="0" y="685800"/>
              <a:ext cx="9144000" cy="231840"/>
            </a:xfrm>
            <a:prstGeom prst="rect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1" name="Rectangle 305"/>
            <p:cNvSpPr/>
            <p:nvPr/>
          </p:nvSpPr>
          <p:spPr>
            <a:xfrm>
              <a:off x="0" y="917640"/>
              <a:ext cx="9144000" cy="122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2" name="AutoShape 309"/>
            <p:cNvSpPr/>
            <p:nvPr/>
          </p:nvSpPr>
          <p:spPr>
            <a:xfrm>
              <a:off x="775008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sp>
          <p:nvSpPr>
            <p:cNvPr id="93" name="AutoShape 310"/>
            <p:cNvSpPr/>
            <p:nvPr/>
          </p:nvSpPr>
          <p:spPr>
            <a:xfrm>
              <a:off x="8424720" y="976320"/>
              <a:ext cx="609840" cy="48564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94" name="矩形 9"/>
          <p:cNvSpPr/>
          <p:nvPr/>
        </p:nvSpPr>
        <p:spPr>
          <a:xfrm>
            <a:off x="627120" y="635148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2016</a:t>
            </a:r>
            <a:r>
              <a:rPr b="1" lang="zh-CN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月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5" name="矩形 10"/>
          <p:cNvSpPr/>
          <p:nvPr/>
        </p:nvSpPr>
        <p:spPr>
          <a:xfrm>
            <a:off x="627120" y="6351480"/>
            <a:ext cx="1568520" cy="4622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31760" y="2188440"/>
            <a:ext cx="68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加法模型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108000" y="3572280"/>
            <a:ext cx="29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乘法模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0" name="Text Box 39"/>
          <p:cNvSpPr/>
          <p:nvPr/>
        </p:nvSpPr>
        <p:spPr>
          <a:xfrm>
            <a:off x="5796000" y="3500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（常用模型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250920" y="2827440"/>
            <a:ext cx="86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前提：四个影响因素对时间序列的影响是可加的，且相互独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316080" y="4221000"/>
            <a:ext cx="85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前提：四个影响因素对时间的影响是相互不独立的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8000" y="1159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52360" y="1486080"/>
            <a:ext cx="8280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四部分构成内容的结构方式，存在两种理论假设：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16"/>
              <p:cNvSpPr txBox="1"/>
              <p:nvPr/>
            </p:nvSpPr>
            <p:spPr>
              <a:xfrm>
                <a:off x="2556000" y="2198520"/>
                <a:ext cx="341928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18"/>
              <p:cNvSpPr txBox="1"/>
              <p:nvPr/>
            </p:nvSpPr>
            <p:spPr>
              <a:xfrm>
                <a:off x="2556000" y="3506760"/>
                <a:ext cx="318744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Rectangle 20"/>
          <p:cNvSpPr/>
          <p:nvPr/>
        </p:nvSpPr>
        <p:spPr>
          <a:xfrm>
            <a:off x="324000" y="5084640"/>
            <a:ext cx="849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式中： 为长期趋势， 为季节波动， 为循环波动， 为无规则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1"/>
              <p:cNvSpPr txBox="1"/>
              <p:nvPr/>
            </p:nvSpPr>
            <p:spPr>
              <a:xfrm>
                <a:off x="1171440" y="5186520"/>
                <a:ext cx="32076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2"/>
              <p:cNvSpPr txBox="1"/>
              <p:nvPr/>
            </p:nvSpPr>
            <p:spPr>
              <a:xfrm>
                <a:off x="3203640" y="518652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3"/>
              <p:cNvSpPr txBox="1"/>
              <p:nvPr/>
            </p:nvSpPr>
            <p:spPr>
              <a:xfrm>
                <a:off x="5221440" y="5214960"/>
                <a:ext cx="323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4"/>
              <p:cNvSpPr txBox="1"/>
              <p:nvPr/>
            </p:nvSpPr>
            <p:spPr>
              <a:xfrm>
                <a:off x="7237440" y="5226120"/>
                <a:ext cx="3459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4"/>
          <p:cNvSpPr/>
          <p:nvPr/>
        </p:nvSpPr>
        <p:spPr>
          <a:xfrm>
            <a:off x="2305080" y="1413000"/>
            <a:ext cx="644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没有长期趋势（水平趋势），且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只包含无规则波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3" name="TextBox 18"/>
          <p:cNvSpPr/>
          <p:nvPr/>
        </p:nvSpPr>
        <p:spPr>
          <a:xfrm>
            <a:off x="2344680" y="2421000"/>
            <a:ext cx="6188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包含无规则波动，且包含长期趋势或季节波动或循环波动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681480" y="1614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稳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5" name="矩形 2"/>
          <p:cNvSpPr/>
          <p:nvPr/>
        </p:nvSpPr>
        <p:spPr>
          <a:xfrm>
            <a:off x="608040" y="2622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非平稳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108000" y="115920"/>
            <a:ext cx="54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611280" y="3619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非平稳序列的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7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种可能情形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1"/>
              <p:cNvSpPr txBox="1"/>
              <p:nvPr/>
            </p:nvSpPr>
            <p:spPr>
              <a:xfrm>
                <a:off x="1359000" y="4165560"/>
                <a:ext cx="1412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50"/>
              <p:cNvSpPr txBox="1"/>
              <p:nvPr/>
            </p:nvSpPr>
            <p:spPr>
              <a:xfrm>
                <a:off x="1327320" y="4692600"/>
                <a:ext cx="13730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49"/>
              <p:cNvSpPr txBox="1"/>
              <p:nvPr/>
            </p:nvSpPr>
            <p:spPr>
              <a:xfrm>
                <a:off x="1327320" y="5280120"/>
                <a:ext cx="1373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48"/>
              <p:cNvSpPr txBox="1"/>
              <p:nvPr/>
            </p:nvSpPr>
            <p:spPr>
              <a:xfrm>
                <a:off x="3348000" y="4200480"/>
                <a:ext cx="17287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47"/>
              <p:cNvSpPr txBox="1"/>
              <p:nvPr/>
            </p:nvSpPr>
            <p:spPr>
              <a:xfrm>
                <a:off x="3276720" y="4724280"/>
                <a:ext cx="18000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46"/>
              <p:cNvSpPr txBox="1"/>
              <p:nvPr/>
            </p:nvSpPr>
            <p:spPr>
              <a:xfrm>
                <a:off x="3276720" y="5300640"/>
                <a:ext cx="18000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45"/>
              <p:cNvSpPr txBox="1"/>
              <p:nvPr/>
            </p:nvSpPr>
            <p:spPr>
              <a:xfrm>
                <a:off x="1343160" y="5857920"/>
                <a:ext cx="26524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1820880" y="1989000"/>
            <a:ext cx="57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二节  波动性的描述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519200" y="3213000"/>
            <a:ext cx="63658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5"/>
          <p:cNvSpPr/>
          <p:nvPr/>
        </p:nvSpPr>
        <p:spPr>
          <a:xfrm>
            <a:off x="351000" y="4775040"/>
            <a:ext cx="83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报告期观测值与固定基期观测值之差，反映了观测值在给定时期内累积波动幅度的大小。固定基期通常取时间序列中最初的那个时期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68" name="矩形 2"/>
          <p:cNvSpPr/>
          <p:nvPr/>
        </p:nvSpPr>
        <p:spPr>
          <a:xfrm>
            <a:off x="351000" y="2747880"/>
            <a:ext cx="83977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报告期观测值与报告期前一期观测值之差，反映了观测值逐期波动幅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69" name="Picture 53" descr=""/>
          <p:cNvPicPr/>
          <p:nvPr/>
        </p:nvPicPr>
        <p:blipFill>
          <a:blip r:embed="rId1"/>
          <a:stretch/>
        </p:blipFill>
        <p:spPr>
          <a:xfrm>
            <a:off x="2141640" y="3632040"/>
            <a:ext cx="4159080" cy="511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7" descr=""/>
          <p:cNvPicPr/>
          <p:nvPr/>
        </p:nvPicPr>
        <p:blipFill>
          <a:blip r:embed="rId2"/>
          <a:stretch/>
        </p:blipFill>
        <p:spPr>
          <a:xfrm>
            <a:off x="2068560" y="5989680"/>
            <a:ext cx="4303800" cy="511200"/>
          </a:xfrm>
          <a:prstGeom prst="rect">
            <a:avLst/>
          </a:prstGeom>
          <a:ln w="0">
            <a:noFill/>
          </a:ln>
        </p:spPr>
      </p:pic>
      <p:sp>
        <p:nvSpPr>
          <p:cNvPr id="171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2" name="矩形 1"/>
          <p:cNvSpPr/>
          <p:nvPr/>
        </p:nvSpPr>
        <p:spPr>
          <a:xfrm>
            <a:off x="701640" y="2185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逐期增减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649440" y="425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宋体"/>
              </a:rPr>
              <a:t>累积增减量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74" name="矩形 8" descr=""/>
          <p:cNvPicPr/>
          <p:nvPr/>
        </p:nvPicPr>
        <p:blipFill>
          <a:blip r:embed="rId3"/>
          <a:stretch/>
        </p:blipFill>
        <p:spPr>
          <a:xfrm>
            <a:off x="4645080" y="1536840"/>
            <a:ext cx="4370400" cy="1657080"/>
          </a:xfrm>
          <a:prstGeom prst="rect">
            <a:avLst/>
          </a:prstGeom>
          <a:ln w="0">
            <a:noFill/>
          </a:ln>
        </p:spPr>
      </p:pic>
      <p:sp>
        <p:nvSpPr>
          <p:cNvPr id="175" name="TextBox 9"/>
          <p:cNvSpPr/>
          <p:nvPr/>
        </p:nvSpPr>
        <p:spPr>
          <a:xfrm>
            <a:off x="3956760" y="1285920"/>
            <a:ext cx="4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增减量是衡量波动幅度大小的最基本和最常用的尺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4"/>
          <p:cNvSpPr/>
          <p:nvPr/>
        </p:nvSpPr>
        <p:spPr>
          <a:xfrm>
            <a:off x="324000" y="3036960"/>
            <a:ext cx="8424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10.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根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粮食总产量时间序列，试计算我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年粮食产量的增减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98360" y="4724280"/>
          <a:ext cx="8729640" cy="1368720"/>
        </p:xfrm>
        <a:graphic>
          <a:graphicData uri="http://schemas.openxmlformats.org/drawingml/2006/table">
            <a:tbl>
              <a:tblPr/>
              <a:tblGrid>
                <a:gridCol w="793800"/>
                <a:gridCol w="793800"/>
                <a:gridCol w="793800"/>
                <a:gridCol w="793800"/>
                <a:gridCol w="793800"/>
                <a:gridCol w="792000"/>
                <a:gridCol w="793800"/>
                <a:gridCol w="793800"/>
                <a:gridCol w="793800"/>
                <a:gridCol w="793440"/>
                <a:gridCol w="793800"/>
              </a:tblGrid>
              <a:tr h="49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矩形 10"/>
          <p:cNvSpPr/>
          <p:nvPr/>
        </p:nvSpPr>
        <p:spPr>
          <a:xfrm>
            <a:off x="1908000" y="419580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我国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2003-201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年粮食总产量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1464120" y="1316160"/>
            <a:ext cx="36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逐期增减量与累积增减量之间的数量关系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对象 9"/>
              <p:cNvSpPr txBox="1"/>
              <p:nvPr/>
            </p:nvSpPr>
            <p:spPr>
              <a:xfrm>
                <a:off x="4203720" y="1897200"/>
                <a:ext cx="344952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1" name="Rectangle 4"/>
          <p:cNvSpPr/>
          <p:nvPr/>
        </p:nvSpPr>
        <p:spPr>
          <a:xfrm>
            <a:off x="579600" y="1914840"/>
            <a:ext cx="34876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累积增减量等于对应的各个逐期增减量之和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2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85760" y="2708280"/>
          <a:ext cx="8729640" cy="3600360"/>
        </p:xfrm>
        <a:graphic>
          <a:graphicData uri="http://schemas.openxmlformats.org/drawingml/2006/table">
            <a:tbl>
              <a:tblPr/>
              <a:tblGrid>
                <a:gridCol w="2344680"/>
                <a:gridCol w="1225440"/>
                <a:gridCol w="1290960"/>
                <a:gridCol w="1288800"/>
                <a:gridCol w="1290600"/>
                <a:gridCol w="1289160"/>
              </a:tblGrid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粮食总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逐期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7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55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6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累积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77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32.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34.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0.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粮食总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逐期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0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5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3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37.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累积增长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1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2.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78.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51.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888.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矩形 6"/>
          <p:cNvSpPr/>
          <p:nvPr/>
        </p:nvSpPr>
        <p:spPr>
          <a:xfrm>
            <a:off x="447840" y="2298600"/>
            <a:ext cx="85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我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3-2012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粮食总产量的增减量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266760" y="1341360"/>
            <a:ext cx="84088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函数功能，求得各期的逐期粮食增减量与累积增减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6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逐期增减量与累积增减量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468360" y="4518000"/>
            <a:ext cx="8242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观测值与固定基期观测值之比，反映了观测值在给定时期内波动速度的快慢。固定基期通常取时间序列中最初的那个时期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88" name="矩形 2"/>
          <p:cNvSpPr/>
          <p:nvPr/>
        </p:nvSpPr>
        <p:spPr>
          <a:xfrm>
            <a:off x="396720" y="1784520"/>
            <a:ext cx="85186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观测值与报告期前一期观测值之比，反映了观测值逐期波动速度的快慢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对象 11"/>
              <p:cNvSpPr txBox="1"/>
              <p:nvPr/>
            </p:nvSpPr>
            <p:spPr>
              <a:xfrm>
                <a:off x="2987640" y="5311800"/>
                <a:ext cx="27367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，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1" name="矩形 1"/>
          <p:cNvSpPr/>
          <p:nvPr/>
        </p:nvSpPr>
        <p:spPr>
          <a:xfrm>
            <a:off x="882360" y="12542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环比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896760" y="357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定基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5"/>
              <p:cNvSpPr txBox="1"/>
              <p:nvPr/>
            </p:nvSpPr>
            <p:spPr>
              <a:xfrm>
                <a:off x="3059280" y="2637000"/>
                <a:ext cx="22320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4" name="对象 4"/>
              <p:cNvSpPr txBox="1"/>
              <p:nvPr/>
            </p:nvSpPr>
            <p:spPr>
              <a:xfrm>
                <a:off x="4378320" y="2608200"/>
                <a:ext cx="38656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t xml:space="preserve">⋯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5" name="Picture 68" descr=""/>
          <p:cNvPicPr/>
          <p:nvPr/>
        </p:nvPicPr>
        <p:blipFill>
          <a:blip r:embed="rId1"/>
          <a:stretch/>
        </p:blipFill>
        <p:spPr>
          <a:xfrm>
            <a:off x="5148360" y="4292640"/>
            <a:ext cx="2663640" cy="1098360"/>
          </a:xfrm>
          <a:prstGeom prst="rect">
            <a:avLst/>
          </a:prstGeom>
          <a:ln w="0">
            <a:noFill/>
          </a:ln>
        </p:spPr>
      </p:pic>
      <p:sp>
        <p:nvSpPr>
          <p:cNvPr id="196" name="矩形 5"/>
          <p:cNvSpPr/>
          <p:nvPr/>
        </p:nvSpPr>
        <p:spPr>
          <a:xfrm>
            <a:off x="324000" y="4149720"/>
            <a:ext cx="376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两个相邻时期的定基发展速度之比等于它们的环比发展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7" name="矩形 6"/>
          <p:cNvSpPr/>
          <p:nvPr/>
        </p:nvSpPr>
        <p:spPr>
          <a:xfrm>
            <a:off x="324000" y="2452680"/>
            <a:ext cx="340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5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定基发展速度等于对应的各个环比发展速度的连乘积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8" name="矩形 1"/>
          <p:cNvSpPr/>
          <p:nvPr/>
        </p:nvSpPr>
        <p:spPr>
          <a:xfrm>
            <a:off x="1800000" y="168588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环比发展速度与定基发展速度之间的数量关系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99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6"/>
          <p:cNvSpPr/>
          <p:nvPr/>
        </p:nvSpPr>
        <p:spPr>
          <a:xfrm>
            <a:off x="2940120" y="1568520"/>
            <a:ext cx="58086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说明现象在一个较长的时间里逐期发展的一般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752400" y="17575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均发展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2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774720" y="2781360"/>
            <a:ext cx="1095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计算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9"/>
              <p:cNvSpPr txBox="1"/>
              <p:nvPr/>
            </p:nvSpPr>
            <p:spPr>
              <a:xfrm>
                <a:off x="1979640" y="3284640"/>
                <a:ext cx="45561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5" name="矩形 1"/>
          <p:cNvSpPr/>
          <p:nvPr/>
        </p:nvSpPr>
        <p:spPr>
          <a:xfrm>
            <a:off x="468360" y="468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0.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【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.1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中的粮食产量时间序列，试计算环比发展速度、定基发展速度以及平均发展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72880" y="2060640"/>
          <a:ext cx="8642520" cy="3125880"/>
        </p:xfrm>
        <a:graphic>
          <a:graphicData uri="http://schemas.openxmlformats.org/drawingml/2006/table">
            <a:tbl>
              <a:tblPr/>
              <a:tblGrid>
                <a:gridCol w="1724040"/>
                <a:gridCol w="1141560"/>
                <a:gridCol w="1155600"/>
                <a:gridCol w="1154160"/>
                <a:gridCol w="1155600"/>
                <a:gridCol w="1155960"/>
                <a:gridCol w="1155600"/>
              </a:tblGrid>
              <a:tr h="31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展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2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102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发展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矩形 7"/>
          <p:cNvSpPr/>
          <p:nvPr/>
        </p:nvSpPr>
        <p:spPr>
          <a:xfrm>
            <a:off x="468360" y="5734080"/>
            <a:ext cx="37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粮食产量的平均发展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对象 9"/>
              <p:cNvSpPr txBox="1"/>
              <p:nvPr/>
            </p:nvSpPr>
            <p:spPr>
              <a:xfrm>
                <a:off x="4425840" y="5445000"/>
                <a:ext cx="317052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9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69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9" name="矩形 10"/>
          <p:cNvSpPr/>
          <p:nvPr/>
        </p:nvSpPr>
        <p:spPr>
          <a:xfrm>
            <a:off x="250920" y="1484280"/>
            <a:ext cx="828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函数和四则运算功能，得到如下计算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0" name="标题 1"/>
          <p:cNvSpPr/>
          <p:nvPr/>
        </p:nvSpPr>
        <p:spPr>
          <a:xfrm>
            <a:off x="34920" y="115920"/>
            <a:ext cx="648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环比发展速度与定基发展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1555200"/>
            <a:ext cx="7912080" cy="927720"/>
          </a:xfrm>
          <a:prstGeom prst="rect">
            <a:avLst/>
          </a:prstGeom>
          <a:solidFill>
            <a:srgbClr val="f8f8f8"/>
          </a:solidFill>
          <a:ln w="25560">
            <a:solidFill>
              <a:srgbClr val="fbfb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为研究全国碳酸饮料的市场供应情况，研究人员从中经网统计数据库搜集了全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005-201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年近七年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季度的碳酸饮料产量数据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9640" y="3284640"/>
          <a:ext cx="7993080" cy="2843280"/>
        </p:xfrm>
        <a:graphic>
          <a:graphicData uri="http://schemas.openxmlformats.org/drawingml/2006/table">
            <a:tbl>
              <a:tblPr/>
              <a:tblGrid>
                <a:gridCol w="1598760"/>
                <a:gridCol w="1598400"/>
                <a:gridCol w="1597320"/>
                <a:gridCol w="1600200"/>
                <a:gridCol w="1598400"/>
              </a:tblGrid>
              <a:tr h="61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矩形 5"/>
          <p:cNvSpPr/>
          <p:nvPr/>
        </p:nvSpPr>
        <p:spPr>
          <a:xfrm>
            <a:off x="1906560" y="2781360"/>
            <a:ext cx="68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年各季度的碳酸饮料产量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单位：万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79520" y="1969920"/>
            <a:ext cx="82422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逐期增减量与报告期前一期观测值 之比，反映了观测值逐期增减变动程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2" name="文本框 7"/>
          <p:cNvSpPr/>
          <p:nvPr/>
        </p:nvSpPr>
        <p:spPr>
          <a:xfrm>
            <a:off x="468360" y="1292400"/>
            <a:ext cx="3168720" cy="60588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环比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3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1"/>
              <p:cNvSpPr txBox="1"/>
              <p:nvPr/>
            </p:nvSpPr>
            <p:spPr>
              <a:xfrm>
                <a:off x="2987640" y="2924280"/>
                <a:ext cx="2664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Rectangle 4"/>
          <p:cNvSpPr/>
          <p:nvPr/>
        </p:nvSpPr>
        <p:spPr>
          <a:xfrm>
            <a:off x="507960" y="4508640"/>
            <a:ext cx="82407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报告期累积增减量与固定基期观测值之比，反映了观测值在给定时期内增减变动程度的大小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6" name="矩形 1"/>
          <p:cNvSpPr/>
          <p:nvPr/>
        </p:nvSpPr>
        <p:spPr>
          <a:xfrm>
            <a:off x="954000" y="3917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定基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15"/>
              <p:cNvSpPr txBox="1"/>
              <p:nvPr/>
            </p:nvSpPr>
            <p:spPr>
              <a:xfrm>
                <a:off x="2987640" y="5388120"/>
                <a:ext cx="24051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6"/>
          <p:cNvSpPr/>
          <p:nvPr/>
        </p:nvSpPr>
        <p:spPr>
          <a:xfrm>
            <a:off x="1225440" y="2417760"/>
            <a:ext cx="741708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平均增减速度等于平均发展程度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19" name="文本框 1"/>
          <p:cNvSpPr/>
          <p:nvPr/>
        </p:nvSpPr>
        <p:spPr>
          <a:xfrm>
            <a:off x="2093760" y="4708440"/>
            <a:ext cx="711360" cy="53280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1580760" y="16876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平均增减速度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9"/>
              <p:cNvSpPr txBox="1"/>
              <p:nvPr/>
            </p:nvSpPr>
            <p:spPr>
              <a:xfrm>
                <a:off x="2760840" y="3141720"/>
                <a:ext cx="35766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11"/>
              <p:cNvSpPr txBox="1"/>
              <p:nvPr/>
            </p:nvSpPr>
            <p:spPr>
              <a:xfrm>
                <a:off x="3470400" y="4429080"/>
                <a:ext cx="13665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7"/>
          <p:cNvSpPr/>
          <p:nvPr/>
        </p:nvSpPr>
        <p:spPr>
          <a:xfrm>
            <a:off x="324000" y="1268280"/>
            <a:ext cx="8254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0.3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继【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0.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】，根据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粮食产量时间序列，试计算环比增减速度与定基增减速度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76200" y="2852640"/>
          <a:ext cx="8372520" cy="2686320"/>
        </p:xfrm>
        <a:graphic>
          <a:graphicData uri="http://schemas.openxmlformats.org/drawingml/2006/table">
            <a:tbl>
              <a:tblPr/>
              <a:tblGrid>
                <a:gridCol w="1602000"/>
                <a:gridCol w="1126800"/>
                <a:gridCol w="1128960"/>
                <a:gridCol w="1128600"/>
                <a:gridCol w="1128600"/>
                <a:gridCol w="1128960"/>
                <a:gridCol w="1128600"/>
              </a:tblGrid>
              <a:tr h="36828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476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增减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364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粮食产量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增减速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环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定基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矩形 5"/>
          <p:cNvSpPr/>
          <p:nvPr/>
        </p:nvSpPr>
        <p:spPr>
          <a:xfrm>
            <a:off x="395280" y="2205000"/>
            <a:ext cx="832644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利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EXCEL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函数和四则运算功能，得到如下计算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27" name="矩形 6"/>
          <p:cNvSpPr/>
          <p:nvPr/>
        </p:nvSpPr>
        <p:spPr>
          <a:xfrm>
            <a:off x="1056960" y="58053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粮食产量的平均增减速度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对象 10"/>
              <p:cNvSpPr txBox="1"/>
              <p:nvPr/>
            </p:nvSpPr>
            <p:spPr>
              <a:xfrm>
                <a:off x="4067280" y="5653080"/>
                <a:ext cx="44114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g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895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3069</m:t>
                            </m:r>
                          </m:den>
                        </m:f>
                      </m:e>
                    </m:ra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标题 1"/>
          <p:cNvSpPr/>
          <p:nvPr/>
        </p:nvSpPr>
        <p:spPr>
          <a:xfrm>
            <a:off x="34920" y="115920"/>
            <a:ext cx="654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环比增减速度与定基增减速度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1763640" y="2133720"/>
            <a:ext cx="59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三节  长期趋势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916360" y="3313080"/>
            <a:ext cx="413208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矩形 1"/>
          <p:cNvSpPr/>
          <p:nvPr/>
        </p:nvSpPr>
        <p:spPr>
          <a:xfrm>
            <a:off x="539640" y="2049480"/>
            <a:ext cx="8064720" cy="15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掌握现象活动的趋势变化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通过研究现象的发展趋势，寻找合适的趋势线，有利于对现象未来的发展进行统计预测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将测定的长期趋势从时间序列中剔除后，以便更好地显示和测定其他因素的影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262160" y="53737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移动平均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3710160" y="537372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最小平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5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三节 长期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6" name="矩形 3"/>
          <p:cNvSpPr/>
          <p:nvPr/>
        </p:nvSpPr>
        <p:spPr>
          <a:xfrm>
            <a:off x="1407600" y="465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定长期趋势的常用方法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1184400" y="14842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测定长期趋势的目的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2411280" y="1855800"/>
            <a:ext cx="6480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将相邻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观测值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逐项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算术平均，从而得出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一个派生的平均数序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以这个平均数序列来代表原时间序列的长期趋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39" name="矩形 5"/>
          <p:cNvSpPr/>
          <p:nvPr/>
        </p:nvSpPr>
        <p:spPr>
          <a:xfrm>
            <a:off x="451800" y="170028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移动平均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0" name="矩形 6"/>
          <p:cNvSpPr/>
          <p:nvPr/>
        </p:nvSpPr>
        <p:spPr>
          <a:xfrm>
            <a:off x="630360" y="3068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表述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2268360" y="2925720"/>
                <a:ext cx="531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Rectangle 2"/>
          <p:cNvSpPr/>
          <p:nvPr/>
        </p:nvSpPr>
        <p:spPr>
          <a:xfrm>
            <a:off x="324000" y="390744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移动平均法的基本原理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393840" y="4881600"/>
            <a:ext cx="80658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利用平均的思想消除原序列中的无规则波动，从而保留原序列中的长期趋势。此方法适用于没有明显周期性波动的时间序列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6"/>
          <p:cNvSpPr/>
          <p:nvPr/>
        </p:nvSpPr>
        <p:spPr>
          <a:xfrm>
            <a:off x="700200" y="16430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表述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7" name="Rectangle 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2268360" y="1643040"/>
                <a:ext cx="531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0" name="Rectangle 2"/>
          <p:cNvSpPr/>
          <p:nvPr/>
        </p:nvSpPr>
        <p:spPr>
          <a:xfrm>
            <a:off x="324000" y="278496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移动平均项数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确定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93840" y="3751200"/>
            <a:ext cx="8065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尽量选择奇数项，例如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原时间序列存在明显的周期性，应以周期的长度作为移动平均的项数，目的是利用平均数的作用在消除不规则波动的同时，也能消除周期性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4"/>
          <p:cNvSpPr/>
          <p:nvPr/>
        </p:nvSpPr>
        <p:spPr>
          <a:xfrm>
            <a:off x="266760" y="1538280"/>
            <a:ext cx="506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奇数项移动平均（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例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53" name="Group 40"/>
          <p:cNvGrpSpPr/>
          <p:nvPr/>
        </p:nvGrpSpPr>
        <p:grpSpPr>
          <a:xfrm>
            <a:off x="228600" y="2205000"/>
            <a:ext cx="8686440" cy="916200"/>
            <a:chOff x="228600" y="2205000"/>
            <a:chExt cx="8686440" cy="916200"/>
          </a:xfrm>
        </p:grpSpPr>
        <p:grpSp>
          <p:nvGrpSpPr>
            <p:cNvPr id="254" name="Group 6"/>
            <p:cNvGrpSpPr/>
            <p:nvPr/>
          </p:nvGrpSpPr>
          <p:grpSpPr>
            <a:xfrm>
              <a:off x="2209680" y="2205000"/>
              <a:ext cx="6705360" cy="916200"/>
              <a:chOff x="2209680" y="2205000"/>
              <a:chExt cx="6705360" cy="916200"/>
            </a:xfrm>
          </p:grpSpPr>
          <mc:AlternateContent>
            <mc:Choice xmlns:a14="http://schemas.microsoft.com/office/drawing/2010/main" Requires="a14">
              <p:sp>
                <p:nvSpPr>
                  <p:cNvPr id="255" name="Object 7"/>
                  <p:cNvSpPr txBox="1"/>
                  <p:nvPr/>
                </p:nvSpPr>
                <p:spPr>
                  <a:xfrm>
                    <a:off x="2209680" y="2205000"/>
                    <a:ext cx="38088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6" name="Object 8"/>
                  <p:cNvSpPr txBox="1"/>
                  <p:nvPr/>
                </p:nvSpPr>
                <p:spPr>
                  <a:xfrm>
                    <a:off x="3246120" y="2205000"/>
                    <a:ext cx="33516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7" name="Object 9"/>
                  <p:cNvSpPr txBox="1"/>
                  <p:nvPr/>
                </p:nvSpPr>
                <p:spPr>
                  <a:xfrm>
                    <a:off x="4343040" y="2205000"/>
                    <a:ext cx="30492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8" name="Object 10"/>
                  <p:cNvSpPr txBox="1"/>
                  <p:nvPr/>
                </p:nvSpPr>
                <p:spPr>
                  <a:xfrm>
                    <a:off x="5379840" y="2205000"/>
                    <a:ext cx="334800" cy="793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59" name="Object 11"/>
                  <p:cNvSpPr txBox="1"/>
                  <p:nvPr/>
                </p:nvSpPr>
                <p:spPr>
                  <a:xfrm>
                    <a:off x="6446520" y="2205000"/>
                    <a:ext cx="33516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0" name="Object 12"/>
                  <p:cNvSpPr txBox="1"/>
                  <p:nvPr/>
                </p:nvSpPr>
                <p:spPr>
                  <a:xfrm>
                    <a:off x="7513560" y="2205000"/>
                    <a:ext cx="33480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61" name="Object 13"/>
                  <p:cNvSpPr txBox="1"/>
                  <p:nvPr/>
                </p:nvSpPr>
                <p:spPr>
                  <a:xfrm>
                    <a:off x="8580240" y="2281320"/>
                    <a:ext cx="334800" cy="83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62" name="Text Box 14"/>
            <p:cNvSpPr/>
            <p:nvPr/>
          </p:nvSpPr>
          <p:spPr>
            <a:xfrm>
              <a:off x="228600" y="2394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</a:rPr>
                <a:t>原数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250920" y="34290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动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64" name="Group 16"/>
          <p:cNvGrpSpPr/>
          <p:nvPr/>
        </p:nvGrpSpPr>
        <p:grpSpPr>
          <a:xfrm>
            <a:off x="2438280" y="2852640"/>
            <a:ext cx="2057400" cy="1258920"/>
            <a:chOff x="2438280" y="2852640"/>
            <a:chExt cx="2057400" cy="1258920"/>
          </a:xfrm>
        </p:grpSpPr>
        <p:sp>
          <p:nvSpPr>
            <p:cNvPr id="265" name="AutoShape 17"/>
            <p:cNvSpPr/>
            <p:nvPr/>
          </p:nvSpPr>
          <p:spPr>
            <a:xfrm rot="16200000">
              <a:off x="3314520" y="1976040"/>
              <a:ext cx="304560" cy="205740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3640 h 2057400"/>
                <a:gd name="textAreaBottom" fmla="*/ 2003760 h 205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33"/>
                  </a:lnTo>
                  <a:cubicBezTo>
                    <a:pt x="10800" y="9833"/>
                    <a:pt x="5400" y="10733"/>
                    <a:pt x="0" y="10733"/>
                  </a:cubicBezTo>
                  <a:cubicBezTo>
                    <a:pt x="5400" y="10733"/>
                    <a:pt x="10800" y="11633"/>
                    <a:pt x="10800" y="1253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6" name="Object 18"/>
                <p:cNvSpPr txBox="1"/>
                <p:nvPr/>
              </p:nvSpPr>
              <p:spPr>
                <a:xfrm>
                  <a:off x="2895480" y="3273120"/>
                  <a:ext cx="103500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7" name="Group 19"/>
          <p:cNvGrpSpPr/>
          <p:nvPr/>
        </p:nvGrpSpPr>
        <p:grpSpPr>
          <a:xfrm>
            <a:off x="3429000" y="2924280"/>
            <a:ext cx="2209680" cy="1271520"/>
            <a:chOff x="3429000" y="2924280"/>
            <a:chExt cx="2209680" cy="1271520"/>
          </a:xfrm>
        </p:grpSpPr>
        <p:sp>
          <p:nvSpPr>
            <p:cNvPr id="268" name="AutoShape 20"/>
            <p:cNvSpPr/>
            <p:nvPr/>
          </p:nvSpPr>
          <p:spPr>
            <a:xfrm rot="16200000">
              <a:off x="4381560" y="1971720"/>
              <a:ext cx="304560" cy="220968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98"/>
                  </a:lnTo>
                  <a:cubicBezTo>
                    <a:pt x="10800" y="9698"/>
                    <a:pt x="5400" y="10598"/>
                    <a:pt x="0" y="10598"/>
                  </a:cubicBezTo>
                  <a:cubicBezTo>
                    <a:pt x="5400" y="10598"/>
                    <a:pt x="10800" y="11498"/>
                    <a:pt x="10800" y="1239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9" name="Object 21"/>
                <p:cNvSpPr txBox="1"/>
                <p:nvPr/>
              </p:nvSpPr>
              <p:spPr>
                <a:xfrm>
                  <a:off x="4038480" y="3357360"/>
                  <a:ext cx="99072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0" name="Group 22"/>
          <p:cNvGrpSpPr/>
          <p:nvPr/>
        </p:nvGrpSpPr>
        <p:grpSpPr>
          <a:xfrm>
            <a:off x="4572000" y="3052440"/>
            <a:ext cx="2133360" cy="1240200"/>
            <a:chOff x="4572000" y="3052440"/>
            <a:chExt cx="2133360" cy="1240200"/>
          </a:xfrm>
        </p:grpSpPr>
        <p:sp>
          <p:nvSpPr>
            <p:cNvPr id="271" name="AutoShape 23"/>
            <p:cNvSpPr/>
            <p:nvPr/>
          </p:nvSpPr>
          <p:spPr>
            <a:xfrm rot="16200000">
              <a:off x="5486040" y="2138040"/>
              <a:ext cx="304920" cy="213336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21"/>
                  </a:lnTo>
                  <a:cubicBezTo>
                    <a:pt x="10800" y="10221"/>
                    <a:pt x="5400" y="11121"/>
                    <a:pt x="0" y="11121"/>
                  </a:cubicBezTo>
                  <a:cubicBezTo>
                    <a:pt x="5400" y="11121"/>
                    <a:pt x="10800" y="12021"/>
                    <a:pt x="10800" y="1292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2" name="Object 24"/>
                <p:cNvSpPr txBox="1"/>
                <p:nvPr/>
              </p:nvSpPr>
              <p:spPr>
                <a:xfrm>
                  <a:off x="5181480" y="3454560"/>
                  <a:ext cx="990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3" name="Group 25"/>
          <p:cNvGrpSpPr/>
          <p:nvPr/>
        </p:nvGrpSpPr>
        <p:grpSpPr>
          <a:xfrm>
            <a:off x="5638680" y="3195360"/>
            <a:ext cx="2133720" cy="1216440"/>
            <a:chOff x="5638680" y="3195360"/>
            <a:chExt cx="2133720" cy="1216440"/>
          </a:xfrm>
        </p:grpSpPr>
        <p:sp>
          <p:nvSpPr>
            <p:cNvPr id="274" name="AutoShape 26"/>
            <p:cNvSpPr/>
            <p:nvPr/>
          </p:nvSpPr>
          <p:spPr>
            <a:xfrm rot="16200000">
              <a:off x="6553080" y="2280960"/>
              <a:ext cx="304920" cy="21337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337"/>
                  </a:lnTo>
                  <a:cubicBezTo>
                    <a:pt x="10800" y="10237"/>
                    <a:pt x="5400" y="11137"/>
                    <a:pt x="0" y="11137"/>
                  </a:cubicBezTo>
                  <a:cubicBezTo>
                    <a:pt x="5400" y="11137"/>
                    <a:pt x="10800" y="12037"/>
                    <a:pt x="10800" y="1293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5" name="Object 27"/>
                <p:cNvSpPr txBox="1"/>
                <p:nvPr/>
              </p:nvSpPr>
              <p:spPr>
                <a:xfrm>
                  <a:off x="6324480" y="3573720"/>
                  <a:ext cx="99072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6" name="Group 28"/>
          <p:cNvGrpSpPr/>
          <p:nvPr/>
        </p:nvGrpSpPr>
        <p:grpSpPr>
          <a:xfrm>
            <a:off x="6705720" y="3340080"/>
            <a:ext cx="2133360" cy="1240920"/>
            <a:chOff x="6705720" y="3340080"/>
            <a:chExt cx="2133360" cy="1240920"/>
          </a:xfrm>
        </p:grpSpPr>
        <p:sp>
          <p:nvSpPr>
            <p:cNvPr id="277" name="AutoShape 29"/>
            <p:cNvSpPr/>
            <p:nvPr/>
          </p:nvSpPr>
          <p:spPr>
            <a:xfrm rot="16200000">
              <a:off x="7620120" y="2425680"/>
              <a:ext cx="304560" cy="21333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67"/>
                  </a:lnTo>
                  <a:cubicBezTo>
                    <a:pt x="10800" y="9867"/>
                    <a:pt x="5400" y="10767"/>
                    <a:pt x="0" y="10767"/>
                  </a:cubicBezTo>
                  <a:cubicBezTo>
                    <a:pt x="5400" y="10767"/>
                    <a:pt x="10800" y="11667"/>
                    <a:pt x="10800" y="12567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30"/>
                <p:cNvSpPr txBox="1"/>
                <p:nvPr/>
              </p:nvSpPr>
              <p:spPr>
                <a:xfrm>
                  <a:off x="7397640" y="3742920"/>
                  <a:ext cx="99036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7</m:t>
                              </m:r>
                            </m:sub>
                          </m:sSub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Text Box 32"/>
          <p:cNvSpPr/>
          <p:nvPr/>
        </p:nvSpPr>
        <p:spPr>
          <a:xfrm>
            <a:off x="449280" y="4643280"/>
            <a:ext cx="13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新数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80" name="Group 38"/>
          <p:cNvGrpSpPr/>
          <p:nvPr/>
        </p:nvGrpSpPr>
        <p:grpSpPr>
          <a:xfrm>
            <a:off x="3124080" y="4608360"/>
            <a:ext cx="4953240" cy="722520"/>
            <a:chOff x="3124080" y="4608360"/>
            <a:chExt cx="4953240" cy="722520"/>
          </a:xfrm>
        </p:grpSpPr>
        <mc:AlternateContent>
          <mc:Choice xmlns:a14="http://schemas.microsoft.com/office/drawing/2010/main" Requires="a14">
            <p:sp>
              <p:nvSpPr>
                <p:cNvPr id="281" name="Object 33"/>
                <p:cNvSpPr txBox="1"/>
                <p:nvPr/>
              </p:nvSpPr>
              <p:spPr>
                <a:xfrm>
                  <a:off x="3124080" y="460836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Object 34"/>
                <p:cNvSpPr txBox="1"/>
                <p:nvPr/>
              </p:nvSpPr>
              <p:spPr>
                <a:xfrm>
                  <a:off x="4219560" y="4608360"/>
                  <a:ext cx="62856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3" name="Object 35"/>
                <p:cNvSpPr txBox="1"/>
                <p:nvPr/>
              </p:nvSpPr>
              <p:spPr>
                <a:xfrm>
                  <a:off x="5334120" y="462600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4" name="Object 36"/>
                <p:cNvSpPr txBox="1"/>
                <p:nvPr/>
              </p:nvSpPr>
              <p:spPr>
                <a:xfrm>
                  <a:off x="6400800" y="4608360"/>
                  <a:ext cx="685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5" name="Object 37"/>
                <p:cNvSpPr txBox="1"/>
                <p:nvPr/>
              </p:nvSpPr>
              <p:spPr>
                <a:xfrm>
                  <a:off x="7391520" y="4608360"/>
                  <a:ext cx="68580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6" name="Rectangle 3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43"/>
          <p:cNvSpPr/>
          <p:nvPr/>
        </p:nvSpPr>
        <p:spPr>
          <a:xfrm>
            <a:off x="374760" y="3846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动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8" name="Text Box 49"/>
          <p:cNvSpPr/>
          <p:nvPr/>
        </p:nvSpPr>
        <p:spPr>
          <a:xfrm>
            <a:off x="395280" y="45655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移正平均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289" name="Text Box 50"/>
          <p:cNvSpPr/>
          <p:nvPr/>
        </p:nvSpPr>
        <p:spPr>
          <a:xfrm>
            <a:off x="453960" y="5213520"/>
            <a:ext cx="14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宋体"/>
              </a:rPr>
              <a:t>新数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grpSp>
        <p:nvGrpSpPr>
          <p:cNvPr id="290" name="Group 117"/>
          <p:cNvGrpSpPr/>
          <p:nvPr/>
        </p:nvGrpSpPr>
        <p:grpSpPr>
          <a:xfrm>
            <a:off x="468360" y="2276640"/>
            <a:ext cx="8465760" cy="915480"/>
            <a:chOff x="468360" y="2276640"/>
            <a:chExt cx="8465760" cy="915480"/>
          </a:xfrm>
        </p:grpSpPr>
        <p:sp>
          <p:nvSpPr>
            <p:cNvPr id="291" name="Text Box 34"/>
            <p:cNvSpPr/>
            <p:nvPr/>
          </p:nvSpPr>
          <p:spPr>
            <a:xfrm>
              <a:off x="468360" y="2548080"/>
              <a:ext cx="13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cc"/>
                  </a:solidFill>
                  <a:latin typeface="宋体"/>
                </a:rPr>
                <a:t>原数列</a:t>
              </a: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p:grpSp>
          <p:nvGrpSpPr>
            <p:cNvPr id="292" name="Group 82"/>
            <p:cNvGrpSpPr/>
            <p:nvPr/>
          </p:nvGrpSpPr>
          <p:grpSpPr>
            <a:xfrm>
              <a:off x="2228760" y="2276640"/>
              <a:ext cx="6705360" cy="915480"/>
              <a:chOff x="2228760" y="2276640"/>
              <a:chExt cx="6705360" cy="915480"/>
            </a:xfrm>
          </p:grpSpPr>
          <mc:AlternateContent>
            <mc:Choice xmlns:a14="http://schemas.microsoft.com/office/drawing/2010/main" Requires="a14">
              <p:sp>
                <p:nvSpPr>
                  <p:cNvPr id="293" name="Object 83"/>
                  <p:cNvSpPr txBox="1"/>
                  <p:nvPr/>
                </p:nvSpPr>
                <p:spPr>
                  <a:xfrm>
                    <a:off x="2228760" y="2276640"/>
                    <a:ext cx="38088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4" name="Object 84"/>
                  <p:cNvSpPr txBox="1"/>
                  <p:nvPr/>
                </p:nvSpPr>
                <p:spPr>
                  <a:xfrm>
                    <a:off x="3265200" y="2276640"/>
                    <a:ext cx="33516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5" name="Object 85"/>
                  <p:cNvSpPr txBox="1"/>
                  <p:nvPr/>
                </p:nvSpPr>
                <p:spPr>
                  <a:xfrm>
                    <a:off x="4362120" y="2276640"/>
                    <a:ext cx="30492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6" name="Object 86"/>
                  <p:cNvSpPr txBox="1"/>
                  <p:nvPr/>
                </p:nvSpPr>
                <p:spPr>
                  <a:xfrm>
                    <a:off x="5398920" y="2276640"/>
                    <a:ext cx="334800" cy="79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7" name="Object 87"/>
                  <p:cNvSpPr txBox="1"/>
                  <p:nvPr/>
                </p:nvSpPr>
                <p:spPr>
                  <a:xfrm>
                    <a:off x="6465600" y="2276640"/>
                    <a:ext cx="33516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8" name="Object 88"/>
                  <p:cNvSpPr txBox="1"/>
                  <p:nvPr/>
                </p:nvSpPr>
                <p:spPr>
                  <a:xfrm>
                    <a:off x="7532640" y="2276640"/>
                    <a:ext cx="33480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99" name="Object 89"/>
                  <p:cNvSpPr txBox="1"/>
                  <p:nvPr/>
                </p:nvSpPr>
                <p:spPr>
                  <a:xfrm>
                    <a:off x="8599320" y="2352600"/>
                    <a:ext cx="334800" cy="83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00" name="Group 106"/>
          <p:cNvGrpSpPr/>
          <p:nvPr/>
        </p:nvGrpSpPr>
        <p:grpSpPr>
          <a:xfrm>
            <a:off x="2362320" y="2995200"/>
            <a:ext cx="3200400" cy="1729080"/>
            <a:chOff x="2362320" y="2995200"/>
            <a:chExt cx="3200400" cy="1729080"/>
          </a:xfrm>
        </p:grpSpPr>
        <p:sp>
          <p:nvSpPr>
            <p:cNvPr id="301" name="AutoShape 44"/>
            <p:cNvSpPr/>
            <p:nvPr/>
          </p:nvSpPr>
          <p:spPr>
            <a:xfrm rot="16200000">
              <a:off x="3809160" y="1548000"/>
              <a:ext cx="306360" cy="320040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86"/>
                  </a:lnTo>
                  <a:cubicBezTo>
                    <a:pt x="10800" y="9886"/>
                    <a:pt x="5400" y="10786"/>
                    <a:pt x="0" y="10786"/>
                  </a:cubicBezTo>
                  <a:cubicBezTo>
                    <a:pt x="5400" y="10786"/>
                    <a:pt x="10800" y="11686"/>
                    <a:pt x="10800" y="1258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90"/>
                <p:cNvSpPr txBox="1"/>
                <p:nvPr/>
              </p:nvSpPr>
              <p:spPr>
                <a:xfrm>
                  <a:off x="3276720" y="3885840"/>
                  <a:ext cx="107604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3" name="Group 107"/>
          <p:cNvGrpSpPr/>
          <p:nvPr/>
        </p:nvGrpSpPr>
        <p:grpSpPr>
          <a:xfrm>
            <a:off x="3594240" y="3139920"/>
            <a:ext cx="2922480" cy="1555560"/>
            <a:chOff x="3594240" y="3139920"/>
            <a:chExt cx="2922480" cy="1555560"/>
          </a:xfrm>
        </p:grpSpPr>
        <p:sp>
          <p:nvSpPr>
            <p:cNvPr id="304" name="AutoShape 45"/>
            <p:cNvSpPr/>
            <p:nvPr/>
          </p:nvSpPr>
          <p:spPr>
            <a:xfrm rot="16200000">
              <a:off x="4907880" y="1826280"/>
              <a:ext cx="295200" cy="2922480"/>
            </a:xfrm>
            <a:custGeom>
              <a:avLst/>
              <a:gdLst>
                <a:gd name="textAreaLeft" fmla="*/ 188640 w 295200"/>
                <a:gd name="textAreaRight" fmla="*/ 295200 w 295200"/>
                <a:gd name="textAreaTop" fmla="*/ 75960 h 2922480"/>
                <a:gd name="textAreaBottom" fmla="*/ 2846520 h 29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5" name="Object 91"/>
                <p:cNvSpPr txBox="1"/>
                <p:nvPr/>
              </p:nvSpPr>
              <p:spPr>
                <a:xfrm>
                  <a:off x="4395960" y="3861000"/>
                  <a:ext cx="1210320" cy="83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6" name="Group 113"/>
          <p:cNvGrpSpPr/>
          <p:nvPr/>
        </p:nvGrpSpPr>
        <p:grpSpPr>
          <a:xfrm>
            <a:off x="4540320" y="3341160"/>
            <a:ext cx="3200400" cy="1357560"/>
            <a:chOff x="4540320" y="3341160"/>
            <a:chExt cx="3200400" cy="1357560"/>
          </a:xfrm>
        </p:grpSpPr>
        <p:sp>
          <p:nvSpPr>
            <p:cNvPr id="307" name="AutoShape 46"/>
            <p:cNvSpPr/>
            <p:nvPr/>
          </p:nvSpPr>
          <p:spPr>
            <a:xfrm rot="16200000">
              <a:off x="6025320" y="1855800"/>
              <a:ext cx="230040" cy="320040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Object 92"/>
                <p:cNvSpPr txBox="1"/>
                <p:nvPr/>
              </p:nvSpPr>
              <p:spPr>
                <a:xfrm>
                  <a:off x="5661360" y="3860640"/>
                  <a:ext cx="10778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6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9" name="Group 109"/>
          <p:cNvGrpSpPr/>
          <p:nvPr/>
        </p:nvGrpSpPr>
        <p:grpSpPr>
          <a:xfrm>
            <a:off x="5562720" y="3499920"/>
            <a:ext cx="3200400" cy="1198800"/>
            <a:chOff x="5562720" y="3499920"/>
            <a:chExt cx="3200400" cy="1198800"/>
          </a:xfrm>
        </p:grpSpPr>
        <p:sp>
          <p:nvSpPr>
            <p:cNvPr id="310" name="AutoShape 47"/>
            <p:cNvSpPr/>
            <p:nvPr/>
          </p:nvSpPr>
          <p:spPr>
            <a:xfrm rot="16200000">
              <a:off x="7047720" y="2014560"/>
              <a:ext cx="230040" cy="3200400"/>
            </a:xfrm>
            <a:custGeom>
              <a:avLst/>
              <a:gdLst>
                <a:gd name="textAreaLeft" fmla="*/ 146880 w 230040"/>
                <a:gd name="textAreaRight" fmla="*/ 230400 w 230040"/>
                <a:gd name="textAreaTop" fmla="*/ 83160 h 3200400"/>
                <a:gd name="textAreaBottom" fmla="*/ 311724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Object 93"/>
                <p:cNvSpPr txBox="1"/>
                <p:nvPr/>
              </p:nvSpPr>
              <p:spPr>
                <a:xfrm>
                  <a:off x="6816600" y="3860640"/>
                  <a:ext cx="1119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⋯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7</m:t>
                              </m:r>
                            </m:sub>
                          </m:sSub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2" name="Group 110"/>
          <p:cNvGrpSpPr/>
          <p:nvPr/>
        </p:nvGrpSpPr>
        <p:grpSpPr>
          <a:xfrm>
            <a:off x="3635280" y="4766760"/>
            <a:ext cx="1317600" cy="1038600"/>
            <a:chOff x="3635280" y="4766760"/>
            <a:chExt cx="1317600" cy="1038600"/>
          </a:xfrm>
        </p:grpSpPr>
        <p:sp>
          <p:nvSpPr>
            <p:cNvPr id="313" name="AutoShape 51"/>
            <p:cNvSpPr/>
            <p:nvPr/>
          </p:nvSpPr>
          <p:spPr>
            <a:xfrm rot="16200000">
              <a:off x="4179600" y="4222080"/>
              <a:ext cx="228600" cy="13176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1680 h 1317600"/>
                <a:gd name="textAreaBottom" fmla="*/ 1285920 h 131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33"/>
                    <a:pt x="10800" y="1666"/>
                  </a:cubicBezTo>
                  <a:lnTo>
                    <a:pt x="10800" y="12283"/>
                  </a:lnTo>
                  <a:cubicBezTo>
                    <a:pt x="10800" y="13116"/>
                    <a:pt x="5400" y="13949"/>
                    <a:pt x="0" y="13949"/>
                  </a:cubicBezTo>
                  <a:cubicBezTo>
                    <a:pt x="5400" y="13949"/>
                    <a:pt x="10800" y="14782"/>
                    <a:pt x="10800" y="15615"/>
                  </a:cubicBezTo>
                  <a:lnTo>
                    <a:pt x="10800" y="19934"/>
                  </a:lnTo>
                  <a:cubicBezTo>
                    <a:pt x="10800" y="20767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4" name="Object 94"/>
                <p:cNvSpPr txBox="1"/>
                <p:nvPr/>
              </p:nvSpPr>
              <p:spPr>
                <a:xfrm>
                  <a:off x="4168440" y="5084640"/>
                  <a:ext cx="68580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5" name="Group 111"/>
          <p:cNvGrpSpPr/>
          <p:nvPr/>
        </p:nvGrpSpPr>
        <p:grpSpPr>
          <a:xfrm>
            <a:off x="5029200" y="4797000"/>
            <a:ext cx="1143000" cy="1021320"/>
            <a:chOff x="5029200" y="4797000"/>
            <a:chExt cx="1143000" cy="1021320"/>
          </a:xfrm>
        </p:grpSpPr>
        <p:sp>
          <p:nvSpPr>
            <p:cNvPr id="316" name="AutoShape 52"/>
            <p:cNvSpPr/>
            <p:nvPr/>
          </p:nvSpPr>
          <p:spPr>
            <a:xfrm rot="16200000">
              <a:off x="5486400" y="4339800"/>
              <a:ext cx="228600" cy="11430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7" name="Object 95"/>
                <p:cNvSpPr txBox="1"/>
                <p:nvPr/>
              </p:nvSpPr>
              <p:spPr>
                <a:xfrm>
                  <a:off x="5257800" y="5132520"/>
                  <a:ext cx="68580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4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8" name="Group 112"/>
          <p:cNvGrpSpPr/>
          <p:nvPr/>
        </p:nvGrpSpPr>
        <p:grpSpPr>
          <a:xfrm>
            <a:off x="6248520" y="4797000"/>
            <a:ext cx="1294920" cy="1021320"/>
            <a:chOff x="6248520" y="4797000"/>
            <a:chExt cx="1294920" cy="1021320"/>
          </a:xfrm>
        </p:grpSpPr>
        <p:sp>
          <p:nvSpPr>
            <p:cNvPr id="319" name="AutoShape 53"/>
            <p:cNvSpPr/>
            <p:nvPr/>
          </p:nvSpPr>
          <p:spPr>
            <a:xfrm rot="16200000">
              <a:off x="6781680" y="4263840"/>
              <a:ext cx="228600" cy="12949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33480 h 1294920"/>
                <a:gd name="textAreaBottom" fmla="*/ 1261440 h 129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5249"/>
                  </a:lnTo>
                  <a:cubicBezTo>
                    <a:pt x="10800" y="6149"/>
                    <a:pt x="5400" y="7049"/>
                    <a:pt x="0" y="7049"/>
                  </a:cubicBezTo>
                  <a:cubicBezTo>
                    <a:pt x="5400" y="7049"/>
                    <a:pt x="10800" y="7949"/>
                    <a:pt x="10800" y="8849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669900"/>
                </a:solidFill>
                <a:latin typeface="Lucida Sans Unicode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6"/>
                <p:cNvSpPr txBox="1"/>
                <p:nvPr/>
              </p:nvSpPr>
              <p:spPr>
                <a:xfrm>
                  <a:off x="6334560" y="5095800"/>
                  <a:ext cx="776880" cy="722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5</m:t>
                              </m:r>
                            </m:sub>
                          </m:sSub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1" name="Text Box 115"/>
          <p:cNvSpPr/>
          <p:nvPr/>
        </p:nvSpPr>
        <p:spPr>
          <a:xfrm>
            <a:off x="355680" y="1595520"/>
            <a:ext cx="51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偶数项移动平均（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=4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为例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3" name=""/>
          <p:cNvGraphicFramePr/>
          <p:nvPr/>
        </p:nvGraphicFramePr>
        <p:xfrm>
          <a:off x="330120" y="2133720"/>
          <a:ext cx="8489880" cy="4136760"/>
        </p:xfrm>
        <a:graphic>
          <a:graphicData uri="http://schemas.openxmlformats.org/drawingml/2006/table">
            <a:tbl>
              <a:tblPr/>
              <a:tblGrid>
                <a:gridCol w="1116000"/>
                <a:gridCol w="1524240"/>
                <a:gridCol w="1460520"/>
                <a:gridCol w="1276200"/>
                <a:gridCol w="1649520"/>
                <a:gridCol w="1463400"/>
              </a:tblGrid>
              <a:tr h="46980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3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2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93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8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204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.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223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3.3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.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1.9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4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9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.8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1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7.0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.7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389.4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0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74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.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48600" marR="486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矩形 9"/>
          <p:cNvSpPr/>
          <p:nvPr/>
        </p:nvSpPr>
        <p:spPr>
          <a:xfrm>
            <a:off x="330120" y="1238400"/>
            <a:ext cx="84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【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引例中碳酸饮料产量时间序列，利用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项移动平均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测定长期趋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5" name="右大括号 11"/>
          <p:cNvSpPr/>
          <p:nvPr/>
        </p:nvSpPr>
        <p:spPr>
          <a:xfrm>
            <a:off x="2556000" y="2708280"/>
            <a:ext cx="430200" cy="1138320"/>
          </a:xfrm>
          <a:custGeom>
            <a:avLst/>
            <a:gdLst>
              <a:gd name="textAreaLeft" fmla="*/ 0 w 430200"/>
              <a:gd name="textAreaRight" fmla="*/ 155160 w 430200"/>
              <a:gd name="textAreaTop" fmla="*/ 14760 h 1138320"/>
              <a:gd name="textAreaBottom" fmla="*/ 1123560 h 11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6"/>
                  <a:pt x="10800" y="912"/>
                </a:cubicBezTo>
                <a:lnTo>
                  <a:pt x="10800" y="9888"/>
                </a:lnTo>
                <a:cubicBezTo>
                  <a:pt x="10800" y="10344"/>
                  <a:pt x="16200" y="10800"/>
                  <a:pt x="21600" y="10800"/>
                </a:cubicBezTo>
                <a:cubicBezTo>
                  <a:pt x="16200" y="10800"/>
                  <a:pt x="10800" y="11256"/>
                  <a:pt x="10800" y="11712"/>
                </a:cubicBezTo>
                <a:lnTo>
                  <a:pt x="10800" y="20688"/>
                </a:lnTo>
                <a:cubicBezTo>
                  <a:pt x="10800" y="2114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6" name="右大括号 12"/>
          <p:cNvSpPr/>
          <p:nvPr/>
        </p:nvSpPr>
        <p:spPr>
          <a:xfrm>
            <a:off x="2627280" y="2997360"/>
            <a:ext cx="430200" cy="1079280"/>
          </a:xfrm>
          <a:custGeom>
            <a:avLst/>
            <a:gdLst>
              <a:gd name="textAreaLeft" fmla="*/ 0 w 430200"/>
              <a:gd name="textAreaRight" fmla="*/ 155160 w 430200"/>
              <a:gd name="textAreaTop" fmla="*/ 14760 h 1079280"/>
              <a:gd name="textAreaBottom" fmla="*/ 106452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7"/>
                  <a:pt x="10800" y="954"/>
                </a:cubicBezTo>
                <a:lnTo>
                  <a:pt x="10800" y="9631"/>
                </a:lnTo>
                <a:cubicBezTo>
                  <a:pt x="10800" y="10108"/>
                  <a:pt x="16200" y="10585"/>
                  <a:pt x="21600" y="10585"/>
                </a:cubicBezTo>
                <a:cubicBezTo>
                  <a:pt x="16200" y="10585"/>
                  <a:pt x="10800" y="11062"/>
                  <a:pt x="10800" y="11539"/>
                </a:cubicBezTo>
                <a:lnTo>
                  <a:pt x="10800" y="20646"/>
                </a:lnTo>
                <a:cubicBezTo>
                  <a:pt x="10800" y="2112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7" name="右大括号 13"/>
          <p:cNvSpPr/>
          <p:nvPr/>
        </p:nvSpPr>
        <p:spPr>
          <a:xfrm>
            <a:off x="2700360" y="3284640"/>
            <a:ext cx="501480" cy="1079280"/>
          </a:xfrm>
          <a:custGeom>
            <a:avLst/>
            <a:gdLst>
              <a:gd name="textAreaLeft" fmla="*/ 0 w 501480"/>
              <a:gd name="textAreaRight" fmla="*/ 181080 w 501480"/>
              <a:gd name="textAreaTop" fmla="*/ 15840 h 1079280"/>
              <a:gd name="textAreaBottom" fmla="*/ 10634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11"/>
                  <a:pt x="10800" y="1021"/>
                </a:cubicBezTo>
                <a:lnTo>
                  <a:pt x="10800" y="9325"/>
                </a:lnTo>
                <a:cubicBezTo>
                  <a:pt x="10800" y="9836"/>
                  <a:pt x="16200" y="10346"/>
                  <a:pt x="21600" y="10346"/>
                </a:cubicBezTo>
                <a:cubicBezTo>
                  <a:pt x="16200" y="10346"/>
                  <a:pt x="10800" y="10857"/>
                  <a:pt x="10800" y="11367"/>
                </a:cubicBezTo>
                <a:lnTo>
                  <a:pt x="10800" y="20579"/>
                </a:lnTo>
                <a:cubicBezTo>
                  <a:pt x="10800" y="2109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8" name="右大括号 14"/>
          <p:cNvSpPr/>
          <p:nvPr/>
        </p:nvSpPr>
        <p:spPr>
          <a:xfrm>
            <a:off x="7093080" y="5084640"/>
            <a:ext cx="414360" cy="1081080"/>
          </a:xfrm>
          <a:custGeom>
            <a:avLst/>
            <a:gdLst>
              <a:gd name="textAreaLeft" fmla="*/ 0 w 414360"/>
              <a:gd name="textAreaRight" fmla="*/ 149760 w 414360"/>
              <a:gd name="textAreaTop" fmla="*/ 14040 h 1081080"/>
              <a:gd name="textAreaBottom" fmla="*/ 1067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4"/>
                  <a:pt x="10800" y="907"/>
                </a:cubicBezTo>
                <a:lnTo>
                  <a:pt x="10800" y="10120"/>
                </a:lnTo>
                <a:cubicBezTo>
                  <a:pt x="10800" y="10574"/>
                  <a:pt x="16200" y="11027"/>
                  <a:pt x="21600" y="11027"/>
                </a:cubicBezTo>
                <a:cubicBezTo>
                  <a:pt x="16200" y="11027"/>
                  <a:pt x="10800" y="11481"/>
                  <a:pt x="10800" y="11934"/>
                </a:cubicBezTo>
                <a:lnTo>
                  <a:pt x="10800" y="20693"/>
                </a:lnTo>
                <a:cubicBezTo>
                  <a:pt x="10800" y="2114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29" name="右大括号 17"/>
          <p:cNvSpPr/>
          <p:nvPr/>
        </p:nvSpPr>
        <p:spPr>
          <a:xfrm>
            <a:off x="7020000" y="4799160"/>
            <a:ext cx="487440" cy="1150920"/>
          </a:xfrm>
          <a:custGeom>
            <a:avLst/>
            <a:gdLst>
              <a:gd name="textAreaLeft" fmla="*/ 0 w 487440"/>
              <a:gd name="textAreaRight" fmla="*/ 176040 w 487440"/>
              <a:gd name="textAreaTop" fmla="*/ 15480 h 1150920"/>
              <a:gd name="textAreaBottom" fmla="*/ 113544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10090"/>
                </a:lnTo>
                <a:cubicBezTo>
                  <a:pt x="10800" y="10559"/>
                  <a:pt x="16200" y="11027"/>
                  <a:pt x="21600" y="11027"/>
                </a:cubicBezTo>
                <a:cubicBezTo>
                  <a:pt x="16200" y="11027"/>
                  <a:pt x="10800" y="11496"/>
                  <a:pt x="10800" y="11964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01" name="图片 101" descr=""/>
          <p:cNvPicPr/>
          <p:nvPr/>
        </p:nvPicPr>
        <p:blipFill>
          <a:blip r:embed="rId1"/>
          <a:srcRect l="2110" t="0" r="-7" b="4609"/>
          <a:stretch/>
        </p:blipFill>
        <p:spPr>
          <a:xfrm>
            <a:off x="563400" y="1596960"/>
            <a:ext cx="7608960" cy="399564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1187280" y="5592600"/>
            <a:ext cx="6985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（万吨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468360" y="161460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基于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EXCEL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的实现过程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2" name="矩形 7"/>
          <p:cNvSpPr/>
          <p:nvPr/>
        </p:nvSpPr>
        <p:spPr>
          <a:xfrm>
            <a:off x="1037520" y="2254320"/>
            <a:ext cx="566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利用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xc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的函数功能实现（“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VERAGEA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3" name="矩形 8"/>
          <p:cNvSpPr/>
          <p:nvPr/>
        </p:nvSpPr>
        <p:spPr>
          <a:xfrm>
            <a:off x="619200" y="2997360"/>
            <a:ext cx="812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利用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Excel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数据分析功能实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菜单栏中依次选择：数据→数据分析→移动平均→确定，再点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输入区域，间隔选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点击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选择输出区域，选择图表输出，最后对结果进行调整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34" name="图片 86" descr=""/>
          <p:cNvPicPr/>
          <p:nvPr/>
        </p:nvPicPr>
        <p:blipFill>
          <a:blip r:embed="rId1"/>
          <a:srcRect l="67529" t="18596" r="27006" b="72987"/>
          <a:stretch/>
        </p:blipFill>
        <p:spPr>
          <a:xfrm>
            <a:off x="2567160" y="4303800"/>
            <a:ext cx="349200" cy="34920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85" descr=""/>
          <p:cNvPicPr/>
          <p:nvPr/>
        </p:nvPicPr>
        <p:blipFill>
          <a:blip r:embed="rId2"/>
          <a:srcRect l="67529" t="18596" r="27006" b="72987"/>
          <a:stretch/>
        </p:blipFill>
        <p:spPr>
          <a:xfrm>
            <a:off x="7367760" y="42926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9"/>
          <p:cNvSpPr/>
          <p:nvPr/>
        </p:nvSpPr>
        <p:spPr>
          <a:xfrm>
            <a:off x="108000" y="22392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图片 82" descr=""/>
          <p:cNvPicPr/>
          <p:nvPr/>
        </p:nvPicPr>
        <p:blipFill>
          <a:blip r:embed="rId1"/>
          <a:stretch/>
        </p:blipFill>
        <p:spPr>
          <a:xfrm>
            <a:off x="1403280" y="1623960"/>
            <a:ext cx="6480360" cy="3676680"/>
          </a:xfrm>
          <a:prstGeom prst="rect">
            <a:avLst/>
          </a:prstGeom>
          <a:ln w="0">
            <a:noFill/>
          </a:ln>
        </p:spPr>
      </p:pic>
      <p:sp>
        <p:nvSpPr>
          <p:cNvPr id="338" name="矩形 3"/>
          <p:cNvSpPr/>
          <p:nvPr/>
        </p:nvSpPr>
        <p:spPr>
          <a:xfrm>
            <a:off x="2268360" y="130320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5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0" name="Text Box 77"/>
          <p:cNvSpPr/>
          <p:nvPr/>
        </p:nvSpPr>
        <p:spPr>
          <a:xfrm>
            <a:off x="2195640" y="3284640"/>
            <a:ext cx="1315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Calibri"/>
              </a:rPr>
              <a:t>长期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41" name="AutoShape 78"/>
          <p:cNvCxnSpPr/>
          <p:nvPr/>
        </p:nvCxnSpPr>
        <p:spPr>
          <a:xfrm>
            <a:off x="2788920" y="3637080"/>
            <a:ext cx="1080" cy="38160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42" name="矩形 9"/>
          <p:cNvSpPr/>
          <p:nvPr/>
        </p:nvSpPr>
        <p:spPr>
          <a:xfrm>
            <a:off x="539640" y="544500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分析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于五项移动平均结果，并没有考虑到原序列中存在的季节周期性，应根据周期的长短，进行四项移动平均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"/>
          <p:cNvGraphicFramePr/>
          <p:nvPr/>
        </p:nvGraphicFramePr>
        <p:xfrm>
          <a:off x="468360" y="2000160"/>
          <a:ext cx="8137440" cy="4165560"/>
        </p:xfrm>
        <a:graphic>
          <a:graphicData uri="http://schemas.openxmlformats.org/drawingml/2006/table">
            <a:tbl>
              <a:tblPr/>
              <a:tblGrid>
                <a:gridCol w="941400"/>
                <a:gridCol w="1117440"/>
                <a:gridCol w="1013040"/>
                <a:gridCol w="1012680"/>
                <a:gridCol w="959040"/>
                <a:gridCol w="1066680"/>
                <a:gridCol w="1014480"/>
                <a:gridCol w="1012680"/>
              </a:tblGrid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产量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产量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7.9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1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1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Calibri"/>
                        </a:rPr>
                        <a:t>199.3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Calibri"/>
                        </a:rPr>
                        <a:t>195.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2.9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.4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4.3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6.2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4.6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.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9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.9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8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3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3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.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.0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.0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7.8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.7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.4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8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.6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2.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1.0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4.6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4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9.5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3.8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.4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9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7.6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.5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.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.7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.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7960" marR="579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右大括号 6"/>
          <p:cNvSpPr/>
          <p:nvPr/>
        </p:nvSpPr>
        <p:spPr>
          <a:xfrm>
            <a:off x="2251080" y="2619360"/>
            <a:ext cx="276120" cy="880920"/>
          </a:xfrm>
          <a:custGeom>
            <a:avLst/>
            <a:gdLst>
              <a:gd name="textAreaLeft" fmla="*/ 0 w 276120"/>
              <a:gd name="textAreaRight" fmla="*/ 99720 w 276120"/>
              <a:gd name="textAreaTop" fmla="*/ 10440 h 880920"/>
              <a:gd name="textAreaBottom" fmla="*/ 870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16"/>
                  <a:pt x="10800" y="831"/>
                </a:cubicBezTo>
                <a:lnTo>
                  <a:pt x="10800" y="6407"/>
                </a:lnTo>
                <a:cubicBezTo>
                  <a:pt x="10800" y="6823"/>
                  <a:pt x="16200" y="7238"/>
                  <a:pt x="21600" y="7238"/>
                </a:cubicBezTo>
                <a:cubicBezTo>
                  <a:pt x="16200" y="7238"/>
                  <a:pt x="10800" y="7654"/>
                  <a:pt x="10800" y="8069"/>
                </a:cubicBezTo>
                <a:lnTo>
                  <a:pt x="10800" y="20769"/>
                </a:lnTo>
                <a:cubicBezTo>
                  <a:pt x="10800" y="2118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5" name="右大括号 15"/>
          <p:cNvSpPr/>
          <p:nvPr/>
        </p:nvSpPr>
        <p:spPr>
          <a:xfrm>
            <a:off x="2268360" y="2852640"/>
            <a:ext cx="258840" cy="884160"/>
          </a:xfrm>
          <a:custGeom>
            <a:avLst/>
            <a:gdLst>
              <a:gd name="textAreaLeft" fmla="*/ 0 w 258840"/>
              <a:gd name="textAreaRight" fmla="*/ 93600 w 258840"/>
              <a:gd name="textAreaTop" fmla="*/ 11160 h 884160"/>
              <a:gd name="textAreaBottom" fmla="*/ 873000 h 88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41"/>
                  <a:pt x="10800" y="881"/>
                </a:cubicBezTo>
                <a:lnTo>
                  <a:pt x="10800" y="6357"/>
                </a:lnTo>
                <a:cubicBezTo>
                  <a:pt x="10800" y="6798"/>
                  <a:pt x="16200" y="7238"/>
                  <a:pt x="21600" y="7238"/>
                </a:cubicBezTo>
                <a:cubicBezTo>
                  <a:pt x="16200" y="7238"/>
                  <a:pt x="10800" y="7679"/>
                  <a:pt x="10800" y="8119"/>
                </a:cubicBezTo>
                <a:lnTo>
                  <a:pt x="10800" y="20719"/>
                </a:lnTo>
                <a:cubicBezTo>
                  <a:pt x="10800" y="2116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6" name="右大括号 16"/>
          <p:cNvSpPr/>
          <p:nvPr/>
        </p:nvSpPr>
        <p:spPr>
          <a:xfrm>
            <a:off x="3327480" y="2908440"/>
            <a:ext cx="236520" cy="304560"/>
          </a:xfrm>
          <a:custGeom>
            <a:avLst/>
            <a:gdLst>
              <a:gd name="textAreaLeft" fmla="*/ 0 w 236520"/>
              <a:gd name="textAreaRight" fmla="*/ 85320 w 236520"/>
              <a:gd name="textAreaTop" fmla="*/ 9000 h 304560"/>
              <a:gd name="textAreaBottom" fmla="*/ 2955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9"/>
                  <a:pt x="10800" y="2058"/>
                </a:cubicBezTo>
                <a:lnTo>
                  <a:pt x="10800" y="9857"/>
                </a:lnTo>
                <a:cubicBezTo>
                  <a:pt x="10800" y="10886"/>
                  <a:pt x="16200" y="11915"/>
                  <a:pt x="21600" y="11915"/>
                </a:cubicBezTo>
                <a:cubicBezTo>
                  <a:pt x="16200" y="11915"/>
                  <a:pt x="10800" y="12944"/>
                  <a:pt x="10800" y="13973"/>
                </a:cubicBezTo>
                <a:lnTo>
                  <a:pt x="10800" y="19542"/>
                </a:lnTo>
                <a:cubicBezTo>
                  <a:pt x="10800" y="2057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7" name="Rectangle 138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48" name="Rectangle 139"/>
          <p:cNvSpPr/>
          <p:nvPr/>
        </p:nvSpPr>
        <p:spPr>
          <a:xfrm>
            <a:off x="1173240" y="1484280"/>
            <a:ext cx="66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个季度的碳酸饮料产量四项移动平均计算表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2"/>
          <p:cNvSpPr/>
          <p:nvPr/>
        </p:nvSpPr>
        <p:spPr>
          <a:xfrm>
            <a:off x="1515960" y="5780160"/>
            <a:ext cx="63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五项移动平均和四项移动平均计算结果比较图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50" name="图片 79" descr=""/>
          <p:cNvPicPr/>
          <p:nvPr/>
        </p:nvPicPr>
        <p:blipFill>
          <a:blip r:embed="rId1"/>
          <a:srcRect l="0" t="0" r="-20" b="-9"/>
          <a:stretch/>
        </p:blipFill>
        <p:spPr>
          <a:xfrm>
            <a:off x="934920" y="1531800"/>
            <a:ext cx="7058160" cy="4327560"/>
          </a:xfrm>
          <a:prstGeom prst="rect">
            <a:avLst/>
          </a:prstGeom>
          <a:ln w="0">
            <a:noFill/>
          </a:ln>
        </p:spPr>
      </p:pic>
      <p:sp>
        <p:nvSpPr>
          <p:cNvPr id="351" name="文本框 113"/>
          <p:cNvSpPr/>
          <p:nvPr/>
        </p:nvSpPr>
        <p:spPr>
          <a:xfrm>
            <a:off x="6335640" y="4335480"/>
            <a:ext cx="1728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Calibri"/>
              </a:rPr>
              <a:t>四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52" name="直接箭头连接符 112"/>
          <p:cNvCxnSpPr/>
          <p:nvPr/>
        </p:nvCxnSpPr>
        <p:spPr>
          <a:xfrm flipH="1" flipV="1">
            <a:off x="6143040" y="3620520"/>
            <a:ext cx="911880" cy="740520"/>
          </a:xfrm>
          <a:prstGeom prst="straightConnector1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353" name="文本框 115"/>
          <p:cNvSpPr/>
          <p:nvPr/>
        </p:nvSpPr>
        <p:spPr>
          <a:xfrm>
            <a:off x="2519280" y="2822400"/>
            <a:ext cx="18925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9900"/>
                </a:solidFill>
                <a:latin typeface="Calibri"/>
              </a:rPr>
              <a:t>五项移动平均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cxnSp>
        <p:nvCxnSpPr>
          <p:cNvPr id="354" name="直接箭头连接符 114"/>
          <p:cNvCxnSpPr/>
          <p:nvPr/>
        </p:nvCxnSpPr>
        <p:spPr>
          <a:xfrm>
            <a:off x="3382560" y="3187800"/>
            <a:ext cx="283320" cy="961200"/>
          </a:xfrm>
          <a:prstGeom prst="straightConnector1">
            <a:avLst/>
          </a:prstGeom>
          <a:ln w="19080">
            <a:solidFill>
              <a:srgbClr val="669900"/>
            </a:solidFill>
            <a:miter/>
            <a:tailEnd len="med" type="triangle" w="med"/>
          </a:ln>
        </p:spPr>
      </p:cxnSp>
      <p:sp>
        <p:nvSpPr>
          <p:cNvPr id="355" name="Rectangle 11"/>
          <p:cNvSpPr/>
          <p:nvPr/>
        </p:nvSpPr>
        <p:spPr>
          <a:xfrm>
            <a:off x="34920" y="22392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矩形 1"/>
          <p:cNvSpPr/>
          <p:nvPr/>
        </p:nvSpPr>
        <p:spPr>
          <a:xfrm>
            <a:off x="179280" y="1127160"/>
            <a:ext cx="8326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4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对我国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03-20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粮食产量序列，分别进行三年、四年和五年的移动平均，并作图比较移动的结果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4600" y="2600280"/>
          <a:ext cx="8448480" cy="3781440"/>
        </p:xfrm>
        <a:graphic>
          <a:graphicData uri="http://schemas.openxmlformats.org/drawingml/2006/table">
            <a:tbl>
              <a:tblPr/>
              <a:tblGrid>
                <a:gridCol w="1206360"/>
                <a:gridCol w="2063880"/>
                <a:gridCol w="1401840"/>
                <a:gridCol w="1206360"/>
                <a:gridCol w="1206360"/>
                <a:gridCol w="1363680"/>
              </a:tblGrid>
              <a:tr h="27468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份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粮食产量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万吨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移动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一次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二次平均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3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069.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4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946.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139.5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55.7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02.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84.4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28.4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942.0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676.63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804.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455.5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09.4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568.9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36.9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160.3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945.1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479.3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94.3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863.9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870.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37.76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690.2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084.8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13.0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082.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33.5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430.39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60.32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576.3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47.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950.21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952.15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191.27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335.9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120.8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908.84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2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958.0 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矩形 5"/>
          <p:cNvSpPr/>
          <p:nvPr/>
        </p:nvSpPr>
        <p:spPr>
          <a:xfrm>
            <a:off x="324000" y="1989000"/>
            <a:ext cx="69847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三年、四年和五年的移动平均计算结果如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59" name="Rectangle 83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图片 78" descr=""/>
          <p:cNvPicPr/>
          <p:nvPr/>
        </p:nvPicPr>
        <p:blipFill>
          <a:blip r:embed="rId1"/>
          <a:srcRect l="0" t="0" r="0" b="-13"/>
          <a:stretch/>
        </p:blipFill>
        <p:spPr>
          <a:xfrm>
            <a:off x="1187280" y="1733400"/>
            <a:ext cx="6553440" cy="3927600"/>
          </a:xfrm>
          <a:prstGeom prst="rect">
            <a:avLst/>
          </a:prstGeom>
          <a:ln w="0">
            <a:noFill/>
          </a:ln>
        </p:spPr>
      </p:pic>
      <p:sp>
        <p:nvSpPr>
          <p:cNvPr id="361" name="矩形 2"/>
          <p:cNvSpPr/>
          <p:nvPr/>
        </p:nvSpPr>
        <p:spPr>
          <a:xfrm>
            <a:off x="611280" y="5529240"/>
            <a:ext cx="80643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4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由图可以看出，进行移动平均的项数越多，平均的结果越平滑；新数列的项数比原数列要少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2" name="矩形 3"/>
          <p:cNvSpPr/>
          <p:nvPr/>
        </p:nvSpPr>
        <p:spPr>
          <a:xfrm>
            <a:off x="1389240" y="1189080"/>
            <a:ext cx="6135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中国粮食产量三年、四年和五年的移动平均比较图示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10"/>
          <p:cNvSpPr/>
          <p:nvPr/>
        </p:nvSpPr>
        <p:spPr>
          <a:xfrm>
            <a:off x="684360" y="2543040"/>
            <a:ext cx="770544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优点</a:t>
            </a:r>
            <a:r>
              <a:rPr b="0" lang="zh-CN" sz="2400" spc="-1" strike="noStrike">
                <a:solidFill>
                  <a:srgbClr val="cc3300"/>
                </a:solidFill>
                <a:latin typeface="Lucida Sans Unicode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测定结果与原序列关联紧密，具备较强的客观性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不仅适用于直线趋势的测定，也适用于曲线趋势的测定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缺陷：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无法得到序列两端的趋势值，因而不便于外推预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。这在一定程度上损失了原序列中的部分信息，而且移动平均项数越大，信息损失越多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5" name="矩形 6"/>
          <p:cNvSpPr/>
          <p:nvPr/>
        </p:nvSpPr>
        <p:spPr>
          <a:xfrm>
            <a:off x="611280" y="17575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</a:rPr>
              <a:t>移动平均法的特点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108000" y="189000"/>
            <a:ext cx="42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移动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450720" y="1806480"/>
            <a:ext cx="8153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当原序列呈现出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明显的长期趋势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时，可采用最小平方法，直接给出趋势线方程。利用趋势线方程进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外推预测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非常方便。趋势线可以是直线，也可以是曲线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68" name="Text Box 8"/>
          <p:cNvSpPr/>
          <p:nvPr/>
        </p:nvSpPr>
        <p:spPr>
          <a:xfrm>
            <a:off x="1084320" y="3403440"/>
            <a:ext cx="20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直线趋势方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9"/>
              <p:cNvSpPr txBox="1"/>
              <p:nvPr/>
            </p:nvSpPr>
            <p:spPr>
              <a:xfrm>
                <a:off x="3851280" y="3367080"/>
                <a:ext cx="25430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Rectangle 356"/>
          <p:cNvSpPr/>
          <p:nvPr/>
        </p:nvSpPr>
        <p:spPr>
          <a:xfrm>
            <a:off x="1101600" y="4004280"/>
            <a:ext cx="6710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式中：时间</a:t>
            </a:r>
            <a:r>
              <a:rPr b="0" lang="en-US" sz="2400" spc="-1" strike="noStrike">
                <a:solidFill>
                  <a:srgbClr val="0000cc"/>
                </a:solidFill>
                <a:latin typeface="Lucida Sans Unicode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自变量，观测变量</a:t>
            </a:r>
            <a:r>
              <a:rPr b="0" lang="en-US" sz="2400" spc="-1" strike="noStrike">
                <a:solidFill>
                  <a:srgbClr val="0000cc"/>
                </a:solidFill>
                <a:latin typeface="Lucida Sans Unicode"/>
              </a:rPr>
              <a:t>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为因变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371" name="Picture 114" descr=""/>
          <p:cNvPicPr/>
          <p:nvPr/>
        </p:nvPicPr>
        <p:blipFill>
          <a:blip r:embed="rId1"/>
          <a:stretch/>
        </p:blipFill>
        <p:spPr>
          <a:xfrm>
            <a:off x="2741760" y="4076640"/>
            <a:ext cx="317520" cy="363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15" descr=""/>
          <p:cNvPicPr/>
          <p:nvPr/>
        </p:nvPicPr>
        <p:blipFill>
          <a:blip r:embed="rId2"/>
          <a:stretch/>
        </p:blipFill>
        <p:spPr>
          <a:xfrm>
            <a:off x="5724360" y="4076640"/>
            <a:ext cx="360360" cy="432000"/>
          </a:xfrm>
          <a:prstGeom prst="rect">
            <a:avLst/>
          </a:prstGeom>
          <a:ln w="0">
            <a:noFill/>
          </a:ln>
        </p:spPr>
      </p:pic>
      <p:sp>
        <p:nvSpPr>
          <p:cNvPr id="373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4" name="矩形 1"/>
          <p:cNvSpPr/>
          <p:nvPr/>
        </p:nvSpPr>
        <p:spPr>
          <a:xfrm>
            <a:off x="761400" y="1225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最小平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5" name="Rectangle 7"/>
          <p:cNvSpPr/>
          <p:nvPr/>
        </p:nvSpPr>
        <p:spPr>
          <a:xfrm>
            <a:off x="108000" y="46519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参数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的求解公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76" name="Rectangle 16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5"/>
              <p:cNvSpPr txBox="1"/>
              <p:nvPr/>
            </p:nvSpPr>
            <p:spPr>
              <a:xfrm>
                <a:off x="1268280" y="5157720"/>
                <a:ext cx="27273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</m:e>
                            </m:nary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Rectangle 18"/>
          <p:cNvSpPr/>
          <p:nvPr/>
        </p:nvSpPr>
        <p:spPr>
          <a:xfrm>
            <a:off x="0" y="321624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Object 17"/>
              <p:cNvSpPr txBox="1"/>
              <p:nvPr/>
            </p:nvSpPr>
            <p:spPr>
              <a:xfrm>
                <a:off x="4643280" y="5292720"/>
                <a:ext cx="2016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b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t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395280" y="907920"/>
          <a:ext cx="8353440" cy="5753160"/>
        </p:xfrm>
        <a:graphic>
          <a:graphicData uri="http://schemas.openxmlformats.org/drawingml/2006/table">
            <a:tbl>
              <a:tblPr/>
              <a:tblGrid>
                <a:gridCol w="1077840"/>
                <a:gridCol w="1244520"/>
                <a:gridCol w="1629000"/>
                <a:gridCol w="949320"/>
                <a:gridCol w="1968480"/>
                <a:gridCol w="1484280"/>
              </a:tblGrid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时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产量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趋势值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2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3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2.6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.3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6.9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3.3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0.0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.6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.7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9.1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.3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.4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6.9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9.9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3.1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9.0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1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7.2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.2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.5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8.0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.9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5.3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8.4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.6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7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7.5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8.2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.4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4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5.9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3.9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46.9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3.6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.5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90.8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.2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0.7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0.5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.9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.5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63.0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6.6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.2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0.0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.2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.0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83.1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1.9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2.4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23.9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9.5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.1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45.8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7.2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.5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90.0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.65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24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5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9.5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70.8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0.2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.8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73.0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7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7.0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88.81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5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1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4.9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5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22.3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3.2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2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0.27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26.94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.8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3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3.10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9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83.63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8.56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.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9.08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94.1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6.22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6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17.4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14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803.89 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1" lang="en-US" sz="12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1"/>
          <p:cNvSpPr/>
          <p:nvPr/>
        </p:nvSpPr>
        <p:spPr>
          <a:xfrm>
            <a:off x="324000" y="40464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</a:rPr>
              <a:t>10.5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根据碳酸饮料产量时间序列，利用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最小平方法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测定直线趋势。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82" name="对象 4"/>
              <p:cNvSpPr txBox="1"/>
              <p:nvPr/>
            </p:nvSpPr>
            <p:spPr>
              <a:xfrm>
                <a:off x="863640" y="1916280"/>
                <a:ext cx="78120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y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t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y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−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t</m:t>
                            </m:r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880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9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7714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0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对象 7"/>
              <p:cNvSpPr txBox="1"/>
              <p:nvPr/>
            </p:nvSpPr>
            <p:spPr>
              <a:xfrm>
                <a:off x="900000" y="3068640"/>
                <a:ext cx="5616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b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t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91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对象 9"/>
              <p:cNvSpPr txBox="1"/>
              <p:nvPr/>
            </p:nvSpPr>
            <p:spPr>
              <a:xfrm>
                <a:off x="3564000" y="3989520"/>
                <a:ext cx="259236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5" name="矩形 5"/>
          <p:cNvSpPr/>
          <p:nvPr/>
        </p:nvSpPr>
        <p:spPr>
          <a:xfrm>
            <a:off x="324000" y="1268280"/>
            <a:ext cx="576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755640" y="46944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预测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01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年第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季度的碳酸饮料产量的趋势值，有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=29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，代入趋势方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对象 11"/>
              <p:cNvSpPr txBox="1"/>
              <p:nvPr/>
            </p:nvSpPr>
            <p:spPr>
              <a:xfrm>
                <a:off x="1652760" y="5589720"/>
                <a:ext cx="443196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8" name="文本框 12"/>
          <p:cNvSpPr/>
          <p:nvPr/>
        </p:nvSpPr>
        <p:spPr>
          <a:xfrm>
            <a:off x="6013440" y="551664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（万吨）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89" name="矩形 6"/>
          <p:cNvSpPr/>
          <p:nvPr/>
        </p:nvSpPr>
        <p:spPr>
          <a:xfrm>
            <a:off x="1306080" y="39337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则直线趋势方程为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0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322200" y="1413000"/>
            <a:ext cx="849780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季度碳酸饮料的产量是有波动的，有的季度产量高一些，有的季度产量低一些，但这种波动又具有某种规律性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何挖掘数据中所包含的碳酸饮料产量变动的有用信息，用于预测碳酸饮料产量的未来变动情况，是本章要解决的问题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556000" y="364500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将某个变量的观测值按照时间的先后顺序排成一列，就形成了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970200" y="375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ahoma"/>
              </a:rPr>
              <a:t>时间序列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1042920" y="4437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构成要素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8" name="Text Box 30"/>
          <p:cNvSpPr/>
          <p:nvPr/>
        </p:nvSpPr>
        <p:spPr>
          <a:xfrm>
            <a:off x="1547640" y="5086440"/>
            <a:ext cx="4918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时间变量，通常记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观测变量，通常记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09" name="AutoShape 31"/>
          <p:cNvSpPr/>
          <p:nvPr/>
        </p:nvSpPr>
        <p:spPr>
          <a:xfrm>
            <a:off x="1320840" y="5229360"/>
            <a:ext cx="155520" cy="900000"/>
          </a:xfrm>
          <a:custGeom>
            <a:avLst/>
            <a:gdLst>
              <a:gd name="textAreaLeft" fmla="*/ 99360 w 155520"/>
              <a:gd name="textAreaRight" fmla="*/ 155520 w 155520"/>
              <a:gd name="textAreaTop" fmla="*/ 22680 h 900000"/>
              <a:gd name="textAreaBottom" fmla="*/ 87732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8"/>
                  <a:pt x="10800" y="1755"/>
                </a:cubicBezTo>
                <a:lnTo>
                  <a:pt x="10800" y="9045"/>
                </a:lnTo>
                <a:cubicBezTo>
                  <a:pt x="10800" y="9923"/>
                  <a:pt x="5400" y="10800"/>
                  <a:pt x="0" y="10800"/>
                </a:cubicBezTo>
                <a:cubicBezTo>
                  <a:pt x="5400" y="10800"/>
                  <a:pt x="10800" y="11678"/>
                  <a:pt x="10800" y="12555"/>
                </a:cubicBezTo>
                <a:lnTo>
                  <a:pt x="10800" y="19845"/>
                </a:lnTo>
                <a:cubicBezTo>
                  <a:pt x="10800" y="20723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272160" y="115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引例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14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553080" cy="4424400"/>
          </a:xfrm>
          <a:prstGeom prst="rect">
            <a:avLst/>
          </a:prstGeom>
          <a:ln w="0">
            <a:noFill/>
          </a:ln>
        </p:spPr>
      </p:pic>
      <p:sp>
        <p:nvSpPr>
          <p:cNvPr id="392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3" name="矩形 3"/>
          <p:cNvSpPr/>
          <p:nvPr/>
        </p:nvSpPr>
        <p:spPr>
          <a:xfrm>
            <a:off x="826920" y="5761080"/>
            <a:ext cx="7417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宋体"/>
                <a:ea typeface="Times New Roman"/>
              </a:rPr>
              <a:t>四项移动平均、五项移动平均及最小平方法直线趋势拟合结果比较图示</a:t>
            </a:r>
            <a:endParaRPr b="1" lang="en-US" sz="1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395280" y="2295360"/>
            <a:ext cx="828036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打开数据，选择实现过程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nalyze → Regression → Linear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→Linear Regression 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将被解释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入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将解释变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移入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(s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统计量：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Estimates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、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odel fit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和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urbin-Watson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其余均保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S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默认选项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主对话框中单击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OK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5" name="矩形 9"/>
          <p:cNvSpPr/>
          <p:nvPr/>
        </p:nvSpPr>
        <p:spPr>
          <a:xfrm>
            <a:off x="34920" y="16146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最小平方法测定长期趋势的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S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实现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396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图片 6" descr=""/>
          <p:cNvPicPr/>
          <p:nvPr/>
        </p:nvPicPr>
        <p:blipFill>
          <a:blip r:embed="rId1"/>
          <a:stretch/>
        </p:blipFill>
        <p:spPr>
          <a:xfrm>
            <a:off x="2195640" y="1336680"/>
            <a:ext cx="5284800" cy="1731960"/>
          </a:xfrm>
          <a:prstGeom prst="rect">
            <a:avLst/>
          </a:prstGeom>
          <a:ln w="0">
            <a:noFill/>
          </a:ln>
        </p:spPr>
      </p:pic>
      <p:pic>
        <p:nvPicPr>
          <p:cNvPr id="398" name="图片 7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5572080" cy="1697040"/>
          </a:xfrm>
          <a:prstGeom prst="rect">
            <a:avLst/>
          </a:prstGeom>
          <a:ln w="0">
            <a:noFill/>
          </a:ln>
        </p:spPr>
      </p:pic>
      <p:sp>
        <p:nvSpPr>
          <p:cNvPr id="399" name="矩形 3"/>
          <p:cNvSpPr/>
          <p:nvPr/>
        </p:nvSpPr>
        <p:spPr>
          <a:xfrm>
            <a:off x="2843280" y="1773360"/>
            <a:ext cx="2448000" cy="71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0" name="矩形 10"/>
          <p:cNvSpPr/>
          <p:nvPr/>
        </p:nvSpPr>
        <p:spPr>
          <a:xfrm>
            <a:off x="6156360" y="3357720"/>
            <a:ext cx="1395360" cy="647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01" name="图片 8" descr=""/>
          <p:cNvPicPr/>
          <p:nvPr/>
        </p:nvPicPr>
        <p:blipFill>
          <a:blip r:embed="rId3"/>
          <a:stretch/>
        </p:blipFill>
        <p:spPr>
          <a:xfrm>
            <a:off x="1908000" y="4797360"/>
            <a:ext cx="5767560" cy="1656000"/>
          </a:xfrm>
          <a:prstGeom prst="rect">
            <a:avLst/>
          </a:prstGeom>
          <a:ln w="0">
            <a:noFill/>
          </a:ln>
        </p:spPr>
      </p:pic>
      <p:sp>
        <p:nvSpPr>
          <p:cNvPr id="402" name="矩形 11"/>
          <p:cNvSpPr/>
          <p:nvPr/>
        </p:nvSpPr>
        <p:spPr>
          <a:xfrm>
            <a:off x="3348000" y="5283360"/>
            <a:ext cx="1800360" cy="95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3" name="矩形 12"/>
          <p:cNvSpPr/>
          <p:nvPr/>
        </p:nvSpPr>
        <p:spPr>
          <a:xfrm>
            <a:off x="6300720" y="5445000"/>
            <a:ext cx="1295640" cy="75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4" name="标题 1"/>
          <p:cNvSpPr/>
          <p:nvPr/>
        </p:nvSpPr>
        <p:spPr>
          <a:xfrm>
            <a:off x="108000" y="115920"/>
            <a:ext cx="347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最小平方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08000" y="1125360"/>
            <a:ext cx="597672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程序主要输出结果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4"/>
          <p:cNvSpPr/>
          <p:nvPr/>
        </p:nvSpPr>
        <p:spPr>
          <a:xfrm>
            <a:off x="1692360" y="2133720"/>
            <a:ext cx="59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四节  季节波动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2932200" y="3198960"/>
            <a:ext cx="4132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9"/>
          <p:cNvSpPr/>
          <p:nvPr/>
        </p:nvSpPr>
        <p:spPr>
          <a:xfrm>
            <a:off x="612720" y="1684440"/>
            <a:ext cx="777564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长期趋势的测定结果只能用来预测时间序列未来变动的趋势值，如果原序列具有明显的季节波动，则应将季节波动的规律性也同时测定出来，再结合长期趋势进行预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Lucida Sans Unicode"/>
              </a:rPr>
              <a:t>季节波动的常用测定方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06200" y="189000"/>
            <a:ext cx="576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四节  季节波动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1152360" y="4183200"/>
            <a:ext cx="4572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同季平均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趋势剔除法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季节调整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10"/>
          <p:cNvSpPr/>
          <p:nvPr/>
        </p:nvSpPr>
        <p:spPr>
          <a:xfrm>
            <a:off x="453960" y="1726200"/>
            <a:ext cx="82216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同季平均法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是测定季节波动的一种简便方法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适用于水平趋势且不包含循环波动的时间序列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基本步骤为：</a:t>
            </a:r>
            <a:r>
              <a:rPr b="1" lang="zh-CN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2" name="TextBox 4"/>
          <p:cNvSpPr/>
          <p:nvPr/>
        </p:nvSpPr>
        <p:spPr>
          <a:xfrm>
            <a:off x="1189080" y="3284640"/>
            <a:ext cx="460692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编制足够长的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观察时间序列的波动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同季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序列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计算季节比率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绘制季节波动模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1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2"/>
          <p:cNvSpPr/>
          <p:nvPr/>
        </p:nvSpPr>
        <p:spPr>
          <a:xfrm>
            <a:off x="250920" y="1341360"/>
            <a:ext cx="345744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6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某蛋禽加工厂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个季度的销售额的时间序列。试用同季平均法测定该时间序列的季节波动，并预测该加工厂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和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的营业额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95280" y="5157720"/>
          <a:ext cx="8496360" cy="720720"/>
        </p:xfrm>
        <a:graphic>
          <a:graphicData uri="http://schemas.openxmlformats.org/drawingml/2006/table">
            <a:tbl>
              <a:tblPr/>
              <a:tblGrid>
                <a:gridCol w="1481040"/>
                <a:gridCol w="584280"/>
                <a:gridCol w="584280"/>
                <a:gridCol w="584280"/>
                <a:gridCol w="585720"/>
                <a:gridCol w="584280"/>
                <a:gridCol w="583920"/>
                <a:gridCol w="586080"/>
                <a:gridCol w="583920"/>
                <a:gridCol w="584280"/>
                <a:gridCol w="584280"/>
                <a:gridCol w="585720"/>
                <a:gridCol w="584280"/>
              </a:tblGrid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销售额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楷体"/>
                        </a:rPr>
                        <a:t>y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6" name="矩形 5"/>
          <p:cNvSpPr/>
          <p:nvPr/>
        </p:nvSpPr>
        <p:spPr>
          <a:xfrm>
            <a:off x="496800" y="4508640"/>
            <a:ext cx="8107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某禽蛋加工厂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12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销售额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        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单位：万元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17" name="图片 73" descr=""/>
          <p:cNvPicPr/>
          <p:nvPr/>
        </p:nvPicPr>
        <p:blipFill>
          <a:blip r:embed="rId1"/>
          <a:srcRect l="0" t="0" r="0" b="5950"/>
          <a:stretch/>
        </p:blipFill>
        <p:spPr>
          <a:xfrm>
            <a:off x="3852720" y="1700280"/>
            <a:ext cx="5112000" cy="2523960"/>
          </a:xfrm>
          <a:prstGeom prst="rect">
            <a:avLst/>
          </a:prstGeom>
          <a:ln w="0">
            <a:noFill/>
          </a:ln>
        </p:spPr>
      </p:pic>
      <p:sp>
        <p:nvSpPr>
          <p:cNvPr id="418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2"/>
          <p:cNvSpPr/>
          <p:nvPr/>
        </p:nvSpPr>
        <p:spPr>
          <a:xfrm>
            <a:off x="468360" y="1700280"/>
            <a:ext cx="8055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逐一计算同季平均数和序列平均数，并进一步计算得到季节比率，结果如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04640" y="2997360"/>
          <a:ext cx="8488440" cy="3803400"/>
        </p:xfrm>
        <a:graphic>
          <a:graphicData uri="http://schemas.openxmlformats.org/drawingml/2006/table">
            <a:tbl>
              <a:tblPr/>
              <a:tblGrid>
                <a:gridCol w="1866960"/>
                <a:gridCol w="1324080"/>
                <a:gridCol w="1325520"/>
                <a:gridCol w="1324080"/>
                <a:gridCol w="1324080"/>
                <a:gridCol w="1323720"/>
              </a:tblGrid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度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全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年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合计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同季平均数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.7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50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季节比率（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）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.2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.3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.9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5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endParaRPr b="1" lang="en-US" sz="2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ffff"/>
                    </a:solidFill>
                  </a:tcPr>
                </a:tc>
              </a:tr>
            </a:tbl>
          </a:graphicData>
        </a:graphic>
      </p:graphicFrame>
      <p:sp>
        <p:nvSpPr>
          <p:cNvPr id="421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图片 72" descr=""/>
          <p:cNvPicPr/>
          <p:nvPr/>
        </p:nvPicPr>
        <p:blipFill>
          <a:blip r:embed="rId1"/>
          <a:stretch/>
        </p:blipFill>
        <p:spPr>
          <a:xfrm>
            <a:off x="4140360" y="1146240"/>
            <a:ext cx="3168360" cy="2930400"/>
          </a:xfrm>
          <a:prstGeom prst="rect">
            <a:avLst/>
          </a:prstGeom>
          <a:ln w="0">
            <a:noFill/>
          </a:ln>
        </p:spPr>
      </p:pic>
      <p:sp>
        <p:nvSpPr>
          <p:cNvPr id="423" name="矩形 2"/>
          <p:cNvSpPr/>
          <p:nvPr/>
        </p:nvSpPr>
        <p:spPr>
          <a:xfrm>
            <a:off x="928080" y="1709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绘制季节波动模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4" name="矩形 5"/>
          <p:cNvSpPr/>
          <p:nvPr/>
        </p:nvSpPr>
        <p:spPr>
          <a:xfrm>
            <a:off x="612720" y="4116240"/>
            <a:ext cx="8136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预测该加工厂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和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营业额分别为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6" name="Object 10"/>
              <p:cNvSpPr txBox="1"/>
              <p:nvPr/>
            </p:nvSpPr>
            <p:spPr>
              <a:xfrm>
                <a:off x="1835280" y="5327640"/>
                <a:ext cx="39542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9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（万元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7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Object 12"/>
              <p:cNvSpPr txBox="1"/>
              <p:nvPr/>
            </p:nvSpPr>
            <p:spPr>
              <a:xfrm>
                <a:off x="1835280" y="5884920"/>
                <a:ext cx="37782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（万元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9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同季平均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矩形 10"/>
          <p:cNvSpPr/>
          <p:nvPr/>
        </p:nvSpPr>
        <p:spPr>
          <a:xfrm>
            <a:off x="324000" y="1726200"/>
            <a:ext cx="85104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如果时间序列具有明显的向上或向下趋势且不包含循环波动，可采取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趋势剔除法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来测定季节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基本步骤为：</a:t>
            </a:r>
            <a:r>
              <a:rPr b="1" lang="zh-CN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1" name="TextBox 4"/>
          <p:cNvSpPr/>
          <p:nvPr/>
        </p:nvSpPr>
        <p:spPr>
          <a:xfrm>
            <a:off x="971640" y="3284640"/>
            <a:ext cx="74152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编制足够长的时间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观察时间序列的波动特征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测定原序列的长期趋势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从原序列中剔除长期趋势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根据剔除长期趋势后的派生序列计算同季平均数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20000"/>
              </a:lnSpc>
              <a:buClr>
                <a:srgbClr val="0000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绘制季节波动模型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2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895400" y="162864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一节  时间序列构成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68360" y="2492280"/>
            <a:ext cx="5224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长期趋势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季节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循环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无规则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五、平稳序列与非平稳序列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矩形 1"/>
          <p:cNvSpPr/>
          <p:nvPr/>
        </p:nvSpPr>
        <p:spPr>
          <a:xfrm>
            <a:off x="324000" y="1352520"/>
            <a:ext cx="8424720" cy="9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【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10.7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碳酸饮料产量时间序列，利用趋势剔除法来测定季节波动，并预测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0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年第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季度的碳酸饮料产量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34" name="图片 101" descr=""/>
          <p:cNvPicPr/>
          <p:nvPr/>
        </p:nvPicPr>
        <p:blipFill>
          <a:blip r:embed="rId1"/>
          <a:srcRect l="2110" t="0" r="-7" b="4609"/>
          <a:stretch/>
        </p:blipFill>
        <p:spPr>
          <a:xfrm>
            <a:off x="1030320" y="2389320"/>
            <a:ext cx="6637320" cy="3487680"/>
          </a:xfrm>
          <a:prstGeom prst="rect">
            <a:avLst/>
          </a:prstGeom>
          <a:ln w="0">
            <a:noFill/>
          </a:ln>
        </p:spPr>
      </p:pic>
      <p:sp>
        <p:nvSpPr>
          <p:cNvPr id="435" name="矩形 1"/>
          <p:cNvSpPr/>
          <p:nvPr/>
        </p:nvSpPr>
        <p:spPr>
          <a:xfrm>
            <a:off x="1042920" y="5734080"/>
            <a:ext cx="6985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年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的碳酸饮料产量（万吨）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6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"/>
          <p:cNvGraphicFramePr/>
          <p:nvPr/>
        </p:nvGraphicFramePr>
        <p:xfrm>
          <a:off x="324000" y="1504800"/>
          <a:ext cx="8064360" cy="4658040"/>
        </p:xfrm>
        <a:graphic>
          <a:graphicData uri="http://schemas.openxmlformats.org/drawingml/2006/table">
            <a:tbl>
              <a:tblPr/>
              <a:tblGrid>
                <a:gridCol w="133200"/>
                <a:gridCol w="1144440"/>
                <a:gridCol w="1649520"/>
                <a:gridCol w="1541520"/>
                <a:gridCol w="1487520"/>
                <a:gridCol w="2108160"/>
              </a:tblGrid>
              <a:tr h="49536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季度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量（万吨）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四项移动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两项移正平均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观测值除以趋势值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2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2.6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91.0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3.3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cc"/>
                          </a:solidFill>
                          <a:latin typeface="宋体"/>
                        </a:rPr>
                        <a:t>199.3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ff"/>
                          </a:solidFill>
                          <a:latin typeface="宋体"/>
                        </a:rPr>
                        <a:t>195.1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.7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9.4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4.3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1.4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8.1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3.7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94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3.1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.8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17.9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0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8.1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8.8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3.3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8.5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7.2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3.01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7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 grid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5.3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7.7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7.4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9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1.8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8.35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19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2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.0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1.0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44.6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4.9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3.8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72.42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.8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0.27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6.8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90.33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0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3.10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7680"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endParaRPr b="1" lang="en-US" sz="9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9.08 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7320" marR="67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7320" rIns="673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　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67320" marR="673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8" name="矩形 8"/>
          <p:cNvSpPr/>
          <p:nvPr/>
        </p:nvSpPr>
        <p:spPr>
          <a:xfrm>
            <a:off x="1044720" y="1012680"/>
            <a:ext cx="662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碳酸饮料产量季节波动趋势剔除法计算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39" name="右大括号 15"/>
          <p:cNvSpPr/>
          <p:nvPr/>
        </p:nvSpPr>
        <p:spPr>
          <a:xfrm>
            <a:off x="2844720" y="2084400"/>
            <a:ext cx="505080" cy="839880"/>
          </a:xfrm>
          <a:custGeom>
            <a:avLst/>
            <a:gdLst>
              <a:gd name="textAreaLeft" fmla="*/ 0 w 505080"/>
              <a:gd name="textAreaRight" fmla="*/ 182520 w 505080"/>
              <a:gd name="textAreaTop" fmla="*/ 12960 h 839880"/>
              <a:gd name="textAreaBottom" fmla="*/ 826920 h 83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9"/>
                  <a:pt x="10800" y="1077"/>
                </a:cubicBezTo>
                <a:lnTo>
                  <a:pt x="10800" y="7049"/>
                </a:lnTo>
                <a:cubicBezTo>
                  <a:pt x="10800" y="7588"/>
                  <a:pt x="16200" y="8126"/>
                  <a:pt x="21600" y="8126"/>
                </a:cubicBezTo>
                <a:cubicBezTo>
                  <a:pt x="16200" y="8126"/>
                  <a:pt x="10800" y="8665"/>
                  <a:pt x="10800" y="9203"/>
                </a:cubicBezTo>
                <a:lnTo>
                  <a:pt x="10800" y="20523"/>
                </a:lnTo>
                <a:cubicBezTo>
                  <a:pt x="10800" y="2106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0" name="右大括号 18"/>
          <p:cNvSpPr/>
          <p:nvPr/>
        </p:nvSpPr>
        <p:spPr>
          <a:xfrm>
            <a:off x="2914560" y="2357280"/>
            <a:ext cx="505080" cy="784440"/>
          </a:xfrm>
          <a:custGeom>
            <a:avLst/>
            <a:gdLst>
              <a:gd name="textAreaLeft" fmla="*/ 0 w 505080"/>
              <a:gd name="textAreaRight" fmla="*/ 182520 w 505080"/>
              <a:gd name="textAreaTop" fmla="*/ 12960 h 784440"/>
              <a:gd name="textAreaBottom" fmla="*/ 771480 h 78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0"/>
                  <a:pt x="10800" y="1160"/>
                </a:cubicBezTo>
                <a:lnTo>
                  <a:pt x="10800" y="7410"/>
                </a:lnTo>
                <a:cubicBezTo>
                  <a:pt x="10800" y="7990"/>
                  <a:pt x="16200" y="8570"/>
                  <a:pt x="21600" y="8570"/>
                </a:cubicBezTo>
                <a:cubicBezTo>
                  <a:pt x="16200" y="8570"/>
                  <a:pt x="10800" y="9150"/>
                  <a:pt x="10800" y="9730"/>
                </a:cubicBezTo>
                <a:lnTo>
                  <a:pt x="10800" y="20440"/>
                </a:lnTo>
                <a:cubicBezTo>
                  <a:pt x="10800" y="2102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1" name="右大括号 19"/>
          <p:cNvSpPr/>
          <p:nvPr/>
        </p:nvSpPr>
        <p:spPr>
          <a:xfrm>
            <a:off x="4435560" y="2276640"/>
            <a:ext cx="503280" cy="463320"/>
          </a:xfrm>
          <a:custGeom>
            <a:avLst/>
            <a:gdLst>
              <a:gd name="textAreaLeft" fmla="*/ 0 w 503280"/>
              <a:gd name="textAreaRight" fmla="*/ 181800 w 503280"/>
              <a:gd name="textAreaTop" fmla="*/ 10440 h 463320"/>
              <a:gd name="textAreaBottom" fmla="*/ 452880 h 46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93"/>
                  <a:pt x="10800" y="1585"/>
                </a:cubicBezTo>
                <a:lnTo>
                  <a:pt x="10800" y="14689"/>
                </a:lnTo>
                <a:cubicBezTo>
                  <a:pt x="10800" y="15482"/>
                  <a:pt x="16200" y="16274"/>
                  <a:pt x="21600" y="16274"/>
                </a:cubicBezTo>
                <a:cubicBezTo>
                  <a:pt x="16200" y="16274"/>
                  <a:pt x="10800" y="17067"/>
                  <a:pt x="10800" y="17859"/>
                </a:cubicBezTo>
                <a:lnTo>
                  <a:pt x="10800" y="20015"/>
                </a:lnTo>
                <a:cubicBezTo>
                  <a:pt x="10800" y="20808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2" name="文本框 17"/>
          <p:cNvSpPr/>
          <p:nvPr/>
        </p:nvSpPr>
        <p:spPr>
          <a:xfrm>
            <a:off x="6948360" y="324000"/>
            <a:ext cx="19004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243.35/195.16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4" name="Line 124"/>
          <p:cNvSpPr/>
          <p:nvPr/>
        </p:nvSpPr>
        <p:spPr>
          <a:xfrm flipH="1">
            <a:off x="7524360" y="730080"/>
            <a:ext cx="647640" cy="17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1"/>
          <p:cNvSpPr/>
          <p:nvPr/>
        </p:nvSpPr>
        <p:spPr>
          <a:xfrm>
            <a:off x="228600" y="1387440"/>
            <a:ext cx="80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得到的派生序列进一步计算同季平均数，结果如下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24000" y="2349360"/>
          <a:ext cx="8496000" cy="3889440"/>
        </p:xfrm>
        <a:graphic>
          <a:graphicData uri="http://schemas.openxmlformats.org/drawingml/2006/table">
            <a:tbl>
              <a:tblPr/>
              <a:tblGrid>
                <a:gridCol w="1707840"/>
                <a:gridCol w="1305000"/>
                <a:gridCol w="1371600"/>
                <a:gridCol w="1462320"/>
                <a:gridCol w="1323720"/>
                <a:gridCol w="1325520"/>
              </a:tblGrid>
              <a:tr h="476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季度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全年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69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07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777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420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38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456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231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348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14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792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3373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471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552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25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08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143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099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676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9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264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256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29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60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872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293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11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704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327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4368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1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723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767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—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490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6050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9674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58779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9986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.0155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同季平均数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9267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99457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26463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.81664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.00065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节比率（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2.61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.392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6.38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611 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20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矩形 7"/>
          <p:cNvSpPr/>
          <p:nvPr/>
        </p:nvSpPr>
        <p:spPr>
          <a:xfrm>
            <a:off x="1476360" y="1773360"/>
            <a:ext cx="599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28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  <a:ea typeface="Times New Roman"/>
              </a:rPr>
              <a:t>个季度碳酸饮料产量季节波动趋势剔除法计算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8" name="文本框 8"/>
          <p:cNvSpPr/>
          <p:nvPr/>
        </p:nvSpPr>
        <p:spPr>
          <a:xfrm>
            <a:off x="1476360" y="6308640"/>
            <a:ext cx="33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(92.615%=0.92675/1.00065)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49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1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51" name="图片 71" descr=""/>
          <p:cNvPicPr/>
          <p:nvPr/>
        </p:nvPicPr>
        <p:blipFill>
          <a:blip r:embed="rId1"/>
          <a:srcRect l="0" t="0" r="0" b="6549"/>
          <a:stretch/>
        </p:blipFill>
        <p:spPr>
          <a:xfrm>
            <a:off x="826920" y="2060640"/>
            <a:ext cx="7201080" cy="4124160"/>
          </a:xfrm>
          <a:prstGeom prst="rect">
            <a:avLst/>
          </a:prstGeom>
          <a:ln w="0">
            <a:noFill/>
          </a:ln>
        </p:spPr>
      </p:pic>
      <p:sp>
        <p:nvSpPr>
          <p:cNvPr id="452" name="矩形 3"/>
          <p:cNvSpPr/>
          <p:nvPr/>
        </p:nvSpPr>
        <p:spPr>
          <a:xfrm>
            <a:off x="46836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绘制季节波动模型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3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1"/>
          <p:cNvSpPr/>
          <p:nvPr/>
        </p:nvSpPr>
        <p:spPr>
          <a:xfrm>
            <a:off x="395280" y="16034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预测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2012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年第</a:t>
            </a:r>
            <a:r>
              <a:rPr b="0" lang="en-US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Times New Roman"/>
              </a:rPr>
              <a:t>季度的碳酸饮料产量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5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趋势剔除法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395280" y="2421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首先使用最小平方法，利用长期趋势预测出趋势值有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395280" y="40514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再利用季节比率对趋势值做出调整，进而得出预测值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0"/>
              <p:cNvSpPr txBox="1"/>
              <p:nvPr/>
            </p:nvSpPr>
            <p:spPr>
              <a:xfrm>
                <a:off x="1697040" y="3130560"/>
                <a:ext cx="46134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5</m:t>
                    </m:r>
                    <m:r>
                      <m:rPr>
                        <m:lit/>
                        <m:nor/>
                      </m:rPr>
                      <m:t xml:space="preserve">（万吨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2"/>
              <p:cNvSpPr txBox="1"/>
              <p:nvPr/>
            </p:nvSpPr>
            <p:spPr>
              <a:xfrm>
                <a:off x="1619280" y="4781520"/>
                <a:ext cx="4914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95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26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（万吨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Box 6"/>
          <p:cNvSpPr/>
          <p:nvPr/>
        </p:nvSpPr>
        <p:spPr>
          <a:xfrm>
            <a:off x="324000" y="4019400"/>
            <a:ext cx="8208720" cy="532800"/>
          </a:xfrm>
          <a:prstGeom prst="rect">
            <a:avLst/>
          </a:prstGeom>
          <a:noFill/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将原序列中的各个观测值直接与对应季节的季节比率相除，从而获得调整值    ，调整值中保留了除季节波动之外的其余波动特征，以便于进行深入观察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1" name="矩形 5"/>
          <p:cNvSpPr/>
          <p:nvPr/>
        </p:nvSpPr>
        <p:spPr>
          <a:xfrm>
            <a:off x="531720" y="34146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Times New Roman"/>
              </a:rPr>
              <a:t>季节调整的方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2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389880" y="20462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季节调整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4" name="Rectangle 10"/>
          <p:cNvSpPr/>
          <p:nvPr/>
        </p:nvSpPr>
        <p:spPr>
          <a:xfrm>
            <a:off x="2114640" y="177480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在测定出季节波动之后，为便于观察原时间序列中的其他波动特征，将季节波动从中剔除的过程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Object 11"/>
              <p:cNvSpPr txBox="1"/>
              <p:nvPr/>
            </p:nvSpPr>
            <p:spPr>
              <a:xfrm>
                <a:off x="2654280" y="4581360"/>
                <a:ext cx="5396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"/>
          <p:cNvGraphicFramePr/>
          <p:nvPr/>
        </p:nvGraphicFramePr>
        <p:xfrm>
          <a:off x="324000" y="1916280"/>
          <a:ext cx="8569080" cy="4133520"/>
        </p:xfrm>
        <a:graphic>
          <a:graphicData uri="http://schemas.openxmlformats.org/drawingml/2006/table">
            <a:tbl>
              <a:tblPr/>
              <a:tblGrid>
                <a:gridCol w="537840"/>
                <a:gridCol w="781200"/>
                <a:gridCol w="812880"/>
                <a:gridCol w="790560"/>
                <a:gridCol w="790560"/>
                <a:gridCol w="792000"/>
                <a:gridCol w="789120"/>
                <a:gridCol w="790560"/>
                <a:gridCol w="790560"/>
                <a:gridCol w="792360"/>
                <a:gridCol w="901440"/>
              </a:tblGrid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.7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.4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3.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8.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.5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.3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.7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.6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3.8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.5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.4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.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.4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9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8.3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.4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.9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8.5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7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7.5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.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2.4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7.1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.5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.2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.8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.9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3.9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.6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0.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6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9.5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.8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7.0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0.2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3.1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.08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%)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.4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6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/s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.9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.35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.89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1.7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.80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2.83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.0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.47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6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7" name="矩形 3"/>
          <p:cNvSpPr/>
          <p:nvPr/>
        </p:nvSpPr>
        <p:spPr>
          <a:xfrm>
            <a:off x="1692360" y="1197000"/>
            <a:ext cx="544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宋体"/>
              </a:rPr>
              <a:t>28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个季度碳酸饮料产量季节调整计算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68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矩形 1"/>
          <p:cNvSpPr/>
          <p:nvPr/>
        </p:nvSpPr>
        <p:spPr>
          <a:xfrm>
            <a:off x="755640" y="5384880"/>
            <a:ext cx="770400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明显地看出，经过季节调整后的时间序列较原序列已经没有了明显的季节波动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0" name="矩形 8"/>
          <p:cNvSpPr/>
          <p:nvPr/>
        </p:nvSpPr>
        <p:spPr>
          <a:xfrm>
            <a:off x="58680" y="11196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季节调整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71" name="Picture 8" descr=""/>
          <p:cNvPicPr/>
          <p:nvPr/>
        </p:nvPicPr>
        <p:blipFill>
          <a:blip r:embed="rId1"/>
          <a:stretch/>
        </p:blipFill>
        <p:spPr>
          <a:xfrm>
            <a:off x="971640" y="1363680"/>
            <a:ext cx="7129440" cy="40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1908000" y="3213000"/>
            <a:ext cx="59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第五节  循环趋势的测定</a:t>
            </a:r>
            <a:endParaRPr b="1" lang="en-US" sz="36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  <p:transition spd="med">
    <p:pull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1"/>
          <p:cNvSpPr/>
          <p:nvPr/>
        </p:nvSpPr>
        <p:spPr>
          <a:xfrm>
            <a:off x="539640" y="1374840"/>
            <a:ext cx="8226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循环变动往往存在于较长的时间序列中，且没有固定的周期，通常难以准确界定，也难以准确测定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以经济周期变动为例，美国国民经济研究局曾给出经典定义“经济周期是以商业为主的国家总体经济活动的一种波动行为。一个周期由在许多经济活动领域中几乎同时发生的扩张，随后是同样普遍的衰退、收缩以及与下一个周期扩张连接的复苏构成；这些变动顺序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重复出现但不定期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；经济周期的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持续期从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到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0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或</a:t>
            </a:r>
            <a:r>
              <a:rPr b="1" lang="en-US" sz="2400" spc="-1" strike="noStrike">
                <a:solidFill>
                  <a:srgbClr val="0a0aff"/>
                </a:solidFill>
                <a:latin typeface="Lucida Sans Unicode"/>
              </a:rPr>
              <a:t>12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年不等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；这些周期</a:t>
            </a:r>
            <a:r>
              <a:rPr b="1" lang="zh-CN" sz="2400" spc="-1" strike="noStrike">
                <a:solidFill>
                  <a:srgbClr val="0a0aff"/>
                </a:solidFill>
                <a:latin typeface="Lucida Sans Unicode"/>
              </a:rPr>
              <a:t>不能再被分为振幅与其相近、性质相似的更短周期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”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4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050560" y="1412640"/>
            <a:ext cx="664524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时间序列中的各个观测值，长期持续地沿着一定的方向上下波动。既可以是直线趋势，也可以是曲线趋势，本章主要研究的是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直线趋势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108000" y="115920"/>
            <a:ext cx="316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一、长期趋势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465480" y="168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长期趋势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3235680" y="5805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时间序列的直线趋势简单图示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117" name="图片 100" descr=""/>
          <p:cNvPicPr/>
          <p:nvPr/>
        </p:nvPicPr>
        <p:blipFill>
          <a:blip r:embed="rId1"/>
          <a:srcRect l="0" t="-8819" r="0" b="-9108"/>
          <a:stretch/>
        </p:blipFill>
        <p:spPr>
          <a:xfrm>
            <a:off x="378000" y="3152880"/>
            <a:ext cx="2741400" cy="272412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99" descr=""/>
          <p:cNvPicPr/>
          <p:nvPr/>
        </p:nvPicPr>
        <p:blipFill>
          <a:blip r:embed="rId2"/>
          <a:srcRect l="0" t="-8819" r="0" b="-9108"/>
          <a:stretch/>
        </p:blipFill>
        <p:spPr>
          <a:xfrm>
            <a:off x="3419640" y="3228840"/>
            <a:ext cx="2665080" cy="264816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98" descr=""/>
          <p:cNvPicPr/>
          <p:nvPr/>
        </p:nvPicPr>
        <p:blipFill>
          <a:blip r:embed="rId3"/>
          <a:srcRect l="0" t="-9861" r="0" b="-10155"/>
          <a:stretch/>
        </p:blipFill>
        <p:spPr>
          <a:xfrm>
            <a:off x="6305400" y="3213000"/>
            <a:ext cx="2610000" cy="269100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121"/>
          <p:cNvSpPr/>
          <p:nvPr/>
        </p:nvSpPr>
        <p:spPr>
          <a:xfrm>
            <a:off x="819000" y="3240000"/>
            <a:ext cx="173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线向上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1" name="文本框 122"/>
          <p:cNvSpPr/>
          <p:nvPr/>
        </p:nvSpPr>
        <p:spPr>
          <a:xfrm>
            <a:off x="3844800" y="3213000"/>
            <a:ext cx="18795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直线向下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2" name="文本框 120"/>
          <p:cNvSpPr/>
          <p:nvPr/>
        </p:nvSpPr>
        <p:spPr>
          <a:xfrm>
            <a:off x="6877080" y="3240000"/>
            <a:ext cx="1444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水平趋势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矩形 1"/>
          <p:cNvSpPr/>
          <p:nvPr/>
        </p:nvSpPr>
        <p:spPr>
          <a:xfrm>
            <a:off x="2050920" y="1374840"/>
            <a:ext cx="6715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指现象在一个较长时期内涨落起伏的波动。测定循环变动的目的是发现循环变动的规律，为预测提供依据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6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7" name="矩形 2"/>
          <p:cNvSpPr/>
          <p:nvPr/>
        </p:nvSpPr>
        <p:spPr>
          <a:xfrm>
            <a:off x="536760" y="1700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循环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8" name="矩形 4"/>
          <p:cNvSpPr/>
          <p:nvPr/>
        </p:nvSpPr>
        <p:spPr>
          <a:xfrm>
            <a:off x="444600" y="3429000"/>
            <a:ext cx="815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测定长期趋势和季节波动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长期趋势和季节波动从原序列中剔除，即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派生序列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行移动平均，以消除无规则波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影响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5760" indent="-45576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得出循环波动       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79" name="矩形 5"/>
          <p:cNvSpPr/>
          <p:nvPr/>
        </p:nvSpPr>
        <p:spPr>
          <a:xfrm>
            <a:off x="1105920" y="2852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Lucida Sans Unicode"/>
              </a:rPr>
              <a:t>测定循环波动的基本步骤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80" name="图片 4" descr=""/>
          <p:cNvPicPr/>
          <p:nvPr/>
        </p:nvPicPr>
        <p:blipFill>
          <a:blip r:embed="rId1"/>
          <a:stretch/>
        </p:blipFill>
        <p:spPr>
          <a:xfrm>
            <a:off x="2124000" y="4292640"/>
            <a:ext cx="4511880" cy="790560"/>
          </a:xfrm>
          <a:prstGeom prst="rect">
            <a:avLst/>
          </a:prstGeom>
          <a:ln w="0">
            <a:noFill/>
          </a:ln>
        </p:spPr>
      </p:pic>
      <p:pic>
        <p:nvPicPr>
          <p:cNvPr id="481" name="图片 5" descr=""/>
          <p:cNvPicPr/>
          <p:nvPr/>
        </p:nvPicPr>
        <p:blipFill>
          <a:blip r:embed="rId2"/>
          <a:stretch/>
        </p:blipFill>
        <p:spPr>
          <a:xfrm>
            <a:off x="2789280" y="5300640"/>
            <a:ext cx="919080" cy="403200"/>
          </a:xfrm>
          <a:prstGeom prst="rect">
            <a:avLst/>
          </a:prstGeom>
          <a:ln w="0">
            <a:noFill/>
          </a:ln>
        </p:spPr>
      </p:pic>
      <p:pic>
        <p:nvPicPr>
          <p:cNvPr id="482" name="图片 6" descr=""/>
          <p:cNvPicPr/>
          <p:nvPr/>
        </p:nvPicPr>
        <p:blipFill>
          <a:blip r:embed="rId3"/>
          <a:stretch/>
        </p:blipFill>
        <p:spPr>
          <a:xfrm>
            <a:off x="8489880" y="5322960"/>
            <a:ext cx="403200" cy="41112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7" descr=""/>
          <p:cNvPicPr/>
          <p:nvPr/>
        </p:nvPicPr>
        <p:blipFill>
          <a:blip r:embed="rId4"/>
          <a:stretch/>
        </p:blipFill>
        <p:spPr>
          <a:xfrm>
            <a:off x="2843280" y="6049800"/>
            <a:ext cx="447480" cy="4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矩形 3"/>
          <p:cNvSpPr/>
          <p:nvPr/>
        </p:nvSpPr>
        <p:spPr>
          <a:xfrm>
            <a:off x="250920" y="2840040"/>
            <a:ext cx="527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具体计算步骤（乘法模型）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5" name="矩形 4"/>
          <p:cNvSpPr/>
          <p:nvPr/>
        </p:nvSpPr>
        <p:spPr>
          <a:xfrm>
            <a:off x="324000" y="3573360"/>
            <a:ext cx="828180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有季节成分，首先对原序列按季节指数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进行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季节调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得到季节调整后的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CI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采用移动平均法或最小平方法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计算长期趋势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成分（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），并加以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消除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，得到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i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对消去季节成分和长期趋势值的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进行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移动平均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以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消除不规则波动</a:t>
            </a:r>
            <a:r>
              <a:rPr b="0" lang="zh-CN" sz="2400" spc="-1" strike="noStrike">
                <a:solidFill>
                  <a:srgbClr val="000000"/>
                </a:solidFill>
                <a:latin typeface="Lucida Sans Unicode"/>
              </a:rPr>
              <a:t>，得到</a:t>
            </a:r>
            <a:r>
              <a:rPr b="0" lang="zh-CN" sz="2400" spc="-1" strike="noStrike">
                <a:solidFill>
                  <a:srgbClr val="0000cc"/>
                </a:solidFill>
                <a:latin typeface="Lucida Sans Unicode"/>
              </a:rPr>
              <a:t>循环变动成分</a:t>
            </a:r>
            <a:r>
              <a:rPr b="0" i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C</a:t>
            </a:r>
            <a:r>
              <a:rPr b="0" i="1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6" name="矩形 3"/>
          <p:cNvSpPr/>
          <p:nvPr/>
        </p:nvSpPr>
        <p:spPr>
          <a:xfrm>
            <a:off x="250920" y="1327320"/>
            <a:ext cx="1441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剩余法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7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1817640" y="1413000"/>
            <a:ext cx="7002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是从原时间序列中分别消除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长期趋势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、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季节变动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和</a:t>
            </a:r>
            <a:r>
              <a:rPr b="0" lang="zh-CN" sz="2800" spc="-1" strike="noStrike">
                <a:solidFill>
                  <a:srgbClr val="0000cc"/>
                </a:solidFill>
                <a:latin typeface="Lucida Sans Unicode"/>
              </a:rPr>
              <a:t>不规则变动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的循环变动测定方法，剩余的结果便是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Lucida Sans Unicode"/>
              </a:rPr>
              <a:t>循环变动指数</a:t>
            </a:r>
            <a:r>
              <a:rPr b="0" lang="zh-CN" sz="2800" spc="-1" strike="noStrike">
                <a:solidFill>
                  <a:srgbClr val="000000"/>
                </a:solidFill>
                <a:latin typeface="Lucida Sans Unicode"/>
              </a:rPr>
              <a:t>。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1"/>
          <p:cNvSpPr/>
          <p:nvPr/>
        </p:nvSpPr>
        <p:spPr>
          <a:xfrm>
            <a:off x="395280" y="2060640"/>
            <a:ext cx="813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首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原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与表季节指数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对比，得到季节调整后的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然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与趋势值序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对比，得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。这里也可以用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对时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进行趋势回归计算趋势值序列，而且这种计算更为精确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457200" indent="-45720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后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I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进行四项移动平均，再进行两项移正平均，消除不规则波动。得到循环变动成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90" name="矩形 3"/>
          <p:cNvSpPr/>
          <p:nvPr/>
        </p:nvSpPr>
        <p:spPr>
          <a:xfrm>
            <a:off x="324000" y="1484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以引例为例，利用剩余法测定循环趋势的步骤：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491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2" name=""/>
          <p:cNvGraphicFramePr/>
          <p:nvPr/>
        </p:nvGraphicFramePr>
        <p:xfrm>
          <a:off x="44280" y="836640"/>
          <a:ext cx="8991720" cy="5510160"/>
        </p:xfrm>
        <a:graphic>
          <a:graphicData uri="http://schemas.openxmlformats.org/drawingml/2006/table">
            <a:tbl>
              <a:tblPr/>
              <a:tblGrid>
                <a:gridCol w="777960"/>
                <a:gridCol w="1135080"/>
                <a:gridCol w="1357560"/>
                <a:gridCol w="1299960"/>
                <a:gridCol w="909720"/>
                <a:gridCol w="1403280"/>
                <a:gridCol w="1131840"/>
                <a:gridCol w="976320"/>
              </a:tblGrid>
              <a:tr h="5936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度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原序列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季节指数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）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趋势值序列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四项移动平均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序列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%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）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2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.6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.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2.6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.8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.9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19"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.3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.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.6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.7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.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.3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.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4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.9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.5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7.6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3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.1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.1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.2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7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.5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.4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.9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8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.3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4.9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6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.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6.7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.3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.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.4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.2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5.9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1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.9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.8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.6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.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︙</a:t>
                      </a:r>
                      <a:endParaRPr b="1" lang="en-US" sz="1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6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4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9.5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.3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0.2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.8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7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3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.0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1.71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5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.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.9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.8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3.23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6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.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0.2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2.8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0.89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.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3.10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4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.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.5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9.0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.48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6.22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76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t" marL="58680" marR="58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</a:t>
                      </a:r>
                      <a:endParaRPr b="1" lang="en-US" sz="1400" spc="-1" strike="noStrike">
                        <a:solidFill>
                          <a:srgbClr val="669900"/>
                        </a:solidFill>
                        <a:latin typeface="Lucida Sans Unicode"/>
                      </a:endParaRPr>
                    </a:p>
                  </a:txBody>
                  <a:tcPr anchor="ctr" marL="58680" marR="586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3" name="Picture 165" descr=""/>
          <p:cNvPicPr/>
          <p:nvPr/>
        </p:nvPicPr>
        <p:blipFill>
          <a:blip r:embed="rId1"/>
          <a:stretch/>
        </p:blipFill>
        <p:spPr>
          <a:xfrm>
            <a:off x="3492360" y="944640"/>
            <a:ext cx="1019160" cy="3380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167" descr=""/>
          <p:cNvPicPr/>
          <p:nvPr/>
        </p:nvPicPr>
        <p:blipFill>
          <a:blip r:embed="rId2"/>
          <a:stretch/>
        </p:blipFill>
        <p:spPr>
          <a:xfrm>
            <a:off x="5724360" y="969840"/>
            <a:ext cx="1028880" cy="3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"/>
          <p:cNvSpPr/>
          <p:nvPr/>
        </p:nvSpPr>
        <p:spPr>
          <a:xfrm>
            <a:off x="1093680" y="5516640"/>
            <a:ext cx="7345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全国</a:t>
            </a:r>
            <a:r>
              <a:rPr b="0" lang="en-US" sz="2000" spc="-1" strike="noStrike">
                <a:solidFill>
                  <a:srgbClr val="0000cc"/>
                </a:solidFill>
                <a:latin typeface="宋体"/>
              </a:rPr>
              <a:t>2005-2011</a:t>
            </a:r>
            <a:r>
              <a:rPr b="0" lang="zh-CN" sz="2000" spc="-1" strike="noStrike">
                <a:solidFill>
                  <a:srgbClr val="0000cc"/>
                </a:solidFill>
                <a:latin typeface="宋体"/>
              </a:rPr>
              <a:t>年碳酸饮料产量序列的循环变动</a:t>
            </a:r>
            <a:endParaRPr b="1" lang="en-US" sz="2000" spc="-1" strike="noStrike">
              <a:solidFill>
                <a:srgbClr val="669900"/>
              </a:solidFill>
              <a:latin typeface="Lucida Sans Unicode"/>
            </a:endParaRPr>
          </a:p>
        </p:txBody>
      </p:sp>
      <p:pic>
        <p:nvPicPr>
          <p:cNvPr id="496" name="图片 67" descr=""/>
          <p:cNvPicPr/>
          <p:nvPr/>
        </p:nvPicPr>
        <p:blipFill>
          <a:blip r:embed="rId1"/>
          <a:srcRect l="0" t="0" r="-7" b="0"/>
          <a:stretch/>
        </p:blipFill>
        <p:spPr>
          <a:xfrm>
            <a:off x="708120" y="1700280"/>
            <a:ext cx="7705800" cy="3879720"/>
          </a:xfrm>
          <a:prstGeom prst="rect">
            <a:avLst/>
          </a:prstGeom>
          <a:ln w="0">
            <a:noFill/>
          </a:ln>
        </p:spPr>
      </p:pic>
      <p:sp>
        <p:nvSpPr>
          <p:cNvPr id="497" name="矩形 2"/>
          <p:cNvSpPr/>
          <p:nvPr/>
        </p:nvSpPr>
        <p:spPr>
          <a:xfrm>
            <a:off x="108000" y="114840"/>
            <a:ext cx="523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第五节 循环趋势的测定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619280" y="1503360"/>
            <a:ext cx="5832360" cy="4373640"/>
          </a:xfrm>
          <a:prstGeom prst="rect">
            <a:avLst/>
          </a:prstGeom>
          <a:ln w="0">
            <a:noFill/>
          </a:ln>
        </p:spPr>
      </p:pic>
      <p:sp>
        <p:nvSpPr>
          <p:cNvPr id="499" name="WordArt 3"/>
          <p:cNvSpPr txBox="1"/>
          <p:nvPr/>
        </p:nvSpPr>
        <p:spPr>
          <a:xfrm>
            <a:off x="3851280" y="3284640"/>
            <a:ext cx="136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ank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  <p:sp>
        <p:nvSpPr>
          <p:cNvPr id="500" name="WordArt 3"/>
          <p:cNvSpPr txBox="1"/>
          <p:nvPr/>
        </p:nvSpPr>
        <p:spPr>
          <a:xfrm>
            <a:off x="3059280" y="5157720"/>
            <a:ext cx="295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宋体"/>
              </a:rPr>
              <a:t>the end of chapter 10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宋体"/>
              <a:ea typeface="宋体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3"/>
          <p:cNvSpPr/>
          <p:nvPr/>
        </p:nvSpPr>
        <p:spPr>
          <a:xfrm>
            <a:off x="484200" y="3716280"/>
            <a:ext cx="8048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说明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年之内的四季更替是造成时间序列季节波动的主要原因，但还需要对季节做广义的理解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时间序列分析中的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季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一词，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泛指以一年或小于一年为固定周期的一切周期性起作用的因素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34920" y="115920"/>
            <a:ext cx="3017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二、季节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609840" y="2262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</a:rPr>
              <a:t>季节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2268360" y="1893960"/>
            <a:ext cx="640728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时间序列中的观测值随着季节的变更而发生的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性波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，通常以一年为一个波动周期，同一种动态一年重复一次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矩形 3"/>
          <p:cNvSpPr/>
          <p:nvPr/>
        </p:nvSpPr>
        <p:spPr>
          <a:xfrm>
            <a:off x="1200240" y="2924280"/>
            <a:ext cx="6408720" cy="755640"/>
          </a:xfrm>
          <a:prstGeom prst="rect">
            <a:avLst/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538200" y="292428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循环波动与季节波动的不同表现在：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34920" y="115920"/>
            <a:ext cx="8729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三、循环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681480" y="1757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循环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647640" y="36050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通常为一年以上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各个周期的长短不同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5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造成周期性的原因不明确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2124000" y="1571760"/>
            <a:ext cx="664056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指现象以若干年为周期所呈现出的波浪起伏形态的有规律的变动，循环波动也属于</a:t>
            </a:r>
            <a:r>
              <a:rPr b="0" lang="zh-CN" sz="2400" spc="-1" strike="noStrike">
                <a:solidFill>
                  <a:srgbClr val="0000cc"/>
                </a:solidFill>
                <a:latin typeface="宋体"/>
              </a:rPr>
              <a:t>周期波动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1200240" y="2924280"/>
            <a:ext cx="6408720" cy="755640"/>
          </a:xfrm>
          <a:prstGeom prst="rect">
            <a:avLst/>
          </a:prstGeom>
          <a:noFill/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396720" y="3429000"/>
            <a:ext cx="82789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长期趋势、季节波动和循环波动是时间序列本身所固有的规律性；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  <a:p>
            <a:pPr marL="343080" indent="-343080" algn="just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无规则波动没有什么规律性可言，往往是由于短期的、不可预见的和不会重复出现的偶然性因素所造成，如受到自然灾害等不可抗力的影响。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5" name="标题 1"/>
          <p:cNvSpPr/>
          <p:nvPr/>
        </p:nvSpPr>
        <p:spPr>
          <a:xfrm>
            <a:off x="42840" y="155520"/>
            <a:ext cx="344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四、无规则波动</a:t>
            </a:r>
            <a:endParaRPr b="1" lang="en-US" sz="32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6" name="矩形 1"/>
          <p:cNvSpPr/>
          <p:nvPr/>
        </p:nvSpPr>
        <p:spPr>
          <a:xfrm>
            <a:off x="524880" y="2046240"/>
            <a:ext cx="15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Times New Roman"/>
              </a:rPr>
              <a:t>无规则波动</a:t>
            </a:r>
            <a:endParaRPr b="1" lang="en-US" sz="2800" spc="-1" strike="noStrike">
              <a:solidFill>
                <a:srgbClr val="669900"/>
              </a:solidFill>
              <a:latin typeface="Lucida Sans Unicode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411280" y="1700280"/>
            <a:ext cx="633600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是时间序列中无规律可循的变动部分，表现为在时间序列的观测值中，去除掉长期趋势、季节变动和循环波动之后的剩余部分</a:t>
            </a:r>
            <a:endParaRPr b="1" lang="en-US" sz="2400" spc="-1" strike="noStrike">
              <a:solidFill>
                <a:srgbClr val="669900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30T02:27:36Z</dcterms:created>
  <dc:creator>twt</dc:creator>
  <dc:description/>
  <dc:language>en-US</dc:language>
  <cp:lastModifiedBy>ThinkPad</cp:lastModifiedBy>
  <dcterms:modified xsi:type="dcterms:W3CDTF">2018-06-01T22:47:12Z</dcterms:modified>
  <cp:revision>1261</cp:revision>
  <dc:subject/>
  <dc:title>请输入标题</dc:title>
</cp:coreProperties>
</file>