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34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32.png" ContentType="image/png"/>
  <Override PartName="/ppt/media/image31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3B2-418A-4253-AE3E-EB515D7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78D-FD3E-4345-8370-06047E9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676-ADD7-443A-9E2D-F2816B68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FF1-9943-4F57-9AA4-F829DAE8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277-9A68-4C60-BCD2-70E668B7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406-CA3D-4B0F-B668-5EDB7A6D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315-FFD5-45B8-9242-FC63B6B0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D5B-D2BA-4A0B-B1E4-C39B81A6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3DD-6D6B-46CC-84AB-490826D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5DF-E4BF-446A-A98F-AC5C04A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237-1699-4567-AA88-E7A6040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177-F2DC-4CEF-BEB1-4F7426A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591-1D48-4678-8284-688B64FB54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9640" y="633708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336699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D40-6CBB-4A3B-BD60-0D718D6D2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" name="Picture 7" descr="tb3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854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59A-FA90-4884-B4CF-4F203338BEBD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B5FB-1859-42E5-8C8B-0886DAC4F064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§8 .1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对数线性模型基本理论和方法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§8.2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对数线性模型分析的上机实践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§8.3Logistic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回归基本理论和方法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§8.4   Logistic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回归的建模总结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40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afa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f4fafa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4fafa"/>
                </a:solidFill>
                <a:latin typeface="Times New Roman"/>
              </a:rPr>
              <a:t>章   定性数据的建模分析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A5C-1920-4AF2-977D-E200D5C70C2D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79B3-8734-4170-8368-1702B6C7D50C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268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按上面的形式输入数据后，还不能马上进行对数线性模型分析，必须先激活频数，即让频数有效。具体步骤是：使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软件，从主菜单中，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Data→Weight Cases...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顺序，打开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Weight Case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对话框，选中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Weight cases by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单选框，从变量列表中选出“频数”变量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点击</a:t>
            </a:r>
            <a:r>
              <a:rPr b="0" lang="zh-CN" sz="2800" spc="-1" strike="noStrike">
                <a:solidFill>
                  <a:srgbClr val="f4fafa"/>
                </a:solidFill>
                <a:latin typeface="Wingdings"/>
                <a:ea typeface="Wingdings"/>
              </a:rPr>
              <a:t>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钮，使之进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Frequency Variable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框，然后点击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OK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钮，回到数据表格，这时分析前的准备工作就完成了。这一步很重要，如果频数没有被激活，对数线性模型的模块仍会执行命令，但是得出的结果是错误的，所以使用时一定要小心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4B8-AF53-40C5-9AA9-31DD127ACB13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E108-F1A4-459C-BEC5-B08761F03179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05264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数据准备工作完成后，就可以进行下一步的分析了。从主菜单中，按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Analyze→Loglinear→Model Selection...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的流程可打开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Model Selection Loglinear Analysi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对话框，从左侧变量栏里选中“收入情况”，点击</a:t>
            </a:r>
            <a:r>
              <a:rPr b="0" lang="zh-CN" sz="2800" spc="-1" strike="noStrike">
                <a:solidFill>
                  <a:srgbClr val="f4fafa"/>
                </a:solidFill>
                <a:latin typeface="Wingdings"/>
                <a:ea typeface="Wingdings"/>
              </a:rPr>
              <a:t>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钮使之进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Factor(s)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框，这时该框下面的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Define Range...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钮就会从灰色变为黑色，点击弹出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linear Analysis: Define Range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对话框，可以定义变量的范围，即该变量的水平范围，本例中“收入情况”共有三种类型，代号分别是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，所以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Minimum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处键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，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Maximum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处键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，点击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Continue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钮，返回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Model Selection Loglinear Analysi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对话框；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2FA-14E1-4B5B-B2B8-3DFAC422310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D1DF-5EAE-49C4-B7ED-B16E687A8907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19700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按同样方法，把“满意情况”变量选入，并定义其范围为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；然后选中“频数”变量，点击</a:t>
            </a:r>
            <a:r>
              <a:rPr b="0" lang="zh-CN" sz="3200" spc="-1" strike="noStrike">
                <a:solidFill>
                  <a:srgbClr val="f4fafa"/>
                </a:solidFill>
                <a:latin typeface="Wingdings"/>
                <a:ea typeface="Wingdings"/>
              </a:rPr>
              <a:t>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钮使之进入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Cell Weight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框；最后，点击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Options...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钮，进入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linear Analysis:Options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对话框，选择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Display for Saturated Model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栏下的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Parameter estimates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项，点击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Continue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钮返回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Model Selection Loglinear Analysis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对话框，其他选项保持默认值，最后点击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OK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钮即完成分析步骤。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E566-1917-40ED-9EB0-2727CEBE7F9C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9A4-C116-4E6D-8BED-86E4339F8C37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052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得到输出结果及解释如下。见输出结果</a:t>
            </a:r>
            <a:r>
              <a:rPr b="0" lang="en-US" sz="2400" spc="-1" strike="noStrike">
                <a:solidFill>
                  <a:srgbClr val="f4fafa"/>
                </a:solidFill>
                <a:latin typeface="Arial"/>
              </a:rPr>
              <a:t>8-1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2195640" y="1557360"/>
            <a:ext cx="4680000" cy="3240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830160" y="4876920"/>
            <a:ext cx="7486920" cy="128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5121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CB6-722A-4CD6-BBD4-B6717139D4C5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26C1-4497-4790-9812-50BDFA57443E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2272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输出结果</a:t>
            </a:r>
            <a:r>
              <a:rPr b="0" lang="en-US" sz="2400" spc="-1" strike="noStrike">
                <a:solidFill>
                  <a:srgbClr val="f4fafa"/>
                </a:solidFill>
                <a:latin typeface="Arial"/>
              </a:rPr>
              <a:t>8-1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首先提示在饱和模型中采用</a:t>
            </a:r>
            <a:r>
              <a:rPr b="0" lang="en-US" sz="2400" spc="-1" strike="noStrike">
                <a:solidFill>
                  <a:srgbClr val="f4fafa"/>
                </a:solidFill>
                <a:latin typeface="Arial"/>
              </a:rPr>
              <a:t>Dalta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校正值为</a:t>
            </a:r>
            <a:r>
              <a:rPr b="0" lang="en-US" sz="2400" spc="-1" strike="noStrike">
                <a:solidFill>
                  <a:srgbClr val="f4fafa"/>
                </a:solidFill>
                <a:latin typeface="Arial"/>
              </a:rPr>
              <a:t>0.5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，该数值可在对话框中更改，接着列出了模型的一般信息，显示系统对</a:t>
            </a:r>
            <a:r>
              <a:rPr b="0" lang="en-US" sz="2400" spc="-1" strike="noStrike">
                <a:solidFill>
                  <a:srgbClr val="f4fafa"/>
                </a:solidFill>
                <a:latin typeface="Arial"/>
              </a:rPr>
              <a:t>792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例资料进行分析，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这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792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例资料可分为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类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3×2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。模型中共有二个分类变量：其中“收入情况”变量为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水平，“满意情况”情况变量为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水平；分析的效应除了两个分类变量，还有两者的交互作用（收入情况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满意情况）。系统经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次叠代后，即达到相邻二次估计之差不大于规定的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0.001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 见输出结果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8-2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395280" y="3860640"/>
            <a:ext cx="8412120" cy="299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D7F-9132-49F5-9C7A-A7CCF37236C2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05A-2649-4D64-817D-40D7922A08E8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2682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由于本例对模型采用系统默认的饱和模型，因而实际例数（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OBS count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）与期望例数（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EXP count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）相同，进而残差（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Residual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）和标准化残差（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td.Resid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）均为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900000" y="3068640"/>
            <a:ext cx="7128000" cy="1512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26920" y="472428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上表是模型的拟合优度检验，由于是饱和模型，所以卡方值和自由度均为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，而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ig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无信息显示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0D9-8169-4DBA-A4A9-3F8A98B30662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0744-8F00-4898-9BA3-4761D5F6E188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1052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输出结果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8-3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是对模型是否有高阶效应进行检验，原假设是高阶效应为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，即没有高阶效应。表中检验分为两部分。第一部分：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K-way and Higher Order Effects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），是分别利用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Likelihood Ratio 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方法和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Pearson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方法检验模型中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维交互作用以及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维以上交互作用是否显著，两种检验方法均表明，应拒绝原假设，即二维交互作用及一维交互以上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（即主效应）均极显著。第二部分：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K-way Ratio 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方法和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Pearson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方法。结论与第一部分类似，但我们应注意到，由于第二部分是检验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维交互作用自身是否显著，因此在检验一维主效应时不再包含二维交互，因而其卡方值减少，减少的值恰好为二维交互的值。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179280" y="3933720"/>
            <a:ext cx="8809200" cy="2436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964720" cy="496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90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6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D340-535C-4AB1-A69E-A674407F47D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743-A3F7-4D71-B8F1-E3E02EC9E7F0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78487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本节将利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2×2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维的列联表来说明对数线性模型的基本理论和方法，同时利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软件对真实的经济定性数据作分析。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从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2×2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维的列联表的概率表，介绍对数线性模型的基本理论和方法。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042920" y="3911760"/>
            <a:ext cx="7274160" cy="20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2CD-BF64-45F7-90F8-DD94B0CB5A6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A1F-95A1-4371-9730-BD36B0F9E8B3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1116000" y="987480"/>
            <a:ext cx="7416720" cy="510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471-701A-4BC4-9E0A-14D703484E9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EC7-6D3A-4211-969A-BE1FFD86CC75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1413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根据上面的思想，当因变量是一个二元变量时，只取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与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两个值时，因变量取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的概率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p(y=1)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就是要研究的对象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179280" y="3068640"/>
            <a:ext cx="8785440" cy="302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DC1-22F6-4A0C-A2DD-9A0C34582027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45A1-0952-46D6-B809-0FE7B893635F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971640" y="1409760"/>
            <a:ext cx="7307280" cy="3819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029-B0C8-4127-BD17-7D07FBF80D1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E6F-3E96-4D91-9633-517BACCFCA78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12682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回归的另一个好处就是我们只需要知道一件事情（有没有购买、公司成功还是失败）是否发生了，然后再用二元值作为我们的解释变量。从这个二元值中，预测出事件发生或者不发生的概率。如果预测概率大于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0.5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，则预测发生，反之则不发生。需要注意的是，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回归和系数的解释与多元回归的解释不同。程序计算出</a:t>
            </a:r>
            <a:r>
              <a:rPr b="0" lang="en-US" sz="20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000" spc="-1" strike="noStrike">
                <a:solidFill>
                  <a:srgbClr val="f4fafa"/>
                </a:solidFill>
                <a:latin typeface="Times New Roman"/>
              </a:rPr>
              <a:t>系数，比较事件发生与不发生的概率比。</a:t>
            </a:r>
            <a:r>
              <a:rPr b="1" lang="zh-CN" sz="20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395280" y="3284640"/>
            <a:ext cx="8497800" cy="280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B16-2821-4904-BAA9-89185B3BEFFF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9757-2081-42AF-8315-CADAE0E0AAC9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108108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一、分组数据的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回归模型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针对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0-1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型因变量产生的问题，我们对回归模型做两个方面的改进。 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第一，回归函数应该改用限制在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区间内的连续曲线，而不能再沿用直线回归方程。限制在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区间内的连续曲线有很多，例如所有连续型随机变量的分布函数都符合要求，我们常用的是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函数与正态分布函数。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函数的形式为 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1128600" y="4525920"/>
            <a:ext cx="6756480" cy="1711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7440" y="4581360"/>
            <a:ext cx="1015920" cy="5814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.4)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EBD-40E2-4349-820E-206C09D423B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0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E6F3-21A0-42A0-BBB6-F2E9BAD558F4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1193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这里给出几个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函数的图形。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826920" y="1773360"/>
            <a:ext cx="6624720" cy="4271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510200" y="5373720"/>
            <a:ext cx="1108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图</a:t>
            </a:r>
            <a:r>
              <a:rPr b="1" lang="en-US" sz="3200" spc="-1" strike="noStrike">
                <a:solidFill>
                  <a:srgbClr val="f4fafa"/>
                </a:solidFill>
                <a:latin typeface="Arial"/>
              </a:rPr>
              <a:t>8-1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EE9-0531-4FA3-A950-3BA105B95A80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A4E8-1ECD-43D6-8081-56C307C0534F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2050920" y="1197000"/>
            <a:ext cx="5113440" cy="3149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900000" y="4365720"/>
            <a:ext cx="7256520" cy="2409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700360" y="3933720"/>
            <a:ext cx="1008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415-8986-4D28-B86F-470F9931D080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7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9C9-8EFB-43E5-86F4-7378F0686276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1125360"/>
            <a:ext cx="8064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下面通过一个例子来说明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回归模型的应用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4fafa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4fafa"/>
                </a:solidFill>
                <a:latin typeface="Times New Roman"/>
              </a:rPr>
              <a:t>8-2</a:t>
            </a:r>
            <a:r>
              <a:rPr b="1" lang="en-US" sz="2400" spc="-1" strike="noStrike">
                <a:solidFill>
                  <a:srgbClr val="f4fafa"/>
                </a:solidFill>
                <a:latin typeface="Times New Roman"/>
              </a:rPr>
              <a:t>】 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在一次住房展销会上，与房地产商签定初步购房意向书的共有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n=325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名顾客中，在随后的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个月的时间内，只有一部分顾客确实购买了房屋。购买了房屋的顾客记为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没有购买房屋的顾客记为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。以顾客的年家庭收入（万元）为自变量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对如下的数据，建立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回归模型</a:t>
            </a:r>
            <a:r>
              <a:rPr b="1" lang="zh-CN" sz="2800" spc="-1" strike="noStrike">
                <a:solidFill>
                  <a:srgbClr val="f4fafa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1763640" y="3632040"/>
            <a:ext cx="5113440" cy="3248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547640" y="3573360"/>
            <a:ext cx="792360" cy="368280"/>
          </a:xfrm>
          <a:prstGeom prst="rect">
            <a:avLst/>
          </a:prstGeom>
          <a:solidFill>
            <a:srgbClr val="f4fafa"/>
          </a:solidFill>
          <a:ln w="9360">
            <a:solidFill>
              <a:srgbClr val="f4f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1" lang="en-US" sz="1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5663-3F56-44CF-BB88-C745D19656A9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4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4D7E-D331-4804-A3E1-47258E185D1F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8"/>
          <a:stretch/>
        </p:blipFill>
        <p:spPr>
          <a:xfrm>
            <a:off x="539640" y="1227240"/>
            <a:ext cx="7920000" cy="5630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81800" y="177336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.5)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05440" y="328464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.6)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5640" y="4076640"/>
            <a:ext cx="8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6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96000" y="4581360"/>
            <a:ext cx="8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7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6360" y="496872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7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5013360"/>
            <a:ext cx="8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7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1280" y="646128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8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5950080"/>
            <a:ext cx="72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-2</a:t>
            </a:r>
            <a:endParaRPr b="1" lang="en-US" sz="1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9A21-29EF-4661-9B83-3AEF5EF225CF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9147-3544-4D8E-8590-1F2B28BF79DF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1547640" y="442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971640" y="765000"/>
            <a:ext cx="7313400" cy="3686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42920" y="437688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这表明在住房展销会上与房地产商签定初步购房意向书的得年收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万元的家庭中，预计实际购房比例为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59%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。或者说，一个签定初步购房意向书的年收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万元的家庭，其购房概率为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59%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5640" y="119700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8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50920" y="170028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9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200" y="234936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9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07640" y="119700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4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5CB-015F-4A6D-8297-ACC4F26D9A69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C5E-1CCD-41EC-8FA3-0504DE42560A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 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258920" y="1182600"/>
            <a:ext cx="6761160" cy="563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093800" y="3068640"/>
            <a:ext cx="1015920" cy="5814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.1)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6D1B-4FEB-4023-B354-A1EF387AF44F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BBD-DACE-46C3-B40E-4B1497DFB2D5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539640" y="1327320"/>
            <a:ext cx="7993080" cy="4189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563280" y="220500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7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34560" y="2637000"/>
            <a:ext cx="6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7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23640" y="378936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0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23640" y="508464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1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148-BA76-48E8-BC26-31826057B71F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C03-6B94-4A1F-9633-5E6685440F55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826920" y="1197000"/>
            <a:ext cx="7374240" cy="2219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2700360" y="3429000"/>
            <a:ext cx="3959280" cy="1440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0"/>
          <a:stretch/>
        </p:blipFill>
        <p:spPr>
          <a:xfrm>
            <a:off x="468360" y="4869000"/>
            <a:ext cx="4032360" cy="1368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1"/>
          <a:stretch/>
        </p:blipFill>
        <p:spPr>
          <a:xfrm>
            <a:off x="4716360" y="5013360"/>
            <a:ext cx="3672000" cy="1224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908360" y="1197000"/>
            <a:ext cx="50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21080" y="3357720"/>
            <a:ext cx="48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-5</a:t>
            </a:r>
            <a:endParaRPr b="1" lang="en-US" sz="1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31B1-D012-4FF9-AB66-A63FB4D1E21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AC1-A4C6-483C-B8AB-2D6DE17B098E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900000" y="1268280"/>
            <a:ext cx="728820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234560" y="184464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2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78560" y="249228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2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AB4-D2FC-494C-8507-48794B934AF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1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DAD-2B6D-42DC-9F65-509DD7DB4385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1268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以上的例子是只有一个自变量的情况，分组数据的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回归模型可以很方便的推广到多个自变量的情况，在此就不举例说明了。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分组数据的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回归只适用于大样本的分组数据，对小样本的未分组数据不适用。并且以组数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为回归拟合的样本量，使拟合的精度低。实际上，我们可以用极大似然估计直接拟合未分组数据的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回归模型，以下就介绍这个方法。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5A6-559E-4ECB-B2C5-0E5265F274C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C76B-747D-4193-BA49-07D2AE8C1928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105264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Times New Roman"/>
              </a:rPr>
              <a:t>二、未分组数据的</a:t>
            </a:r>
            <a:r>
              <a:rPr b="1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1" lang="zh-CN" sz="2800" spc="-1" strike="noStrike">
                <a:solidFill>
                  <a:srgbClr val="f4fafa"/>
                </a:solidFill>
                <a:latin typeface="Times New Roman"/>
              </a:rPr>
              <a:t>回归模型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8"/>
          <a:stretch/>
        </p:blipFill>
        <p:spPr>
          <a:xfrm>
            <a:off x="839880" y="1484280"/>
            <a:ext cx="7332480" cy="1971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839880" y="3500280"/>
            <a:ext cx="7332480" cy="3314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163280" y="646128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3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A02-19FC-4277-808D-DE5A62DF0FB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825-DC32-4268-B494-9591E12B715C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1065240" y="1103400"/>
            <a:ext cx="7323120" cy="5133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378920" y="170028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4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0560" y="544500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5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866-FF6F-4FD1-809E-72F24E466FA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7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47A5-9AAD-4F62-86CD-735AED13618B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971640" y="1197000"/>
            <a:ext cx="7313400" cy="13809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971640" y="2708280"/>
            <a:ext cx="7323120" cy="27813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3057840" y="1628640"/>
            <a:ext cx="79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.15)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16000" y="2637000"/>
            <a:ext cx="12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68000" y="4724280"/>
            <a:ext cx="50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24C-7C16-4677-A4E6-91F490498797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64C0-93DB-4BF4-8EB7-0D91445667AD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8"/>
          <a:stretch/>
        </p:blipFill>
        <p:spPr>
          <a:xfrm>
            <a:off x="1476360" y="1052640"/>
            <a:ext cx="6048360" cy="3647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5640" y="47196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依次点选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软件的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Analyze-Regression-Binary 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命令，进入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对话框，选入变量，点选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OK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运行，以下是部分运行结果： 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95800" y="907920"/>
            <a:ext cx="659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1" lang="en-US" sz="1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50D-BBEE-44BA-8F5B-99A91FC6C65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02EA-974A-4BBB-96A5-76D30A553081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1042920" y="1197000"/>
            <a:ext cx="6408720" cy="18604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900000" y="3165480"/>
            <a:ext cx="7355160" cy="30002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980000" y="1125360"/>
            <a:ext cx="50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96000" y="3141720"/>
            <a:ext cx="50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620680" y="4221000"/>
            <a:ext cx="105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729-4AF6-46D7-9B46-7E7B32C1BF36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CE77-E79D-4465-B7E7-26EE08F41C03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826920" y="1197000"/>
            <a:ext cx="7274160" cy="17319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9"/>
          <a:stretch/>
        </p:blipFill>
        <p:spPr>
          <a:xfrm>
            <a:off x="900000" y="2997360"/>
            <a:ext cx="7307280" cy="23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 flipV="1" rot="10975800">
            <a:off x="1834560" y="1197000"/>
            <a:ext cx="501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1" lang="en-US" sz="20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D2A-C5FD-4AA2-84A8-E2CAE1A7F8E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89B-B1D8-4F1D-9D44-89C2B35EB7B5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 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24000" y="981000"/>
            <a:ext cx="8640720" cy="554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FD0-D162-478F-9567-5CB10D8E126F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360-B0EF-488A-9185-ACF74BFDD6EE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3Logistic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基本理论和方法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1268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软件没有给出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istic 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回归的标准化回归系数，对于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Logistic 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回归，回归系数也没有普通线性回归那样的解释，因而计算标准化回归系数并不重要。如果要考虑每个自变量在回归方程中的重要性，不妨直接比较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Wald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值（或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Sig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值），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Wald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值大者（或</a:t>
            </a:r>
            <a:r>
              <a:rPr b="0" lang="en-US" sz="3200" spc="-1" strike="noStrike">
                <a:solidFill>
                  <a:srgbClr val="f4fafa"/>
                </a:solidFill>
                <a:latin typeface="Times New Roman"/>
              </a:rPr>
              <a:t>Sig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</a:rPr>
              <a:t>值小者）显著性高，也就更重要。当然这里假定自变量间没有强的复共线性，否则回归系数的大小及其显著性概率都没有意义。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398-FA56-425D-8A2D-74767ADB1400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6A0-8ECB-4686-AF2F-6C6EEF6ACAB2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§8.4 Logistic</a:t>
            </a:r>
            <a:r>
              <a:rPr b="1" lang="zh-CN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的建模总结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1268280"/>
            <a:ext cx="81374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鉴于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与判别分析的相似性，我们可以对比两种方法的相似性和不同点。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的自变量可以是定量变量或定性变量（需要编码），这样可以检验自变量对于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模型的贡献、自变量的显著性以及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模型的判别精度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一般有以下几个步骤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）选择自变量和因变量。这里因变量为分组变量（限于篇幅，我们仅介绍因变量分两组的情况），自变量可以是定量变量和定性变量。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对于资料数据有较强的稳健性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(robustness)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，无须各组自变量的协差阵相等的假定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BC7-0EFF-450C-889F-56C6FD7BDD6B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D6A-1E9D-4D64-9F22-EDBE29C7D5FB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§8.4 Logistic</a:t>
            </a:r>
            <a:r>
              <a:rPr b="1" lang="zh-CN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的建模总结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8360" y="1268280"/>
            <a:ext cx="80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将一部分样品用于估计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函数（分析样品），另一部分样品用于检验模型的判别精度（保留样品）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模型中假定自变量之间不存在高度相关，因变量发生概率的模型服从于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模型。这样我们可以进行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回归估计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估计模型参数，评估拟合情况。选择回归估计的方法对回归参数进行估计并检验回归参数的显著性，对模型的拟合程度检验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解释所得到的模型结果。通过参数的显著性和符号、大小来解释自变量对因变量的意义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）通过保留样本来验证模型的判别精度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5C0-491D-4AB6-B8AE-9671A03A87C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9B5-449C-4335-B879-40BE0604A8B9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54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§8.4 Logistic</a:t>
            </a:r>
            <a:r>
              <a:rPr b="1" lang="zh-CN" sz="3800" spc="-1" strike="noStrike">
                <a:solidFill>
                  <a:srgbClr val="f4fafa"/>
                </a:solidFill>
                <a:latin typeface="Times New Roman"/>
                <a:ea typeface="黑体"/>
              </a:rPr>
              <a:t>回归的建模总结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9640" y="1268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istic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回归的逻辑框图如下：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2556000" y="1773360"/>
            <a:ext cx="3655800" cy="4392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348000" y="5805360"/>
            <a:ext cx="576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8-3)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4"/>
          <p:cNvSpPr txBox="1"/>
          <p:nvPr/>
        </p:nvSpPr>
        <p:spPr>
          <a:xfrm>
            <a:off x="2268360" y="2205000"/>
            <a:ext cx="4499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e end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anks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200-D2A5-4D85-AE23-5DD70782D176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50F-B0A5-410E-9E71-0B65124C44EC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D83-B8C9-423D-92F1-03B51F8701A1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23C8-461E-4396-B957-F77C50BBDEBD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547640" y="442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 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042920" y="620640"/>
            <a:ext cx="72010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755640" y="3083040"/>
            <a:ext cx="7632720" cy="3225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57080" y="1916280"/>
            <a:ext cx="1015920" cy="5814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.2)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2709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由（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8.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式，对数线性模型是固定模型效应的分析，应满足各效应和为零的约束条件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F54-3839-45C7-B9C7-9A3B757F9CCB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043-A26C-4EE8-9A6A-1F864C92B670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47640" y="442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 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042920" y="836640"/>
            <a:ext cx="733284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1074600" y="2951280"/>
            <a:ext cx="7313760" cy="39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B96-7CF3-4D44-BAA0-E50F4DFAFA6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848-AFD9-46DB-995C-1C7BBF967112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§8.1 </a:t>
            </a:r>
            <a:r>
              <a:rPr b="0" lang="zh-CN" sz="34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基本理论和方法</a:t>
            </a:r>
            <a:endParaRPr b="1" lang="en-US" sz="3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179280" y="1773360"/>
            <a:ext cx="896472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EC9F-FB6F-41E4-813B-20782E788E2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27A-B4DE-45BA-BBE3-772C50312877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197000"/>
            <a:ext cx="79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可以使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软件来实现对数线性模型分析。这里举一个例子是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3×2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维的列联表的分析。用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SPSS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软件中的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Loglinear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模块实现分析。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8-1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】 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某企业想了解顾客对其产品是否满意，同时还想了解不同收入的人群对其产品的满意程度是否相同。在随机发放的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份问卷中收回有效问卷</a:t>
            </a:r>
            <a:r>
              <a:rPr b="0" lang="en-US" sz="2800" spc="-1" strike="noStrike">
                <a:solidFill>
                  <a:srgbClr val="f4fafa"/>
                </a:solidFill>
                <a:latin typeface="Times New Roman"/>
              </a:rPr>
              <a:t>792</a:t>
            </a:r>
            <a:r>
              <a:rPr b="0" lang="zh-CN" sz="2800" spc="-1" strike="noStrike">
                <a:solidFill>
                  <a:srgbClr val="f4fafa"/>
                </a:solidFill>
                <a:latin typeface="Times New Roman"/>
              </a:rPr>
              <a:t>份，根据收入高低和满意回答的交叉分组数据如下表：</a:t>
            </a:r>
            <a:endParaRPr b="1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059280" y="4437000"/>
            <a:ext cx="4033800" cy="178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87640" y="4437000"/>
            <a:ext cx="1008000" cy="4597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BCD-BCDA-4212-86A3-66F3F61A535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DD1F-B4EE-44A0-9F8E-FEEAB2403BA2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8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对数线性模型分析的上机实践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26828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</a:rPr>
              <a:t>首先要准备数据，上面的列联表的数据要输入到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</a:rPr>
              <a:t>spss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</a:rPr>
              <a:t>的表格里去，具体见表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</a:rPr>
              <a:t>8-4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755640" y="2349360"/>
            <a:ext cx="4321080" cy="229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5292720" y="2349360"/>
            <a:ext cx="3362400" cy="2600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11720" y="2205000"/>
            <a:ext cx="876960" cy="4597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4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43360" y="4724280"/>
            <a:ext cx="876960" cy="4597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-0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23:37:05Z</dcterms:created>
  <dc:creator>Tao</dc:creator>
  <dc:description/>
  <dc:language>en-US</dc:language>
  <cp:lastModifiedBy>hxq</cp:lastModifiedBy>
  <dcterms:modified xsi:type="dcterms:W3CDTF">2010-11-16T03:22:58Z</dcterms:modified>
  <cp:revision>308</cp:revision>
  <dc:subject/>
  <dc:title>幻灯片 1</dc:title>
</cp:coreProperties>
</file>