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png" ContentType="image/png"/>
  <Override PartName="/ppt/media/image14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28.wmf" ContentType="image/x-wmf"/>
  <Override PartName="/ppt/media/image32.wmf" ContentType="image/x-wmf"/>
  <Override PartName="/ppt/media/image12.png" ContentType="image/png"/>
  <Override PartName="/ppt/media/image35.wmf" ContentType="image/x-wmf"/>
  <Override PartName="/ppt/media/image36.png" ContentType="image/png"/>
  <Override PartName="/ppt/media/image39.wmf" ContentType="image/x-wmf"/>
  <Override PartName="/ppt/media/image41.png" ContentType="image/png"/>
  <Override PartName="/ppt/media/image43.wmf" ContentType="image/x-wmf"/>
  <Override PartName="/ppt/media/image44.png" ContentType="image/png"/>
  <Override PartName="/ppt/media/image33.wmf" ContentType="image/x-wmf"/>
  <Override PartName="/ppt/media/image13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37.wmf" ContentType="image/x-wmf"/>
  <Override PartName="/ppt/media/image49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48.wmf" ContentType="image/x-wmf"/>
  <Override PartName="/ppt/media/image11.wmf" ContentType="image/x-wmf"/>
  <Override PartName="/ppt/media/image5.jpeg" ContentType="image/jpeg"/>
  <Override PartName="/ppt/media/image8.wmf" ContentType="image/x-wmf"/>
  <Override PartName="/ppt/media/image4.jpeg" ContentType="image/jpeg"/>
  <Override PartName="/ppt/media/image40.png" ContentType="image/png"/>
  <Override PartName="/ppt/media/image3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61D-B90D-4F5A-8428-B2EDF6D8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306-1D54-4B96-BE75-F62C94DC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C4D-2C12-4A7E-B910-97CD046C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873-07C2-49C2-8A02-D9840804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75B-CF04-4A4E-9520-C1C487C8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ACB-D10F-4FB1-AF79-806DC73D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941-5A7B-438C-901C-96F0FC12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95D-BC28-429E-8C86-28912D6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13C-39AB-42DF-AA02-EAE0811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012-7F8E-4BE9-BDE0-BB082F2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7EE-FEC1-4117-A47D-F56F5925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283-5253-4C40-9125-2FA0CB5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E9F2-EFD4-4353-AF29-EE74AB1308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9640" y="633708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8350-A509-45D2-802C-EB5CBC1A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" name="Picture 7" descr="tb3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854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3.xml"/><Relationship Id="rId8" Type="http://schemas.openxmlformats.org/officeDocument/2006/relationships/slide" Target="slide27.xml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6.wmf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9.wmf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slide" Target="slide3.xml"/><Relationship Id="rId8" Type="http://schemas.openxmlformats.org/officeDocument/2006/relationships/image" Target="../media/image2.jpeg"/><Relationship Id="rId9" Type="http://schemas.openxmlformats.org/officeDocument/2006/relationships/slide" Target="slide1.xm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7.wmf"/><Relationship Id="rId7" Type="http://schemas.openxmlformats.org/officeDocument/2006/relationships/slide" Target="slide3.xml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9.wmf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29.xml"/><Relationship Id="rId7" Type="http://schemas.openxmlformats.org/officeDocument/2006/relationships/slide" Target="slide31.xm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7.xm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wmf"/><Relationship Id="rId8" Type="http://schemas.openxmlformats.org/officeDocument/2006/relationships/slide" Target="slide27.xml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15.xml"/><Relationship Id="rId8" Type="http://schemas.openxmlformats.org/officeDocument/2006/relationships/slide" Target="slide22.xml"/><Relationship Id="rId9" Type="http://schemas.openxmlformats.org/officeDocument/2006/relationships/slide" Target="slide1.xm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wmf"/><Relationship Id="rId6" Type="http://schemas.openxmlformats.org/officeDocument/2006/relationships/image" Target="../media/image44.png"/><Relationship Id="rId7" Type="http://schemas.openxmlformats.org/officeDocument/2006/relationships/slide" Target="slide27.xml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7.xm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" Target="slide27.xml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9.wmf"/><Relationship Id="rId8" Type="http://schemas.openxmlformats.org/officeDocument/2006/relationships/slide" Target="slide27.xml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" Target="slide3.xml"/><Relationship Id="rId8" Type="http://schemas.openxmlformats.org/officeDocument/2006/relationships/image" Target="../media/image2.jpeg"/><Relationship Id="rId9" Type="http://schemas.openxmlformats.org/officeDocument/2006/relationships/slide" Target="slide1.xm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slide" Target="slide3.xml"/><Relationship Id="rId8" Type="http://schemas.openxmlformats.org/officeDocument/2006/relationships/image" Target="../media/image2.jpeg"/><Relationship Id="rId9" Type="http://schemas.openxmlformats.org/officeDocument/2006/relationships/slide" Target="slide1.xm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5.png"/><Relationship Id="rId5" Type="http://schemas.openxmlformats.org/officeDocument/2006/relationships/slide" Target="slide3.xml"/><Relationship Id="rId6" Type="http://schemas.openxmlformats.org/officeDocument/2006/relationships/image" Target="../media/image2.jpeg"/><Relationship Id="rId7" Type="http://schemas.openxmlformats.org/officeDocument/2006/relationships/slide" Target="slide1.xm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6.png"/><Relationship Id="rId5" Type="http://schemas.openxmlformats.org/officeDocument/2006/relationships/slide" Target="slide3.xml"/><Relationship Id="rId6" Type="http://schemas.openxmlformats.org/officeDocument/2006/relationships/image" Target="../media/image2.jpeg"/><Relationship Id="rId7" Type="http://schemas.openxmlformats.org/officeDocument/2006/relationships/slide" Target="slide1.xm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2.jpeg"/><Relationship Id="rId7" Type="http://schemas.openxmlformats.org/officeDocument/2006/relationships/slide" Target="slide1.xm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3C9-5BCC-4703-9C9E-5C04FFF38891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B64E-3781-432F-9964-A8546AA3CE8C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73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章 </a:t>
            </a:r>
            <a:r>
              <a:rPr b="1" lang="zh-CN" sz="3600" spc="-1" strike="noStrike">
                <a:solidFill>
                  <a:srgbClr val="f4fafa"/>
                </a:solidFill>
                <a:latin typeface="Arial"/>
                <a:ea typeface="黑体"/>
              </a:rPr>
              <a:t>均值向量和协方差阵的检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1547640" y="213372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4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Arial"/>
                <a:ea typeface="黑体"/>
              </a:rPr>
              <a:t>§6.1    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均值向量的检验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1533600" y="2924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4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Arial"/>
                <a:ea typeface="黑体"/>
              </a:rPr>
              <a:t>§6.2    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协方差阵的检验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1547640" y="3645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4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Arial"/>
                <a:ea typeface="黑体"/>
              </a:rPr>
              <a:t>§6.3   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有关检验的上机实现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1153-6EF6-488C-BB22-6654113F4E1C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3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0515-32DE-42D1-9619-F884DFAA959D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3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4046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§2.1.2  </a:t>
            </a:r>
            <a:r>
              <a:rPr b="1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多元均值检验 </a:t>
            </a:r>
            <a:endParaRPr b="0" lang="en-US" sz="3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13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ⅰ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）协方差阵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Σ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已知 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9890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类似于（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6.3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）的统计量（注意（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6.3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）的形式）是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14440" y="2349360"/>
          <a:ext cx="6386400" cy="6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14440" y="2349360"/>
                    <a:ext cx="63864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684360" y="3141720"/>
            <a:ext cx="7488000" cy="804960"/>
            <a:chOff x="684360" y="3141720"/>
            <a:chExt cx="7488000" cy="804960"/>
          </a:xfrm>
        </p:grpSpPr>
        <p:sp>
          <p:nvSpPr>
            <p:cNvPr id="255" name=""/>
            <p:cNvSpPr/>
            <p:nvPr/>
          </p:nvSpPr>
          <p:spPr>
            <a:xfrm>
              <a:off x="684360" y="3141720"/>
              <a:ext cx="74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可以证明，在假设  为真时，统计量   遵从自由度为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  分布；事实上由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§5.5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203640" y="3213000"/>
                  <a:ext cx="35244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5724360" y="3141720"/>
                  <a:ext cx="385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1187280" y="3500280"/>
                  <a:ext cx="397080" cy="4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9" name=""/>
          <p:cNvGraphicFramePr/>
          <p:nvPr/>
        </p:nvGraphicFramePr>
        <p:xfrm>
          <a:off x="684360" y="3933720"/>
          <a:ext cx="6775200" cy="120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3933720"/>
                    <a:ext cx="677520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87560" y="5300640"/>
                <a:ext cx="6102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Σ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900-16CB-4488-9400-C047DB5CE64C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6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9AC-3725-4B60-928C-466870575FC1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6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1484280"/>
            <a:ext cx="8280360" cy="1571760"/>
            <a:chOff x="539640" y="1484280"/>
            <a:chExt cx="8280360" cy="1571760"/>
          </a:xfrm>
        </p:grpSpPr>
        <p:sp>
          <p:nvSpPr>
            <p:cNvPr id="284" name=""/>
            <p:cNvSpPr/>
            <p:nvPr/>
          </p:nvSpPr>
          <p:spPr>
            <a:xfrm>
              <a:off x="539640" y="1484280"/>
              <a:ext cx="828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统计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实质上是样本均值  与已知平均水平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之间的马氏距离的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倍，这个值越大，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与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相等的可能性就越小，因而，在备择假设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成立时，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有变大的趋势，所以拒绝域应取为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值较大的右侧部分。式中  是样本均值，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是样本容量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877080" y="269568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835280" y="1989000"/>
                  <a:ext cx="3110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5148360" y="1870200"/>
                  <a:ext cx="36972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1979640" y="1484280"/>
                  <a:ext cx="3855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788000" y="1484280"/>
                  <a:ext cx="274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X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7236000" y="1484280"/>
                  <a:ext cx="369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3059280" y="2289240"/>
                  <a:ext cx="3315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4394160" y="2205000"/>
                  <a:ext cx="38592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1233360" y="2577960"/>
                  <a:ext cx="38592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932360" y="2568600"/>
                  <a:ext cx="274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X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"/>
          <p:cNvGrpSpPr/>
          <p:nvPr/>
        </p:nvGrpSpPr>
        <p:grpSpPr>
          <a:xfrm>
            <a:off x="395280" y="3213000"/>
            <a:ext cx="8280360" cy="459720"/>
            <a:chOff x="395280" y="3213000"/>
            <a:chExt cx="8280360" cy="459720"/>
          </a:xfrm>
        </p:grpSpPr>
        <p:sp>
          <p:nvSpPr>
            <p:cNvPr id="296" name=""/>
            <p:cNvSpPr/>
            <p:nvPr/>
          </p:nvSpPr>
          <p:spPr>
            <a:xfrm>
              <a:off x="395280" y="321300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当给定显著性水平  后，由样本值可以算出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值，当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419640" y="3227400"/>
              <a:ext cx="3676320" cy="382680"/>
              <a:chOff x="3419640" y="3227400"/>
              <a:chExt cx="3676320" cy="382680"/>
            </a:xfrm>
          </p:grpSpPr>
          <mc:AlternateContent>
            <mc:Choice xmlns:a14="http://schemas.microsoft.com/office/drawing/2010/main" Requires="a14">
              <p:sp>
                <p:nvSpPr>
                  <p:cNvPr id="298" name=""/>
                  <p:cNvSpPr txBox="1"/>
                  <p:nvPr/>
                </p:nvSpPr>
                <p:spPr>
                  <a:xfrm>
                    <a:off x="3419640" y="3314880"/>
                    <a:ext cx="287280" cy="2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299" name=""/>
              <p:cNvGraphicFramePr/>
              <p:nvPr/>
            </p:nvGraphicFramePr>
            <p:xfrm>
              <a:off x="6775560" y="3227400"/>
              <a:ext cx="320400" cy="3826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775560" y="3227400"/>
                        <a:ext cx="320400" cy="38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63640" y="3716280"/>
                <a:ext cx="4321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1280" y="4508640"/>
            <a:ext cx="8064360" cy="802800"/>
            <a:chOff x="611280" y="4508640"/>
            <a:chExt cx="8064360" cy="802800"/>
          </a:xfrm>
        </p:grpSpPr>
        <p:sp>
          <p:nvSpPr>
            <p:cNvPr id="304" name=""/>
            <p:cNvSpPr/>
            <p:nvPr/>
          </p:nvSpPr>
          <p:spPr>
            <a:xfrm>
              <a:off x="611280" y="450864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时，便拒绝零假设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说明均值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不等于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其中    是自由度为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  分布的分为点。即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132000" y="4581360"/>
                  <a:ext cx="352440" cy="37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213600" y="4551120"/>
                  <a:ext cx="3110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7380360" y="4508640"/>
                  <a:ext cx="72072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397240" y="4868640"/>
                  <a:ext cx="3934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771640" y="5445000"/>
                <a:ext cx="23767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&gt;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E60-4230-4F2F-BB6D-0FAC26FE72A2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5444-A1CC-4CEB-8E5B-34E0E9DABB35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1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13413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）协方差阵</a:t>
            </a:r>
            <a:r>
              <a:rPr b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Σ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未知 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68360" y="1916280"/>
            <a:ext cx="8424720" cy="744480"/>
            <a:chOff x="468360" y="1916280"/>
            <a:chExt cx="8424720" cy="744480"/>
          </a:xfrm>
        </p:grpSpPr>
        <p:sp>
          <p:nvSpPr>
            <p:cNvPr id="332" name=""/>
            <p:cNvSpPr/>
            <p:nvPr/>
          </p:nvSpPr>
          <p:spPr>
            <a:xfrm>
              <a:off x="468360" y="198900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此时</a:t>
              </a:r>
              <a:r>
                <a:rPr b="1" lang="en-US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Σ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的无偏估计是             ，类似于式（</a:t>
              </a:r>
              <a:r>
                <a:rPr b="1" lang="en-US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6.3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）的统计量是：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4356000" y="1916280"/>
                  <a:ext cx="122400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Σ</m:t>
                          </m:r>
                        </m:e>
                        <m:lim/>
                      </m:limUpp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541520" y="2781360"/>
                <a:ext cx="388152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limUpp>
                              <m:e>
                                <m:r>
                                  <m:t xml:space="preserve">Σ</m:t>
                                </m:r>
                              </m:e>
                              <m:lim/>
                            </m:limUpp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539640" y="4221000"/>
            <a:ext cx="8208720" cy="1191240"/>
            <a:chOff x="539640" y="4221000"/>
            <a:chExt cx="8208720" cy="1191240"/>
          </a:xfrm>
        </p:grpSpPr>
        <p:sp>
          <p:nvSpPr>
            <p:cNvPr id="336" name=""/>
            <p:cNvSpPr/>
            <p:nvPr/>
          </p:nvSpPr>
          <p:spPr>
            <a:xfrm>
              <a:off x="539640" y="4221000"/>
              <a:ext cx="820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可以证明，统计量遵从参数为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-1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的   分布，即         。统计量  实际上也是样本均值  与已知均值向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之间的马氏距离再乘以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-1)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这个值越大，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与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相等的可能性就越小。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6876720" y="424980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056960" y="4640400"/>
                  <a:ext cx="111780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563640" y="465300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516360" y="4533840"/>
                  <a:ext cx="54792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X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231560" y="4956120"/>
                  <a:ext cx="37008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8316720" y="4956120"/>
                  <a:ext cx="36972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EB78-4F3F-4BD4-BE5A-D4B176E1BB76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4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47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215F-1F92-4480-AD9E-0CCC140917E2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4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9640" y="1484280"/>
            <a:ext cx="7993080" cy="1106640"/>
            <a:chOff x="539640" y="1484280"/>
            <a:chExt cx="7993080" cy="1106640"/>
          </a:xfrm>
        </p:grpSpPr>
        <p:sp>
          <p:nvSpPr>
            <p:cNvPr id="366" name=""/>
            <p:cNvSpPr/>
            <p:nvPr/>
          </p:nvSpPr>
          <p:spPr>
            <a:xfrm>
              <a:off x="539640" y="148428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因而，在备择假设成立时，  的值有变大的趋势，所以拒绝域可取为    值较大的右侧部分。因此，当给定显著性水平  后，由样本的数值可立即算出    值，当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187280" y="2320920"/>
                  <a:ext cx="2876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4673520" y="1512720"/>
                  <a:ext cx="3603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484360" y="1887480"/>
                  <a:ext cx="3603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5378400" y="2233440"/>
                  <a:ext cx="3603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55640" y="2924280"/>
            <a:ext cx="5649840" cy="1224000"/>
            <a:chOff x="755640" y="2924280"/>
            <a:chExt cx="5649840" cy="1224000"/>
          </a:xfrm>
        </p:grpSpPr>
        <p:graphicFrame>
          <p:nvGraphicFramePr>
            <p:cNvPr id="374" name=""/>
            <p:cNvGraphicFramePr/>
            <p:nvPr/>
          </p:nvGraphicFramePr>
          <p:xfrm>
            <a:off x="2157120" y="2924280"/>
            <a:ext cx="4248360" cy="493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57120" y="2924280"/>
                      <a:ext cx="42483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755640" y="364320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时，便拒绝零假设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3217680" y="3716280"/>
                  <a:ext cx="4320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86040" y="346392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79" name=""/>
          <p:cNvGrpSpPr/>
          <p:nvPr/>
        </p:nvGrpSpPr>
        <p:grpSpPr>
          <a:xfrm>
            <a:off x="719280" y="4292640"/>
            <a:ext cx="8424720" cy="887400"/>
            <a:chOff x="719280" y="4292640"/>
            <a:chExt cx="8424720" cy="887400"/>
          </a:xfrm>
        </p:grpSpPr>
        <p:sp>
          <p:nvSpPr>
            <p:cNvPr id="380" name=""/>
            <p:cNvSpPr/>
            <p:nvPr/>
          </p:nvSpPr>
          <p:spPr>
            <a:xfrm>
              <a:off x="719280" y="429264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的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%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及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1%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分位点已列成专表，由网上下载，        为     的上  分位点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1187280" y="4695840"/>
                  <a:ext cx="6494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028880" y="4321080"/>
                  <a:ext cx="28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7827840" y="4292640"/>
                  <a:ext cx="10591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498760" y="4753080"/>
                  <a:ext cx="3603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5FF-BE45-43DC-A374-B73FBDE79B1D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8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89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D2F2-CAE3-4293-8169-92FCF5E95D01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9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50920" y="1557360"/>
            <a:ext cx="8604000" cy="520560"/>
            <a:chOff x="250920" y="1557360"/>
            <a:chExt cx="8604000" cy="520560"/>
          </a:xfrm>
        </p:grpSpPr>
        <p:sp>
          <p:nvSpPr>
            <p:cNvPr id="407" name=""/>
            <p:cNvSpPr/>
            <p:nvPr/>
          </p:nvSpPr>
          <p:spPr>
            <a:xfrm>
              <a:off x="250920" y="1557360"/>
              <a:ext cx="86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由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§5.5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将  统计量乘上一个适当的常数后，便成为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统计量，也可用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表获得零假设的拒绝域。即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2325600" y="1614600"/>
                  <a:ext cx="43200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9" name=""/>
          <p:cNvGraphicFramePr/>
          <p:nvPr/>
        </p:nvGraphicFramePr>
        <p:xfrm>
          <a:off x="1103400" y="2637000"/>
          <a:ext cx="7154640" cy="91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3400" y="2637000"/>
                    <a:ext cx="71546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1" name=""/>
          <p:cNvGrpSpPr/>
          <p:nvPr/>
        </p:nvGrpSpPr>
        <p:grpSpPr>
          <a:xfrm>
            <a:off x="250920" y="3573360"/>
            <a:ext cx="6912000" cy="520560"/>
            <a:chOff x="250920" y="3573360"/>
            <a:chExt cx="6912000" cy="520560"/>
          </a:xfrm>
        </p:grpSpPr>
        <p:sp>
          <p:nvSpPr>
            <p:cNvPr id="412" name=""/>
            <p:cNvSpPr/>
            <p:nvPr/>
          </p:nvSpPr>
          <p:spPr>
            <a:xfrm>
              <a:off x="250920" y="3573360"/>
              <a:ext cx="69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关于  、   的合理性及推证见参考文献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[4]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1258920" y="3618000"/>
                  <a:ext cx="433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1908000" y="3630600"/>
                  <a:ext cx="38124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"/>
          <p:cNvSpPr/>
          <p:nvPr/>
        </p:nvSpPr>
        <p:spPr>
          <a:xfrm>
            <a:off x="250920" y="4076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在实际工作中，一元检验与多元检验可以联合使用，多元的检验具有概括和全面考察的特点，而一元的检验容易发现各指标之间的关系和差异，能帮助我们找出存在差异的侧重面，提供了更多的统计分析信息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669B-BDD9-4564-924C-40C0C818A1B5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1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0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065B-F50D-4A1F-958C-568FEA5DA8E5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2400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92360" y="40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三、  两总体均值的比较 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7280" y="1844640"/>
            <a:ext cx="54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413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在许多实际问题中，往往要比较两个总体之间的平均水平有无差异。例如，两所大学新生录取成绩是否有明显差异；研究职工工资总额的构成情况，若按国民经济行业分组，就是例如要研究工业与建筑业这两个行业之间，是否有明显的不同之处；同理，可按工业领导关系（中央、省、市、县属工业）分组；也可按工业行业分组。组与组之间的工资总额构成有无显著差异，本质上就是两个总体的均值向量是否相等，这类问题，通常也称为两样本问题。两总体均值比较的问题，又可分为两总体协方差阵相等与两总体协方差阵不等两种情形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E83-05A3-41AA-9295-ADAAD7CA370D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4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3E30-B88F-496F-B3EB-E41D8530B819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4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2400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141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协方差阵相等的情形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9640" y="5157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进行检验。与前面类似的统计量的形式是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14480" y="1989000"/>
            <a:ext cx="8778600" cy="2545560"/>
            <a:chOff x="114480" y="1989000"/>
            <a:chExt cx="8778600" cy="2545560"/>
          </a:xfrm>
        </p:grpSpPr>
        <p:sp>
          <p:nvSpPr>
            <p:cNvPr id="457" name=""/>
            <p:cNvSpPr/>
            <p:nvPr/>
          </p:nvSpPr>
          <p:spPr>
            <a:xfrm>
              <a:off x="179280" y="1989000"/>
              <a:ext cx="8713800" cy="25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                为来自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正态总体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容量为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样本，                                                                                                                                                               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是来自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正态总体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容量为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样本，且两样本之间相互独立，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假定两总体协方差阵相等，但未知，现对假设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14480" y="3068640"/>
                  <a:ext cx="21603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"/>
            <p:cNvSpPr/>
            <p:nvPr/>
          </p:nvSpPr>
          <p:spPr>
            <a:xfrm>
              <a:off x="4426200" y="3024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1677960" y="2117880"/>
                  <a:ext cx="504036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1332000" y="2608200"/>
                  <a:ext cx="129528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3981600" y="2492280"/>
                  <a:ext cx="387360" cy="61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5651640" y="2608200"/>
                  <a:ext cx="322740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α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514760" y="332100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089680" y="3141720"/>
                  <a:ext cx="12697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7596360" y="2967120"/>
                  <a:ext cx="38700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788000" y="3544920"/>
                  <a:ext cx="19447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p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68" name=""/>
          <p:cNvGraphicFramePr/>
          <p:nvPr/>
        </p:nvGraphicFramePr>
        <p:xfrm>
          <a:off x="1708200" y="4552920"/>
          <a:ext cx="5656320" cy="56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08200" y="4552920"/>
                    <a:ext cx="5656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07D-FB12-42F2-807C-3F217782DEC0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4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D9C-3A65-4396-82D5-4DD24828B70D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7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-32400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911160" y="1413000"/>
          <a:ext cx="7680240" cy="161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1160" y="1413000"/>
                    <a:ext cx="768024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971640" y="2997360"/>
                <a:ext cx="4895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是协方差阵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的估计量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900000" y="3933720"/>
                <a:ext cx="7426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是两个总体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样本离差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8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8F9F-9124-4927-8DED-7DEE62963505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2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474-2CFB-4C0F-8E15-150E1A17EB8A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9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838080" y="1378080"/>
                <a:ext cx="6459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当假设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从而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03" name=""/>
          <p:cNvGraphicFramePr/>
          <p:nvPr/>
        </p:nvGraphicFramePr>
        <p:xfrm>
          <a:off x="685800" y="1905120"/>
          <a:ext cx="742968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1905120"/>
                    <a:ext cx="74296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5" name=""/>
          <p:cNvGrpSpPr/>
          <p:nvPr/>
        </p:nvGrpSpPr>
        <p:grpSpPr>
          <a:xfrm>
            <a:off x="611280" y="2708280"/>
            <a:ext cx="8504280" cy="723960"/>
            <a:chOff x="611280" y="2708280"/>
            <a:chExt cx="8504280" cy="723960"/>
          </a:xfrm>
        </p:grpSpPr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611280" y="2867040"/>
                  <a:ext cx="4537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当备择假设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≠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成立时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5191200" y="2708280"/>
                  <a:ext cx="392436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</m:den>
                      </m:f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有变大的趋势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84360" y="3544920"/>
            <a:ext cx="8459640" cy="2671560"/>
            <a:chOff x="684360" y="3544920"/>
            <a:chExt cx="8459640" cy="2671560"/>
          </a:xfrm>
        </p:grpSpPr>
        <p:sp>
          <p:nvSpPr>
            <p:cNvPr id="512" name=""/>
            <p:cNvSpPr/>
            <p:nvPr/>
          </p:nvSpPr>
          <p:spPr>
            <a:xfrm>
              <a:off x="684360" y="3544920"/>
              <a:ext cx="8459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因为  的值与总体均值的马氏距离                 成正比例，此值愈大，说明两总体的均值很接近的可能性就愈小，因而拒绝域可以取为  值较大的右侧区域，即当给定显著性水平  的值时，若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时，拒绝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否则没有足够理由拒绝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1828800" y="3629160"/>
                  <a:ext cx="3603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865840" y="3587760"/>
                  <a:ext cx="24480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'</m:t>
                      </m:r>
                      <m:s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3476520" y="4336920"/>
                  <a:ext cx="3603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1100160" y="4765680"/>
                  <a:ext cx="28728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517" name=""/>
            <p:cNvGraphicFramePr/>
            <p:nvPr/>
          </p:nvGraphicFramePr>
          <p:xfrm>
            <a:off x="1015920" y="5129280"/>
            <a:ext cx="7239240" cy="509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15920" y="5129280"/>
                      <a:ext cx="7239240" cy="50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2008080" y="5813280"/>
                  <a:ext cx="3891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757840" y="5784840"/>
                  <a:ext cx="432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2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E1A8-DE59-4B2C-88AF-5DDABF0932DA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C96B-33EB-476D-9B00-F41BB0A74061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2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62800" y="1340640"/>
            <a:ext cx="24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协方差阵不相等情形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9640" y="1916280"/>
            <a:ext cx="8037720" cy="3533760"/>
            <a:chOff x="539640" y="1916280"/>
            <a:chExt cx="8037720" cy="3533760"/>
          </a:xfrm>
        </p:grpSpPr>
        <p:sp>
          <p:nvSpPr>
            <p:cNvPr id="541" name=""/>
            <p:cNvSpPr/>
            <p:nvPr/>
          </p:nvSpPr>
          <p:spPr>
            <a:xfrm>
              <a:off x="539640" y="1916280"/>
              <a:ext cx="7848720" cy="23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从两个总体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        ，分别抽取容量为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两个样本，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 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假定两总体协方差阵不相等，我们考虑对假设（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6.9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作检验。这是著名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Behrens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—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isher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问题。长期以来，统计学家用许多方法试图解决这个问题。当  与  相差较大时， 统计量的形式是</a:t>
              </a: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：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2050920" y="2276640"/>
                  <a:ext cx="3873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5148360" y="2421000"/>
                  <a:ext cx="34290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3538440" y="1989000"/>
                  <a:ext cx="13464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5272200" y="1989000"/>
                  <a:ext cx="142236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2771640" y="2276640"/>
                  <a:ext cx="3873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059280" y="3025800"/>
                  <a:ext cx="322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α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611280" y="2997360"/>
                  <a:ext cx="210168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6012000" y="2997360"/>
                  <a:ext cx="216036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655560" y="3584520"/>
                  <a:ext cx="20163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3924360" y="4998960"/>
                  <a:ext cx="3585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4618080" y="4998960"/>
                  <a:ext cx="39204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6891480" y="4956120"/>
                  <a:ext cx="4316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191D-1355-4F23-BBD8-5DC98CD91DC4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7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8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6B36-6E27-48D9-A4DD-818A2F8C045D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9640" y="1413000"/>
            <a:ext cx="8353080" cy="4227480"/>
            <a:chOff x="539640" y="1413000"/>
            <a:chExt cx="8353080" cy="4227480"/>
          </a:xfrm>
        </p:grpSpPr>
        <p:grpSp>
          <p:nvGrpSpPr>
            <p:cNvPr id="68" name=""/>
            <p:cNvGrpSpPr/>
            <p:nvPr/>
          </p:nvGrpSpPr>
          <p:grpSpPr>
            <a:xfrm>
              <a:off x="539640" y="1413000"/>
              <a:ext cx="8353080" cy="4227480"/>
              <a:chOff x="539640" y="1413000"/>
              <a:chExt cx="8353080" cy="4227480"/>
            </a:xfrm>
          </p:grpSpPr>
          <p:pic>
            <p:nvPicPr>
              <p:cNvPr id="6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1413000"/>
                <a:ext cx="8353080" cy="4227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1847520" y="2421000"/>
                    <a:ext cx="52632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4417200" y="3321000"/>
                    <a:ext cx="12528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4034880" y="4076640"/>
                <a:ext cx="472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Arial"/>
                    <a:ea typeface="黑体"/>
                  </a:rPr>
                  <a:t>以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276360" y="4581360"/>
              <a:ext cx="141768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做检验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D7F-73E8-42C8-BEA2-413502786B2F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57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58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D561-D22B-4D18-B4B8-1C36E0C42F7A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5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826920" y="1341360"/>
          <a:ext cx="6840720" cy="131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341360"/>
                    <a:ext cx="68407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971640" y="3500280"/>
          <a:ext cx="6335640" cy="200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500280"/>
                    <a:ext cx="63356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6" name=""/>
          <p:cNvGrpSpPr/>
          <p:nvPr/>
        </p:nvGrpSpPr>
        <p:grpSpPr>
          <a:xfrm>
            <a:off x="684360" y="2781360"/>
            <a:ext cx="8459640" cy="662040"/>
            <a:chOff x="684360" y="2781360"/>
            <a:chExt cx="8459640" cy="662040"/>
          </a:xfrm>
        </p:grpSpPr>
        <p:sp>
          <p:nvSpPr>
            <p:cNvPr id="577" name=""/>
            <p:cNvSpPr/>
            <p:nvPr/>
          </p:nvSpPr>
          <p:spPr>
            <a:xfrm>
              <a:off x="684360" y="2852640"/>
              <a:ext cx="67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式中，    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统计含义与前相同，再令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578" name=""/>
            <p:cNvGraphicFramePr/>
            <p:nvPr/>
          </p:nvGraphicFramePr>
          <p:xfrm>
            <a:off x="6588000" y="2798640"/>
            <a:ext cx="2556000" cy="64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88000" y="2798640"/>
                      <a:ext cx="255600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1476360" y="2781360"/>
                  <a:ext cx="14400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X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,</m:t>
                      </m:r>
                      <m:limUpp>
                        <m:e>
                          <m:r>
                            <m:t xml:space="preserve">Y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,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sSub>
                        <m:e>
                          <m:r>
                            <m:t xml:space="preserve">和L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114-D8E4-4EBD-BB51-C4EDDC0B1024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8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8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605-DD72-4513-9323-55140E9C728C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8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249200" y="3645000"/>
          <a:ext cx="7293240" cy="82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49200" y="3645000"/>
                    <a:ext cx="729324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25400" y="4797360"/>
                <a:ext cx="5173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时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近似于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95280" y="1557360"/>
            <a:ext cx="8424720" cy="1818000"/>
            <a:chOff x="395280" y="1557360"/>
            <a:chExt cx="8424720" cy="1818000"/>
          </a:xfrm>
        </p:grpSpPr>
        <p:grpSp>
          <p:nvGrpSpPr>
            <p:cNvPr id="605" name=""/>
            <p:cNvGrpSpPr/>
            <p:nvPr/>
          </p:nvGrpSpPr>
          <p:grpSpPr>
            <a:xfrm>
              <a:off x="395280" y="1557360"/>
              <a:ext cx="8424720" cy="1818000"/>
              <a:chOff x="395280" y="1557360"/>
              <a:chExt cx="8424720" cy="1818000"/>
            </a:xfrm>
          </p:grpSpPr>
          <p:sp>
            <p:nvSpPr>
              <p:cNvPr id="606" name=""/>
              <p:cNvSpPr/>
              <p:nvPr/>
            </p:nvSpPr>
            <p:spPr>
              <a:xfrm>
                <a:off x="395280" y="1557360"/>
                <a:ext cx="842472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当假设（</a:t>
                </a:r>
                <a:r>
                  <a:rPr b="1" lang="en-US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6.9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）的</a:t>
                </a:r>
                <a:r>
                  <a:rPr b="1" i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成立时，可以证明（见文献</a:t>
                </a:r>
                <a:r>
                  <a:rPr b="1" lang="en-US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[4])  </a:t>
                </a:r>
                <a:endParaRPr b="0" lang="en-US" sz="2800" spc="-1" strike="noStrike">
                  <a:solidFill>
                    <a:srgbClr val="f4faf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       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近似遵从第一自由度为</a:t>
                </a:r>
                <a:r>
                  <a:rPr b="1" i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、第二自由度为</a:t>
                </a:r>
                <a:r>
                  <a:rPr b="1" i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   </a:t>
                </a:r>
                <a:endParaRPr b="0" lang="en-US" sz="2800" spc="-1" strike="noStrike">
                  <a:solidFill>
                    <a:srgbClr val="f4fafa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     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的</a:t>
                </a:r>
                <a:r>
                  <a:rPr b="1" i="1" lang="en-US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F</a:t>
                </a:r>
                <a:r>
                  <a:rPr b="1" lang="zh-CN" sz="28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分布，即</a:t>
                </a:r>
                <a:endParaRPr b="0" lang="en-US" sz="28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7" name=""/>
                  <p:cNvSpPr txBox="1"/>
                  <p:nvPr/>
                </p:nvSpPr>
                <p:spPr>
                  <a:xfrm>
                    <a:off x="5910120" y="2349360"/>
                    <a:ext cx="351000" cy="379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08" name=""/>
                  <p:cNvSpPr txBox="1"/>
                  <p:nvPr/>
                </p:nvSpPr>
                <p:spPr>
                  <a:xfrm>
                    <a:off x="539640" y="2852640"/>
                    <a:ext cx="1440000" cy="51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09" name=""/>
                  <p:cNvSpPr txBox="1"/>
                  <p:nvPr/>
                </p:nvSpPr>
                <p:spPr>
                  <a:xfrm>
                    <a:off x="684360" y="2133720"/>
                    <a:ext cx="158400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3549600" y="1657440"/>
                  <a:ext cx="432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5DD-C428-43CD-8CDA-B347FE027440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1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1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C4C3-F3ED-406E-AC3C-10B8ED694E5E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1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08000" y="40464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四、  多总体均值的检验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16286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在许多实际问题中，我们要研究的总体往往不止两个。例如，要对全国的工业行业的生产经营状况做一比较时，一个行业可以看成一个总体，此时要研究的总体就达几十甚至几百个之多。这类问题的研究就需要多元方差分析的知识。多元方差分析是一元方差分析的直接推广，为了易于理解多元方差分析的方法，我们先回顾</a:t>
            </a:r>
            <a:r>
              <a:rPr b="1" lang="zh-TW" sz="2800" spc="-1" strike="noStrike">
                <a:solidFill>
                  <a:srgbClr val="f4fafa"/>
                </a:solidFill>
                <a:latin typeface="Arial"/>
                <a:ea typeface="黑体"/>
              </a:rPr>
              <a:t>一元的方差分析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3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EFF5-12BA-4292-8A63-97C5D3AAB1A9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3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37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42AD-669F-4496-8F0D-46EE4A52CD00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3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0" y="1268280"/>
            <a:ext cx="8820000" cy="1722600"/>
            <a:chOff x="0" y="1268280"/>
            <a:chExt cx="8820000" cy="1722600"/>
          </a:xfrm>
        </p:grpSpPr>
        <p:pic>
          <p:nvPicPr>
            <p:cNvPr id="656" name="" descr=""/>
            <p:cNvPicPr/>
            <p:nvPr/>
          </p:nvPicPr>
          <p:blipFill>
            <a:blip r:embed="rId4"/>
            <a:stretch/>
          </p:blipFill>
          <p:spPr>
            <a:xfrm>
              <a:off x="0" y="1268280"/>
              <a:ext cx="8820000" cy="1722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1116000" y="1987560"/>
                  <a:ext cx="36036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3708360" y="1996920"/>
                  <a:ext cx="3589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59" name=""/>
          <p:cNvGraphicFramePr/>
          <p:nvPr/>
        </p:nvGraphicFramePr>
        <p:xfrm>
          <a:off x="2124000" y="2637000"/>
          <a:ext cx="4248360" cy="22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4248360" cy="22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395280" y="5012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假设</a:t>
            </a:r>
            <a:r>
              <a:rPr b="0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r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个总体的方差相等，要检验的假设就是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826920" y="5589720"/>
                <a:ext cx="7490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至少存在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使得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1619280" y="1413000"/>
            <a:ext cx="5562360" cy="4855680"/>
            <a:chOff x="1619280" y="1413000"/>
            <a:chExt cx="5562360" cy="4855680"/>
          </a:xfrm>
        </p:grpSpPr>
        <p:graphicFrame>
          <p:nvGraphicFramePr>
            <p:cNvPr id="666" name=""/>
            <p:cNvGraphicFramePr/>
            <p:nvPr/>
          </p:nvGraphicFramePr>
          <p:xfrm>
            <a:off x="1619280" y="1413000"/>
            <a:ext cx="5562360" cy="485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19280" y="1413000"/>
                      <a:ext cx="5562360" cy="48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8" name=""/>
            <p:cNvSpPr/>
            <p:nvPr/>
          </p:nvSpPr>
          <p:spPr>
            <a:xfrm>
              <a:off x="5799600" y="3554280"/>
              <a:ext cx="210240" cy="586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6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D8A5-C434-45EE-A903-01751C9DB7D4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1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BE6-CBFE-4004-8510-8ED29F007025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76360" y="620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这个检验的统计量与下列平方和密切相关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6"/>
          <a:stretch/>
        </p:blipFill>
        <p:spPr>
          <a:xfrm>
            <a:off x="4519440" y="3376440"/>
            <a:ext cx="105120" cy="1051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7"/>
          <a:stretch/>
        </p:blipFill>
        <p:spPr>
          <a:xfrm>
            <a:off x="4519440" y="3376440"/>
            <a:ext cx="105120" cy="10512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3" name=""/>
          <p:cNvGraphicFramePr/>
          <p:nvPr/>
        </p:nvGraphicFramePr>
        <p:xfrm>
          <a:off x="1476360" y="5013360"/>
          <a:ext cx="606600" cy="64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5013360"/>
                    <a:ext cx="606600" cy="649080"/>
                  </a:xfrm>
                  <a:prstGeom prst="rect">
                    <a:avLst/>
                  </a:prstGeom>
                  <a:ln w="9360">
                    <a:solidFill>
                      <a:srgbClr val="f4fafa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D50-CA11-4380-8619-3F3F0E277FEB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9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97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D14E-6A98-415B-8086-310EFCC3C6BF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9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50920" y="1341360"/>
                <a:ext cx="795312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当假设为真的，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统计量遵从自由度为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>
                          <m:t xml:space="preserve">,</m:t>
                        </m:r>
                        <m:r>
                          <m:t xml:space="preserve">（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分布，记为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零假设的拒绝域为：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（</m:t>
                        </m:r>
                        <m:r>
                          <m:t xml:space="preserve">α</m:t>
                        </m:r>
                        <m:r>
                          <m:t xml:space="preserve">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831708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6" name=""/>
          <p:cNvGraphicFramePr/>
          <p:nvPr/>
        </p:nvGraphicFramePr>
        <p:xfrm>
          <a:off x="826920" y="4221000"/>
          <a:ext cx="7993080" cy="20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221000"/>
                    <a:ext cx="799308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AA63-5EBF-4D80-8315-54F9C6632008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2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22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6951-EFD0-4A9D-903F-FEF8229E4BE9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2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50920" y="1341360"/>
          <a:ext cx="8675640" cy="58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341360"/>
                    <a:ext cx="8675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12852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用类似于一元方差分析的办法，前面所述的三个平方和变成了矩阵，形式如下： 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228680" y="2781360"/>
          <a:ext cx="6039000" cy="21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8680" y="2781360"/>
                    <a:ext cx="603900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539640" y="501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很显然</a:t>
            </a:r>
            <a:r>
              <a:rPr b="1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W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E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关于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的检验可用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Wilks Λ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分布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再化为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F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分布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详细参考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5.5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节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26C-6CD4-442D-BA76-60D314933538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49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825-7CB6-4A40-9532-E14D547E3276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24000" y="476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Arial"/>
                <a:ea typeface="黑体"/>
              </a:rPr>
              <a:t>§6.2    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协方差阵的检验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47640" y="2205000"/>
            <a:ext cx="5834160" cy="642960"/>
            <a:chOff x="1547640" y="2205000"/>
            <a:chExt cx="5834160" cy="642960"/>
          </a:xfrm>
        </p:grpSpPr>
        <p:sp>
          <p:nvSpPr>
            <p:cNvPr id="769" name="">
              <a:hlinkClick r:id="rId6" action="ppaction://hlinksldjump"/>
            </p:cNvPr>
            <p:cNvSpPr/>
            <p:nvPr/>
          </p:nvSpPr>
          <p:spPr>
            <a:xfrm>
              <a:off x="1547640" y="2205000"/>
              <a:ext cx="58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一、检验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0" name=""/>
                <p:cNvSpPr txBox="1"/>
                <p:nvPr/>
              </p:nvSpPr>
              <p:spPr>
                <a:xfrm>
                  <a:off x="4140360" y="2276640"/>
                  <a:ext cx="10792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1" name=""/>
          <p:cNvGrpSpPr/>
          <p:nvPr/>
        </p:nvGrpSpPr>
        <p:grpSpPr>
          <a:xfrm>
            <a:off x="1547640" y="3284640"/>
            <a:ext cx="5834160" cy="631800"/>
            <a:chOff x="1547640" y="3284640"/>
            <a:chExt cx="5834160" cy="631800"/>
          </a:xfrm>
        </p:grpSpPr>
        <p:sp>
          <p:nvSpPr>
            <p:cNvPr id="772" name="">
              <a:hlinkClick r:id="rId7" action="ppaction://hlinksldjump"/>
            </p:cNvPr>
            <p:cNvSpPr/>
            <p:nvPr/>
          </p:nvSpPr>
          <p:spPr>
            <a:xfrm>
              <a:off x="1547640" y="3284640"/>
              <a:ext cx="58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二、检验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4140360" y="3305160"/>
                  <a:ext cx="21603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4" name="" descr=""/>
          <p:cNvPicPr/>
          <p:nvPr/>
        </p:nvPicPr>
        <p:blipFill>
          <a:blip r:embed="rId8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CF75-6142-49CD-B82F-5422398F34FE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7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77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B4A3-A06D-416B-A2BD-8C7456BA27EB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7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24000" y="1916280"/>
            <a:ext cx="831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上面讨论了多元正态分布均值的检验。但这仅仅研究了问题的一个方面，倘若要进一步深究不同总体的平均水平（均值）波动的幅度，前面介绍的方法就无能为力了。本节所介绍的协方差阵的检验可以解决该类问题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9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6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701-617F-4F40-8560-6C6758F2890D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9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5C7E-55EE-45AC-AA43-ECF0F54BE921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0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835280" y="404640"/>
            <a:ext cx="4824360" cy="681120"/>
            <a:chOff x="1835280" y="404640"/>
            <a:chExt cx="4824360" cy="681120"/>
          </a:xfrm>
        </p:grpSpPr>
        <p:sp>
          <p:nvSpPr>
            <p:cNvPr id="817" name=""/>
            <p:cNvSpPr/>
            <p:nvPr/>
          </p:nvSpPr>
          <p:spPr>
            <a:xfrm>
              <a:off x="1835280" y="40464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一、检验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4643280" y="476280"/>
                  <a:ext cx="1152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" descr=""/>
          <p:cNvPicPr/>
          <p:nvPr/>
        </p:nvPicPr>
        <p:blipFill>
          <a:blip r:embed="rId4"/>
          <a:stretch/>
        </p:blipFill>
        <p:spPr>
          <a:xfrm>
            <a:off x="324000" y="1484280"/>
            <a:ext cx="7632720" cy="11556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179280" y="3429000"/>
            <a:ext cx="6336000" cy="5634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282600" y="56181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是样本协方差阵，关于统计量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M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的推证过程见参考文献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[9]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353960" y="3933720"/>
          <a:ext cx="6462720" cy="165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53960" y="3933720"/>
                    <a:ext cx="646272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737640" y="2767680"/>
            <a:ext cx="69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H</a:t>
            </a:r>
            <a:r>
              <a:rPr b="0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0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：</a:t>
            </a: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Σ</a:t>
            </a:r>
            <a:r>
              <a:rPr b="1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=</a:t>
            </a: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Σ</a:t>
            </a:r>
            <a:r>
              <a:rPr b="1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0</a:t>
            </a:r>
            <a:r>
              <a:rPr b="0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,           </a:t>
            </a:r>
            <a:r>
              <a:rPr b="0" i="1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H</a:t>
            </a:r>
            <a:r>
              <a:rPr b="0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：</a:t>
            </a: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Σ</a:t>
            </a:r>
            <a:r>
              <a:rPr b="1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≠</a:t>
            </a: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Σ</a:t>
            </a:r>
            <a:r>
              <a:rPr b="1" lang="pt-BR" sz="2400" spc="-1" strike="noStrike">
                <a:solidFill>
                  <a:srgbClr val="f4fafa"/>
                </a:solidFill>
                <a:latin typeface="Arial"/>
                <a:ea typeface="黑体"/>
              </a:rPr>
              <a:t>0                        ( 6.17)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36720" y="335772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4fafa"/>
                </a:solidFill>
                <a:latin typeface="Arial"/>
                <a:ea typeface="黑体"/>
              </a:rPr>
              <a:t>( 6.17)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FB3-BC84-4DBD-A131-0EF8E79E5722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A08A-4246-4824-A123-F4F3A0BB8CF5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47628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§6.1  </a:t>
            </a:r>
            <a:r>
              <a:rPr b="1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均值向量的检验</a:t>
            </a:r>
            <a:endParaRPr b="0" lang="en-US" sz="3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1403280" y="213372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一个指标检验的回顾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1403280" y="293832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二、  多元均值检验 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1403280" y="3789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三、两总体均值的比较 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9" name="">
            <a:hlinkClick r:id="rId8" action="ppaction://hlinksldjump"/>
          </p:cNvPr>
          <p:cNvSpPr/>
          <p:nvPr/>
        </p:nvSpPr>
        <p:spPr>
          <a:xfrm>
            <a:off x="1403280" y="453708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四、多总体均值的检验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468360" y="3860640"/>
            <a:ext cx="6551640" cy="2559240"/>
            <a:chOff x="468360" y="3860640"/>
            <a:chExt cx="6551640" cy="2559240"/>
          </a:xfrm>
        </p:grpSpPr>
        <mc:AlternateContent>
          <mc:Choice xmlns:a14="http://schemas.microsoft.com/office/drawing/2010/main" Requires="a14">
            <p:sp>
              <p:nvSpPr>
                <p:cNvPr id="829" name=""/>
                <p:cNvSpPr txBox="1"/>
                <p:nvPr/>
              </p:nvSpPr>
              <p:spPr>
                <a:xfrm>
                  <a:off x="1763640" y="3860640"/>
                  <a:ext cx="5256360" cy="255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p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                      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p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p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                                  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"/>
            <p:cNvSpPr/>
            <p:nvPr/>
          </p:nvSpPr>
          <p:spPr>
            <a:xfrm>
              <a:off x="468360" y="4724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其中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83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F3E-1971-4725-951C-3CBB7C0860BE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32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33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A28-3653-4E37-BE38-87B6A076CCF8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3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1698480" y="3174840"/>
          <a:ext cx="401796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174840"/>
                    <a:ext cx="4017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2" name=""/>
          <p:cNvGrpSpPr/>
          <p:nvPr/>
        </p:nvGrpSpPr>
        <p:grpSpPr>
          <a:xfrm>
            <a:off x="324000" y="1341360"/>
            <a:ext cx="8497800" cy="1555920"/>
            <a:chOff x="324000" y="1341360"/>
            <a:chExt cx="8497800" cy="1555920"/>
          </a:xfrm>
        </p:grpSpPr>
        <p:pic>
          <p:nvPicPr>
            <p:cNvPr id="853" name="" descr=""/>
            <p:cNvPicPr/>
            <p:nvPr/>
          </p:nvPicPr>
          <p:blipFill>
            <a:blip r:embed="rId6"/>
            <a:stretch/>
          </p:blipFill>
          <p:spPr>
            <a:xfrm>
              <a:off x="324000" y="1341360"/>
              <a:ext cx="8497800" cy="1555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4356000" y="1990800"/>
                  <a:ext cx="2890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5" name=""/>
                <p:cNvSpPr txBox="1"/>
                <p:nvPr/>
              </p:nvSpPr>
              <p:spPr>
                <a:xfrm>
                  <a:off x="7885080" y="2004840"/>
                  <a:ext cx="2890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5753160" y="1938240"/>
                  <a:ext cx="112392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9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F0C6-8A04-451E-B589-7F5AD7C6323E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1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007-2021-41B5-974D-CA05A390320C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6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908000" y="404640"/>
            <a:ext cx="4910400" cy="654120"/>
            <a:chOff x="1908000" y="404640"/>
            <a:chExt cx="4910400" cy="654120"/>
          </a:xfrm>
        </p:grpSpPr>
        <p:sp>
          <p:nvSpPr>
            <p:cNvPr id="879" name=""/>
            <p:cNvSpPr/>
            <p:nvPr/>
          </p:nvSpPr>
          <p:spPr>
            <a:xfrm>
              <a:off x="1908000" y="404640"/>
              <a:ext cx="41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二、检验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4657680" y="447480"/>
                  <a:ext cx="21607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1" name=""/>
          <p:cNvGrpSpPr/>
          <p:nvPr/>
        </p:nvGrpSpPr>
        <p:grpSpPr>
          <a:xfrm>
            <a:off x="395280" y="1125360"/>
            <a:ext cx="8353440" cy="1117800"/>
            <a:chOff x="395280" y="1125360"/>
            <a:chExt cx="8353440" cy="1117800"/>
          </a:xfrm>
        </p:grpSpPr>
        <p:sp>
          <p:nvSpPr>
            <p:cNvPr id="882" name=""/>
            <p:cNvSpPr/>
            <p:nvPr/>
          </p:nvSpPr>
          <p:spPr>
            <a:xfrm>
              <a:off x="395280" y="1125360"/>
              <a:ext cx="83534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上面讨论的检验       ，是帮助我们分析当前的波动幅度与过去的波动情形有无显著差异。但在实际问题中，我们往往面临多个总体，需要了解这多个总体之间的波动幅度有无明显的差异。例如在研究职工工资构成时，若按工业行业分组，就有采掘业、制造业、文化教育、金融保险等，不同行业间工资总额的构成存在波动，研究波动是否存在显著的差异，就是做行业间协方差阵相等性的检验。用统计理论来描述就是：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3" name=""/>
                <p:cNvSpPr txBox="1"/>
                <p:nvPr/>
              </p:nvSpPr>
              <p:spPr>
                <a:xfrm>
                  <a:off x="3578400" y="1239480"/>
                  <a:ext cx="1150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4" name=""/>
          <p:cNvSpPr/>
          <p:nvPr/>
        </p:nvSpPr>
        <p:spPr>
          <a:xfrm>
            <a:off x="396720" y="5805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设有</a:t>
            </a:r>
            <a:r>
              <a:rPr b="1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r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个总体，从各个总体中抽取样品如下：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6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"/>
          <p:cNvGrpSpPr/>
          <p:nvPr/>
        </p:nvGrpSpPr>
        <p:grpSpPr>
          <a:xfrm>
            <a:off x="0" y="836640"/>
            <a:ext cx="9144000" cy="5519520"/>
            <a:chOff x="0" y="836640"/>
            <a:chExt cx="9144000" cy="5519520"/>
          </a:xfrm>
        </p:grpSpPr>
        <p:graphicFrame>
          <p:nvGraphicFramePr>
            <p:cNvPr id="888" name=""/>
            <p:cNvGraphicFramePr/>
            <p:nvPr/>
          </p:nvGraphicFramePr>
          <p:xfrm>
            <a:off x="1403280" y="836640"/>
            <a:ext cx="6840720" cy="551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3280" y="836640"/>
                      <a:ext cx="6840720" cy="55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0" name=""/>
            <p:cNvSpPr/>
            <p:nvPr/>
          </p:nvSpPr>
          <p:spPr>
            <a:xfrm>
              <a:off x="0" y="3083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pic>
          <p:nvPicPr>
            <p:cNvPr id="891" name="" descr=""/>
            <p:cNvPicPr/>
            <p:nvPr/>
          </p:nvPicPr>
          <p:blipFill>
            <a:blip r:embed="rId3"/>
            <a:stretch/>
          </p:blipFill>
          <p:spPr>
            <a:xfrm>
              <a:off x="7308720" y="2765520"/>
              <a:ext cx="85752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4"/>
            <a:stretch/>
          </p:blipFill>
          <p:spPr>
            <a:xfrm>
              <a:off x="7236000" y="3557520"/>
              <a:ext cx="9046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CAD-6012-4597-AA9A-67AA532D27D6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9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9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CDF4-3411-47AF-AA86-B68663268A97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9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0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7382520" y="2708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6.20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310880" y="3573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6.21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09A2-73D0-42DC-993A-8533E763A4AA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1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1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8E7A-AC66-4411-86D3-1C770BF99A9D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1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0" y="1773360"/>
            <a:ext cx="9143640" cy="2040840"/>
            <a:chOff x="0" y="1773360"/>
            <a:chExt cx="9143640" cy="2040840"/>
          </a:xfrm>
        </p:grpSpPr>
        <p:sp>
          <p:nvSpPr>
            <p:cNvPr id="930" name=""/>
            <p:cNvSpPr/>
            <p:nvPr/>
          </p:nvSpPr>
          <p:spPr>
            <a:xfrm>
              <a:off x="0" y="1773360"/>
              <a:ext cx="914364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当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不大且                 时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文献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[3]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表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列出了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M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上   分位点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;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较大且   互不相当时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附表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中未列出它们对应的临界值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此时可用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去近似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M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近似遵从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作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876960" y="2133360"/>
                  <a:ext cx="97488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2780640" y="2060640"/>
                  <a:ext cx="2399040" cy="45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⋯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2225520" y="2795400"/>
                  <a:ext cx="8989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4069440" y="2709720"/>
                  <a:ext cx="599760" cy="47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35" name=""/>
            <p:cNvGraphicFramePr/>
            <p:nvPr/>
          </p:nvGraphicFramePr>
          <p:xfrm>
            <a:off x="6962760" y="3343320"/>
            <a:ext cx="1498680" cy="47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62760" y="3343320"/>
                      <a:ext cx="1498680" cy="47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7" name=""/>
            <p:cNvGraphicFramePr/>
            <p:nvPr/>
          </p:nvGraphicFramePr>
          <p:xfrm>
            <a:off x="411120" y="2781360"/>
            <a:ext cx="374760" cy="33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3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120" y="2781360"/>
                      <a:ext cx="374760" cy="3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9" name=""/>
          <p:cNvGrpSpPr/>
          <p:nvPr/>
        </p:nvGrpSpPr>
        <p:grpSpPr>
          <a:xfrm>
            <a:off x="1258920" y="4365720"/>
            <a:ext cx="6624720" cy="459720"/>
            <a:chOff x="1258920" y="4365720"/>
            <a:chExt cx="6624720" cy="459720"/>
          </a:xfrm>
        </p:grpSpPr>
        <p:sp>
          <p:nvSpPr>
            <p:cNvPr id="940" name=""/>
            <p:cNvSpPr/>
            <p:nvPr/>
          </p:nvSpPr>
          <p:spPr>
            <a:xfrm>
              <a:off x="1258920" y="4365720"/>
              <a:ext cx="66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M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≈                     (6.22)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1" name=""/>
                <p:cNvSpPr txBox="1"/>
                <p:nvPr/>
              </p:nvSpPr>
              <p:spPr>
                <a:xfrm>
                  <a:off x="2627280" y="4379760"/>
                  <a:ext cx="12668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0E5-8A2B-4C9A-A340-ADAC79BEAABE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4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46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912-7540-4824-8315-833EDAFE5D33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4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0" y="2944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4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20" y="360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4fafa"/>
                </a:solidFill>
                <a:latin typeface="Arial"/>
                <a:ea typeface="黑体"/>
              </a:rPr>
              <a:t> </a:t>
            </a:r>
            <a:endParaRPr b="0" lang="en-US" sz="11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080" y="3239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1680" y="20487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800" y="27601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8360" y="148428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例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6.1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】 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1999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年财政部、国家经贸委、人事部和国家计委联合发布了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国有资本金效绩评价规则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。其中，对竞争性工商企业的评价指标体系包括下面八大基本指标：净资产收益率、总资产报酬率、总资产周转率、流动资产周转率、资产负债率、已获利息倍数、销售增长率和资本积累率。下面我们借助于这一指标体系对我国上市公司的运营情况进行分析，表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6-1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所列的是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35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家上市公司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2008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年年报数据，这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35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家上市公司分别来自于电力、煤气及水的生产和供应业，房地行业，信息技术业，在后面各章中也经常以该数据为例进行分析。 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6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2825640" y="54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Arial"/>
                <a:ea typeface="黑体"/>
              </a:rPr>
              <a:t>§6.3   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有关检验的上机实现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 txBox="1"/>
          <p:nvPr/>
        </p:nvSpPr>
        <p:spPr>
          <a:xfrm>
            <a:off x="2268360" y="2205000"/>
            <a:ext cx="4499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4fafa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e end!</a:t>
            </a:r>
            <a:endParaRPr b="1" lang="en-US" sz="3200" spc="1" strike="noStrike">
              <a:ln w="9360">
                <a:solidFill>
                  <a:srgbClr val="f4fafa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4fafa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anks!</a:t>
            </a:r>
            <a:endParaRPr b="1" lang="en-US" sz="3200" spc="1" strike="noStrike">
              <a:ln w="9360">
                <a:solidFill>
                  <a:srgbClr val="f4fafa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B33-2001-44D1-BB85-F89F8754AE1D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15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1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947-6AD8-4946-BAA2-4F289CF55225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88840" y="3490920"/>
          <a:ext cx="6966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3490920"/>
                    <a:ext cx="6966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D2F7-E26D-415F-83C0-0FE0DC96763B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A39-6625-4244-BE90-0AEA48BA0B2C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33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fafa"/>
                </a:solidFill>
                <a:latin typeface="Arial"/>
                <a:ea typeface="黑体"/>
              </a:rPr>
              <a:t>一、一个指标检验的回顾</a:t>
            </a:r>
            <a:endParaRPr b="0" lang="en-US" sz="36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900000" y="1316160"/>
            <a:ext cx="748836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741240" y="2924280"/>
            <a:ext cx="3673440" cy="62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133-9305-4B76-AAD7-CC4BEBBC89E7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0202-FA47-49F1-B898-8C704897B992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857160" y="1397160"/>
          <a:ext cx="9742320" cy="196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857160" y="1397160"/>
                    <a:ext cx="974232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7280" y="3691080"/>
            <a:ext cx="8388360" cy="1096920"/>
            <a:chOff x="287280" y="3691080"/>
            <a:chExt cx="8388360" cy="109692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287280" y="3691080"/>
              <a:ext cx="8388360" cy="106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427640" y="4251240"/>
                  <a:ext cx="79200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t</m:t>
                      </m:r>
                      <m:r>
                        <m:t xml:space="preserve">|</m:t>
                      </m:r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118120" y="4221000"/>
                  <a:ext cx="14986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5280" y="5035680"/>
                <a:ext cx="5040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为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上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分为点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2F6-44C6-4D4C-96D5-9B5EC7280733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7D3-1CBE-4388-AFA7-C310C1F0FA3B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0920" y="1700280"/>
            <a:ext cx="8640720" cy="3097080"/>
            <a:chOff x="250920" y="1700280"/>
            <a:chExt cx="8640720" cy="3097080"/>
          </a:xfrm>
        </p:grpSpPr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250920" y="1700280"/>
              <a:ext cx="8640720" cy="3097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1" name=""/>
            <p:cNvGraphicFramePr/>
            <p:nvPr/>
          </p:nvGraphicFramePr>
          <p:xfrm>
            <a:off x="689040" y="2305080"/>
            <a:ext cx="6829560" cy="54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9040" y="2305080"/>
                      <a:ext cx="682956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735280" y="4384800"/>
                  <a:ext cx="3603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207280" y="3720960"/>
                  <a:ext cx="3603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 rot="10884000">
            <a:off x="1475640" y="1699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6.2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C9F-36B8-4E0B-A323-F5AEDCF6D9C1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0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B17F-DEDC-4B24-8C87-087F19028E79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54936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二、  多元均值检验 </a:t>
            </a:r>
            <a:endParaRPr b="0" lang="en-US" sz="36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84360" y="1552680"/>
            <a:ext cx="8208720" cy="434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F395-56B4-42A8-94B0-30F03D4B1B22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0FA-DBEA-499E-B055-9ABABCD5ECE5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8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1557360"/>
            <a:ext cx="8459640" cy="4664160"/>
            <a:chOff x="395280" y="1557360"/>
            <a:chExt cx="8459640" cy="466416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395280" y="1557360"/>
              <a:ext cx="8459640" cy="4664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050920" y="2852640"/>
                  <a:ext cx="36036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0360" y="2781360"/>
                  <a:ext cx="3603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7020000" y="3429000"/>
                  <a:ext cx="3603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23A-54AE-4720-97A1-B2042A3C0BE6}" type="datetime">
              <a:rPr b="0" lang="zh-CN" sz="1400" spc="-1" strike="noStrike">
                <a:solidFill>
                  <a:srgbClr val="f4fafa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6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7" name="灯片编号占位符 5"/>
          <p:cNvSpPr/>
          <p:nvPr/>
        </p:nvSpPr>
        <p:spPr>
          <a:xfrm>
            <a:off x="6588000" y="6308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E17E-DCEE-4B27-A25C-BADEA79DC2B7}" type="slidenum">
              <a:rPr b="0" lang="en-US" sz="1400" spc="-1" strike="noStrike">
                <a:solidFill>
                  <a:srgbClr val="f4fa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0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7708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236000" y="6237360"/>
            <a:ext cx="355320" cy="28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08160" y="65041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黑体"/>
                <a:ea typeface="黑体"/>
              </a:rPr>
              <a:t>目录   上页  下页  返回  结束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11280" y="2017800"/>
            <a:ext cx="8137440" cy="3333600"/>
            <a:chOff x="611280" y="2017800"/>
            <a:chExt cx="8137440" cy="333360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611280" y="2017800"/>
              <a:ext cx="8137440" cy="3333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252440" y="2278080"/>
                  <a:ext cx="274320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194000" y="2308320"/>
                  <a:ext cx="357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560" y="62373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02320" y="62373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742520" y="407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6.4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23:37:05Z</dcterms:created>
  <dc:creator>Tao</dc:creator>
  <dc:description/>
  <dc:language>en-US</dc:language>
  <cp:lastModifiedBy>hxq</cp:lastModifiedBy>
  <dcterms:modified xsi:type="dcterms:W3CDTF">2010-11-01T08:30:24Z</dcterms:modified>
  <cp:revision>295</cp:revision>
  <dc:subject/>
  <dc:title>幻灯片 1</dc:title>
</cp:coreProperties>
</file>