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7.wmf" ContentType="image/x-wmf"/>
  <Override PartName="/ppt/media/image4.jpeg" ContentType="image/jpeg"/>
  <Override PartName="/ppt/media/image126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90.wmf" ContentType="image/x-wmf"/>
  <Override PartName="/ppt/media/image121.wmf" ContentType="image/x-wmf"/>
  <Override PartName="/ppt/media/image119.wmf" ContentType="image/x-wmf"/>
  <Override PartName="/ppt/media/image187.wmf" ContentType="image/x-wmf"/>
  <Override PartName="/ppt/media/image118.wmf" ContentType="image/x-wmf"/>
  <Override PartName="/ppt/media/image186.wmf" ContentType="image/x-wmf"/>
  <Override PartName="/ppt/media/image116.wmf" ContentType="image/x-wmf"/>
  <Override PartName="/ppt/media/image49.png" ContentType="image/png"/>
  <Override PartName="/ppt/media/image184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3.wmf" ContentType="image/x-wmf"/>
  <Override PartName="/ppt/media/image36.png" ContentType="image/png"/>
  <Override PartName="/ppt/media/image171.wmf" ContentType="image/x-wmf"/>
  <Override PartName="/ppt/media/image102.wmf" ContentType="image/x-wmf"/>
  <Override PartName="/ppt/media/image35.png" ContentType="image/png"/>
  <Override PartName="/ppt/media/image170.wmf" ContentType="image/x-wmf"/>
  <Override PartName="/ppt/media/image101.wmf" ContentType="image/x-wmf"/>
  <Override PartName="/ppt/media/image34.png" ContentType="image/png"/>
  <Override PartName="/ppt/media/image100.wmf" ContentType="image/x-wmf"/>
  <Override PartName="/ppt/media/image33.png" ContentType="image/png"/>
  <Override PartName="/ppt/media/image97.wmf" ContentType="image/x-wmf"/>
  <Override PartName="/ppt/media/image96.wmf" ContentType="image/x-wmf"/>
  <Override PartName="/ppt/media/image95.wmf" ContentType="image/x-wmf"/>
  <Override PartName="/ppt/media/image94.wmf" ContentType="image/x-wmf"/>
  <Override PartName="/ppt/media/image93.wmf" ContentType="image/x-wmf"/>
  <Override PartName="/ppt/media/image92.wmf" ContentType="image/x-wmf"/>
  <Override PartName="/ppt/media/image91.wmf" ContentType="image/x-wmf"/>
  <Override PartName="/ppt/media/image90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png" ContentType="image/png"/>
  <Override PartName="/ppt/media/image146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99.wmf" ContentType="image/x-wmf"/>
  <Override PartName="/ppt/media/image31.png" ContentType="image/png"/>
  <Override PartName="/ppt/media/image128.png" ContentType="image/png"/>
  <Override PartName="/ppt/media/image150.wmf" ContentType="image/x-wmf"/>
  <Override PartName="/ppt/media/image32.png" ContentType="image/png"/>
  <Override PartName="/ppt/media/image151.wmf" ContentType="image/x-wmf"/>
  <Override PartName="/ppt/media/image60.wmf" ContentType="image/x-wmf"/>
  <Override PartName="/ppt/media/image157.wmf" ContentType="image/x-wmf"/>
  <Override PartName="/ppt/media/image42.wmf" ContentType="image/x-wmf"/>
  <Override PartName="/ppt/media/image139.wmf" ContentType="image/x-wmf"/>
  <Override PartName="/ppt/media/image71.wmf" ContentType="image/x-wmf"/>
  <Override PartName="/ppt/media/image168.wmf" ContentType="image/x-wmf"/>
  <Override PartName="/ppt/media/image51.wmf" ContentType="image/x-wmf"/>
  <Override PartName="/ppt/media/image164.wmf" ContentType="image/x-wmf"/>
  <Override PartName="/ppt/media/image29.png" ContentType="image/png"/>
  <Override PartName="/ppt/media/image148.wmf" ContentType="image/x-wmf"/>
  <Override PartName="/ppt/media/image53.wmf" ContentType="image/x-wmf"/>
  <Override PartName="/ppt/media/image110.wmf" ContentType="image/x-wmf"/>
  <Override PartName="/ppt/media/image59.wmf" ContentType="image/x-wmf"/>
  <Override PartName="/ppt/media/image129.wmf" ContentType="image/x-wmf"/>
  <Override PartName="/ppt/media/image47.wmf" ContentType="image/x-wmf"/>
  <Override PartName="/ppt/media/image133.wmf" ContentType="image/x-wmf"/>
  <Override PartName="/ppt/media/image134.wmf" ContentType="image/x-wmf"/>
  <Override PartName="/ppt/media/image158.wmf" ContentType="image/x-wmf"/>
  <Override PartName="/ppt/media/image61.wmf" ContentType="image/x-wmf"/>
  <Override PartName="/ppt/media/image154.wmf" ContentType="image/x-wmf"/>
  <Override PartName="/ppt/media/image43.wmf" ContentType="image/x-wmf"/>
  <Override PartName="/ppt/media/image166.wmf" ContentType="image/x-wmf"/>
  <Override PartName="/ppt/media/image156.wmf" ContentType="image/x-wmf"/>
  <Override PartName="/ppt/media/image45.wmf" ContentType="image/x-wmf"/>
  <Override PartName="/ppt/media/image131.wmf" ContentType="image/x-wmf"/>
  <Override PartName="/ppt/media/image46.wmf" ContentType="image/x-wmf"/>
  <Override PartName="/ppt/media/image132.wmf" ContentType="image/x-wmf"/>
  <Override PartName="/ppt/media/image169.wmf" ContentType="image/x-wmf"/>
  <Override PartName="/ppt/media/image155.wmf" ContentType="image/x-wmf"/>
  <Override PartName="/ppt/media/image52.wmf" ContentType="image/x-wmf"/>
  <Override PartName="/ppt/media/image149.wmf" ContentType="image/x-wmf"/>
  <Override PartName="/ppt/media/image135.png" ContentType="image/png"/>
  <Override PartName="/ppt/media/image44.wmf" ContentType="image/x-wmf"/>
  <Override PartName="/ppt/media/image130.wmf" ContentType="image/x-wmf"/>
  <Override PartName="/ppt/media/image167.wmf" ContentType="image/x-wmf"/>
  <Override PartName="/ppt/media/image144.wmf" ContentType="image/x-wmf"/>
  <Override PartName="/ppt/media/image153.wmf" ContentType="image/x-wmf"/>
  <Override PartName="/ppt/media/image161.wmf" ContentType="image/x-wmf"/>
  <Override PartName="/ppt/media/image26.png" ContentType="image/png"/>
  <Override PartName="/ppt/media/image145.wmf" ContentType="image/x-wmf"/>
  <Override PartName="/ppt/media/image189.wmf" ContentType="image/x-wmf"/>
  <Override PartName="/ppt/media/image152.wmf" ContentType="image/x-wmf"/>
  <Override PartName="/ppt/media/image188.wmf" ContentType="image/x-wmf"/>
  <Override PartName="/ppt/media/image143.wmf" ContentType="image/x-wmf"/>
  <Override PartName="/ppt/media/image24.png" ContentType="image/png"/>
  <Override PartName="/ppt/media/image56.wmf" ContentType="image/x-wmf"/>
  <Override PartName="/ppt/media/image179.wmf" ContentType="image/x-wmf"/>
  <Override PartName="/ppt/media/image142.wmf" ContentType="image/x-wmf"/>
  <Override PartName="/ppt/media/image23.png" ContentType="image/png"/>
  <Override PartName="/ppt/media/image55.wmf" ContentType="image/x-wmf"/>
  <Override PartName="/ppt/media/image141.wmf" ContentType="image/x-wmf"/>
  <Override PartName="/ppt/media/image22.png" ContentType="image/png"/>
  <Override PartName="/ppt/media/image178.png" ContentType="image/png"/>
  <Override PartName="/ppt/media/image54.wmf" ContentType="image/x-wmf"/>
  <Override PartName="/ppt/media/image140.wmf" ContentType="image/x-wmf"/>
  <Override PartName="/ppt/media/image21.png" ContentType="image/png"/>
  <Override PartName="/ppt/media/image89.wmf" ContentType="image/x-wmf"/>
  <Override PartName="/ppt/media/image138.wmf" ContentType="image/x-wmf"/>
  <Override PartName="/ppt/media/image136.wmf" ContentType="image/x-wmf"/>
  <Override PartName="/ppt/media/image10.wmf" ContentType="image/x-wmf"/>
  <Override PartName="/ppt/media/image2.jpeg" ContentType="image/jpeg"/>
  <Override PartName="/ppt/media/image107.wmf" ContentType="image/x-wmf"/>
  <Override PartName="/ppt/media/image175.wmf" ContentType="image/x-wmf"/>
  <Override PartName="/ppt/media/image25.png" ContentType="image/png"/>
  <Override PartName="/ppt/media/image160.wmf" ContentType="image/x-wmf"/>
  <Override PartName="/ppt/media/image41.png" ContentType="image/png"/>
  <Override PartName="/ppt/media/image163.wmf" ContentType="image/x-wmf"/>
  <Override PartName="/ppt/media/image28.png" ContentType="image/png"/>
  <Override PartName="/ppt/media/image40.png" ContentType="image/png"/>
  <Override PartName="/ppt/media/image11.wmf" ContentType="image/x-wmf"/>
  <Override PartName="/ppt/media/image38.png" ContentType="image/png"/>
  <Override PartName="/ppt/media/image173.wmf" ContentType="image/x-wmf"/>
  <Override PartName="/ppt/media/image105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177.wmf" ContentType="image/x-wmf"/>
  <Override PartName="/ppt/media/image109.wmf" ContentType="image/x-wmf"/>
  <Override PartName="/ppt/media/image80.wmf" ContentType="image/x-wmf"/>
  <Override PartName="/ppt/media/image12.wmf" ContentType="image/x-wmf"/>
  <Override PartName="/ppt/media/image162.wmf" ContentType="image/x-wmf"/>
  <Override PartName="/ppt/media/image27.png" ContentType="image/png"/>
  <Override PartName="/ppt/media/image62.wmf" ContentType="image/x-wmf"/>
  <Override PartName="/ppt/media/image159.wmf" ContentType="image/x-wmf"/>
  <Override PartName="/ppt/media/image7.wmf" ContentType="image/x-wmf"/>
  <Override PartName="/ppt/media/image58.wmf" ContentType="image/x-wmf"/>
  <Override PartName="/ppt/media/image147.wmf" ContentType="image/x-wmf"/>
  <Override PartName="/ppt/media/image6.jpeg" ContentType="image/jpeg"/>
  <Override PartName="/ppt/media/image125.wmf" ContentType="image/x-wmf"/>
  <Override PartName="/ppt/media/image39.wmf" ContentType="image/x-wmf"/>
  <Override PartName="/ppt/media/image9.wmf" ContentType="image/x-wmf"/>
  <Override PartName="/ppt/media/image50.png" ContentType="image/png"/>
  <Override PartName="/ppt/media/image37.png" ContentType="image/png"/>
  <Override PartName="/ppt/media/image172.wmf" ContentType="image/x-wmf"/>
  <Override PartName="/ppt/media/image104.wmf" ContentType="image/x-wmf"/>
  <Override PartName="/ppt/media/image48.wmf" ContentType="image/x-wmf"/>
  <Override PartName="/ppt/media/image108.wmf" ContentType="image/x-wmf"/>
  <Override PartName="/ppt/media/image176.wmf" ContentType="image/x-wmf"/>
  <Override PartName="/ppt/media/image82.wmf" ContentType="image/x-wmf"/>
  <Override PartName="/ppt/media/image14.wmf" ContentType="image/x-wmf"/>
  <Override PartName="/ppt/media/image137.wmf" ContentType="image/x-wmf"/>
  <Override PartName="/ppt/media/image5.jpeg" ContentType="image/jpeg"/>
  <Override PartName="/ppt/media/image115.wmf" ContentType="image/x-wmf"/>
  <Override PartName="/ppt/media/image183.wmf" ContentType="image/x-wmf"/>
  <Override PartName="/ppt/media/image57.wmf" ContentType="image/x-wmf"/>
  <Override PartName="/ppt/media/image20.wmf" ContentType="image/x-wmf"/>
  <Override PartName="/ppt/media/image3.jpeg" ContentType="image/jpeg"/>
  <Override PartName="/ppt/media/image117.wmf" ContentType="image/x-wmf"/>
  <Override PartName="/ppt/media/image185.wmf" ContentType="image/x-wmf"/>
  <Override PartName="/ppt/media/image30.png" ContentType="image/png"/>
  <Override PartName="/ppt/media/image98.wmf" ContentType="image/x-wmf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1.jpeg" ContentType="image/jpeg"/>
  <Override PartName="/ppt/media/image165.wmf" ContentType="image/x-wmf"/>
  <Override PartName="/ppt/media/image84.wmf" ContentType="image/x-wmf"/>
  <Override PartName="/ppt/media/image16.wmf" ContentType="image/x-wmf"/>
  <Override PartName="/ppt/media/image13.wmf" ContentType="image/x-wmf"/>
  <Override PartName="/ppt/media/image8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841B-1A1A-4983-97C1-B1407C79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37B1-5D4F-4968-96C9-01EAEFB2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6456-2C8B-4EF6-9968-07C8670C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B5DD-F135-4D1B-A331-5E1E16BF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5AB3-C88E-48F4-964F-FEB9AAE8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4AD3-D86E-4775-9DFC-CE9B7F13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FF95-EF25-4448-906B-4CFC1921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804D-2C3B-4BC0-A72F-A2B10C19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47280" y="274320"/>
            <a:ext cx="713916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FE51-0B73-41E0-BD4E-E0B7EBC9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E450-E7C6-4C2F-991F-D7022822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FBFB-CA45-4CD7-B317-83AA25C8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C403-581C-4771-91E1-EF2976EE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04F8-9DD1-4651-BDC9-4F04D2A5571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39640" y="6337080"/>
            <a:ext cx="40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Arial"/>
              </a:rPr>
              <a:t>&lt;footer&gt;</a:t>
            </a:r>
            <a:r>
              <a:rPr b="0" lang="zh-CN" sz="1600" spc="-1" strike="noStrike">
                <a:solidFill>
                  <a:srgbClr val="336699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3659-5655-409B-AB4D-A5107878F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5" name="Picture 7" descr="tb3"/>
          <p:cNvPicPr/>
          <p:nvPr/>
        </p:nvPicPr>
        <p:blipFill>
          <a:blip r:embed="rId2"/>
          <a:stretch/>
        </p:blipFill>
        <p:spPr>
          <a:xfrm>
            <a:off x="250920" y="260280"/>
            <a:ext cx="1008000" cy="85428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468360" y="6237360"/>
            <a:ext cx="82072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" Target="slide6.xml"/><Relationship Id="rId8" Type="http://schemas.openxmlformats.org/officeDocument/2006/relationships/slide" Target="slide18.xml"/><Relationship Id="rId9" Type="http://schemas.openxmlformats.org/officeDocument/2006/relationships/slide" Target="slide23.xml"/><Relationship Id="rId10" Type="http://schemas.openxmlformats.org/officeDocument/2006/relationships/slide" Target="slide49.xml"/><Relationship Id="rId11" Type="http://schemas.openxmlformats.org/officeDocument/2006/relationships/slide" Target="slide54.xml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" Target="slide5.xml"/><Relationship Id="rId4" Type="http://schemas.openxmlformats.org/officeDocument/2006/relationships/image" Target="../media/image2.jpeg"/><Relationship Id="rId5" Type="http://schemas.openxmlformats.org/officeDocument/2006/relationships/slide" Target="slide2.xm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" Target="slide5.xml"/><Relationship Id="rId4" Type="http://schemas.openxmlformats.org/officeDocument/2006/relationships/image" Target="../media/image2.jpeg"/><Relationship Id="rId5" Type="http://schemas.openxmlformats.org/officeDocument/2006/relationships/slide" Target="slide2.xm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" Target="slide6.xml"/><Relationship Id="rId9" Type="http://schemas.openxmlformats.org/officeDocument/2006/relationships/slide" Target="slide5.xml"/><Relationship Id="rId10" Type="http://schemas.openxmlformats.org/officeDocument/2006/relationships/slide" Target="slide11.xml"/><Relationship Id="rId11" Type="http://schemas.openxmlformats.org/officeDocument/2006/relationships/slide" Target="slide8.xml"/><Relationship Id="rId1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" Target="slide18.xml"/><Relationship Id="rId4" Type="http://schemas.openxmlformats.org/officeDocument/2006/relationships/image" Target="../media/image2.jpeg"/><Relationship Id="rId5" Type="http://schemas.openxmlformats.org/officeDocument/2006/relationships/slide" Target="slide2.xm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" Target="slide18.xm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" Target="slide18.xml"/><Relationship Id="rId7" Type="http://schemas.openxmlformats.org/officeDocument/2006/relationships/image" Target="../media/image2.jpe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" Target="slide18.xm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" Target="slide18.xm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" Target="slide18.xml"/><Relationship Id="rId7" Type="http://schemas.openxmlformats.org/officeDocument/2006/relationships/image" Target="../media/image2.jpe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" Target="slide18.xm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" Target="slide18.xm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" Target="slide5.xml"/><Relationship Id="rId4" Type="http://schemas.openxmlformats.org/officeDocument/2006/relationships/image" Target="../media/image2.jpeg"/><Relationship Id="rId5" Type="http://schemas.openxmlformats.org/officeDocument/2006/relationships/slide" Target="slide2.xm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" Target="slide24.xml"/><Relationship Id="rId7" Type="http://schemas.openxmlformats.org/officeDocument/2006/relationships/image" Target="../media/image2.jpeg"/><Relationship Id="rId8" Type="http://schemas.openxmlformats.org/officeDocument/2006/relationships/slide" Target="slide31.xml"/><Relationship Id="rId9" Type="http://schemas.openxmlformats.org/officeDocument/2006/relationships/slide" Target="slide33.xml"/><Relationship Id="rId10" Type="http://schemas.openxmlformats.org/officeDocument/2006/relationships/slide" Target="slide35.xml"/><Relationship Id="rId1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" Target="slide2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2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43.wmf"/><Relationship Id="rId11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4.wm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46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47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48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45.wmf"/><Relationship Id="rId17" Type="http://schemas.openxmlformats.org/officeDocument/2006/relationships/image" Target="../media/image49.png"/><Relationship Id="rId18" Type="http://schemas.openxmlformats.org/officeDocument/2006/relationships/image" Target="../media/image49.png"/><Relationship Id="rId19" Type="http://schemas.openxmlformats.org/officeDocument/2006/relationships/image" Target="../media/image50.png"/><Relationship Id="rId20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" Target="slide2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" Target="slide2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oleObject" Target="../embeddings/oleObject1.bin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" Target="slide5.xml"/><Relationship Id="rId6" Type="http://schemas.openxmlformats.org/officeDocument/2006/relationships/image" Target="../media/image2.jpeg"/><Relationship Id="rId7" Type="http://schemas.openxmlformats.org/officeDocument/2006/relationships/slide" Target="slide2.xml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63.wmf"/><Relationship Id="rId11" Type="http://schemas.openxmlformats.org/officeDocument/2006/relationships/slideLayout" Target="../slideLayouts/slideLayout1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9.wmf"/><Relationship Id="rId13" Type="http://schemas.openxmlformats.org/officeDocument/2006/relationships/slide" Target="slide55.xml"/><Relationship Id="rId14" Type="http://schemas.openxmlformats.org/officeDocument/2006/relationships/image" Target="../media/image2.jpeg"/><Relationship Id="rId15" Type="http://schemas.openxmlformats.org/officeDocument/2006/relationships/slide" Target="slide2.xml"/><Relationship Id="rId16" Type="http://schemas.openxmlformats.org/officeDocument/2006/relationships/image" Target="../media/image3.jpeg"/><Relationship Id="rId17" Type="http://schemas.openxmlformats.org/officeDocument/2006/relationships/image" Target="../media/image4.jpeg"/><Relationship Id="rId18" Type="http://schemas.openxmlformats.org/officeDocument/2006/relationships/image" Target="../media/image5.jpeg"/><Relationship Id="rId19" Type="http://schemas.openxmlformats.org/officeDocument/2006/relationships/image" Target="../media/image6.jpeg"/><Relationship Id="rId20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1.wmf"/><Relationship Id="rId6" Type="http://schemas.openxmlformats.org/officeDocument/2006/relationships/slide" Target="slide56.xml"/><Relationship Id="rId7" Type="http://schemas.openxmlformats.org/officeDocument/2006/relationships/oleObject" Target="../embeddings/oleObject3.bin"/><Relationship Id="rId8" Type="http://schemas.openxmlformats.org/officeDocument/2006/relationships/image" Target="../media/image66.wmf"/><Relationship Id="rId9" Type="http://schemas.openxmlformats.org/officeDocument/2006/relationships/slide" Target="slide64.xml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2.wmf"/><Relationship Id="rId12" Type="http://schemas.openxmlformats.org/officeDocument/2006/relationships/slide" Target="slide2.xml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6.jpeg"/><Relationship Id="rId17" Type="http://schemas.openxmlformats.org/officeDocument/2006/relationships/slide" Target="slide55.xml"/><Relationship Id="rId18" Type="http://schemas.openxmlformats.org/officeDocument/2006/relationships/image" Target="../media/image2.jpeg"/><Relationship Id="rId19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8.wmf"/><Relationship Id="rId15" Type="http://schemas.openxmlformats.org/officeDocument/2006/relationships/image" Target="../media/image79.png"/><Relationship Id="rId16" Type="http://schemas.openxmlformats.org/officeDocument/2006/relationships/slide" Target="slide2.xml"/><Relationship Id="rId17" Type="http://schemas.openxmlformats.org/officeDocument/2006/relationships/image" Target="../media/image3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6.jpeg"/><Relationship Id="rId21" Type="http://schemas.openxmlformats.org/officeDocument/2006/relationships/slide" Target="slide55.xml"/><Relationship Id="rId22" Type="http://schemas.openxmlformats.org/officeDocument/2006/relationships/image" Target="../media/image2.jpeg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80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81.wmf"/><Relationship Id="rId27" Type="http://schemas.openxmlformats.org/officeDocument/2006/relationships/oleObject" Target="../embeddings/oleObject10.bin"/><Relationship Id="rId28" Type="http://schemas.openxmlformats.org/officeDocument/2006/relationships/image" Target="../media/image77.wmf"/><Relationship Id="rId29" Type="http://schemas.openxmlformats.org/officeDocument/2006/relationships/oleObject" Target="../embeddings/oleObject11.bin"/><Relationship Id="rId30" Type="http://schemas.openxmlformats.org/officeDocument/2006/relationships/image" Target="../media/image82.wmf"/><Relationship Id="rId31" Type="http://schemas.openxmlformats.org/officeDocument/2006/relationships/image" Target="../media/image79.png"/><Relationship Id="rId32" Type="http://schemas.openxmlformats.org/officeDocument/2006/relationships/image" Target="../media/image79.png"/><Relationship Id="rId33" Type="http://schemas.openxmlformats.org/officeDocument/2006/relationships/oleObject" Target="../embeddings/oleObject12.bin"/><Relationship Id="rId34" Type="http://schemas.openxmlformats.org/officeDocument/2006/relationships/image" Target="../media/image83.wmf"/><Relationship Id="rId35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4.wmf"/><Relationship Id="rId29" Type="http://schemas.openxmlformats.org/officeDocument/2006/relationships/image" Target="../media/image79.png"/><Relationship Id="rId30" Type="http://schemas.openxmlformats.org/officeDocument/2006/relationships/image" Target="../media/image79.png"/><Relationship Id="rId31" Type="http://schemas.openxmlformats.org/officeDocument/2006/relationships/slide" Target="slide2.xml"/><Relationship Id="rId32" Type="http://schemas.openxmlformats.org/officeDocument/2006/relationships/image" Target="../media/image3.jpeg"/><Relationship Id="rId33" Type="http://schemas.openxmlformats.org/officeDocument/2006/relationships/image" Target="../media/image4.jpeg"/><Relationship Id="rId34" Type="http://schemas.openxmlformats.org/officeDocument/2006/relationships/image" Target="../media/image5.jpeg"/><Relationship Id="rId35" Type="http://schemas.openxmlformats.org/officeDocument/2006/relationships/image" Target="../media/image6.jpeg"/><Relationship Id="rId36" Type="http://schemas.openxmlformats.org/officeDocument/2006/relationships/slide" Target="slide55.xml"/><Relationship Id="rId37" Type="http://schemas.openxmlformats.org/officeDocument/2006/relationships/image" Target="../media/image2.jpeg"/><Relationship Id="rId38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9.wmf"/><Relationship Id="rId11" Type="http://schemas.openxmlformats.org/officeDocument/2006/relationships/image" Target="../media/image79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0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01.wmf"/><Relationship Id="rId18" Type="http://schemas.openxmlformats.org/officeDocument/2006/relationships/image" Target="../media/image79.png"/><Relationship Id="rId19" Type="http://schemas.openxmlformats.org/officeDocument/2006/relationships/slide" Target="slide2.xml"/><Relationship Id="rId20" Type="http://schemas.openxmlformats.org/officeDocument/2006/relationships/image" Target="../media/image3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6.jpeg"/><Relationship Id="rId24" Type="http://schemas.openxmlformats.org/officeDocument/2006/relationships/slide" Target="slide55.xml"/><Relationship Id="rId25" Type="http://schemas.openxmlformats.org/officeDocument/2006/relationships/image" Target="../media/image2.jpeg"/><Relationship Id="rId26" Type="http://schemas.openxmlformats.org/officeDocument/2006/relationships/oleObject" Target="../embeddings/oleObject9.bin"/><Relationship Id="rId27" Type="http://schemas.openxmlformats.org/officeDocument/2006/relationships/image" Target="../media/image102.wmf"/><Relationship Id="rId28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1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16.wmf"/><Relationship Id="rId33" Type="http://schemas.openxmlformats.org/officeDocument/2006/relationships/image" Target="../media/image79.png"/><Relationship Id="rId34" Type="http://schemas.openxmlformats.org/officeDocument/2006/relationships/image" Target="../media/image79.png"/><Relationship Id="rId35" Type="http://schemas.openxmlformats.org/officeDocument/2006/relationships/slide" Target="slide2.xml"/><Relationship Id="rId36" Type="http://schemas.openxmlformats.org/officeDocument/2006/relationships/image" Target="../media/image3.jpeg"/><Relationship Id="rId37" Type="http://schemas.openxmlformats.org/officeDocument/2006/relationships/image" Target="../media/image4.jpeg"/><Relationship Id="rId38" Type="http://schemas.openxmlformats.org/officeDocument/2006/relationships/image" Target="../media/image5.jpeg"/><Relationship Id="rId39" Type="http://schemas.openxmlformats.org/officeDocument/2006/relationships/image" Target="../media/image6.jpeg"/><Relationship Id="rId40" Type="http://schemas.openxmlformats.org/officeDocument/2006/relationships/slide" Target="slide55.xml"/><Relationship Id="rId41" Type="http://schemas.openxmlformats.org/officeDocument/2006/relationships/image" Target="../media/image2.jpeg"/><Relationship Id="rId4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" Target="slide5.xml"/><Relationship Id="rId6" Type="http://schemas.openxmlformats.org/officeDocument/2006/relationships/image" Target="../media/image2.jpeg"/><Relationship Id="rId7" Type="http://schemas.openxmlformats.org/officeDocument/2006/relationships/slide" Target="slide2.xml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4.wmf"/><Relationship Id="rId16" Type="http://schemas.openxmlformats.org/officeDocument/2006/relationships/slideLayout" Target="../slideLayouts/slideLayout8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9.wmf"/><Relationship Id="rId7" Type="http://schemas.openxmlformats.org/officeDocument/2006/relationships/image" Target="../media/image79.png"/><Relationship Id="rId8" Type="http://schemas.openxmlformats.org/officeDocument/2006/relationships/image" Target="../media/image79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2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21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2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2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24.wmf"/><Relationship Id="rId19" Type="http://schemas.openxmlformats.org/officeDocument/2006/relationships/image" Target="../media/image79.png"/><Relationship Id="rId20" Type="http://schemas.openxmlformats.org/officeDocument/2006/relationships/image" Target="../media/image79.png"/><Relationship Id="rId21" Type="http://schemas.openxmlformats.org/officeDocument/2006/relationships/slide" Target="slide2.xml"/><Relationship Id="rId22" Type="http://schemas.openxmlformats.org/officeDocument/2006/relationships/image" Target="../media/image3.jpeg"/><Relationship Id="rId23" Type="http://schemas.openxmlformats.org/officeDocument/2006/relationships/image" Target="../media/image4.jpeg"/><Relationship Id="rId24" Type="http://schemas.openxmlformats.org/officeDocument/2006/relationships/image" Target="../media/image5.jpeg"/><Relationship Id="rId25" Type="http://schemas.openxmlformats.org/officeDocument/2006/relationships/image" Target="../media/image6.jpeg"/><Relationship Id="rId26" Type="http://schemas.openxmlformats.org/officeDocument/2006/relationships/slide" Target="slide55.xml"/><Relationship Id="rId27" Type="http://schemas.openxmlformats.org/officeDocument/2006/relationships/image" Target="../media/image2.jpeg"/><Relationship Id="rId28" Type="http://schemas.openxmlformats.org/officeDocument/2006/relationships/oleObject" Target="../embeddings/oleObject9.bin"/><Relationship Id="rId29" Type="http://schemas.openxmlformats.org/officeDocument/2006/relationships/image" Target="../media/image125.wmf"/><Relationship Id="rId30" Type="http://schemas.openxmlformats.org/officeDocument/2006/relationships/oleObject" Target="../embeddings/oleObject10.bin"/><Relationship Id="rId31" Type="http://schemas.openxmlformats.org/officeDocument/2006/relationships/image" Target="../media/image126.wmf"/><Relationship Id="rId32" Type="http://schemas.openxmlformats.org/officeDocument/2006/relationships/oleObject" Target="../embeddings/oleObject11.bin"/><Relationship Id="rId33" Type="http://schemas.openxmlformats.org/officeDocument/2006/relationships/image" Target="../media/image127.wmf"/><Relationship Id="rId34" Type="http://schemas.openxmlformats.org/officeDocument/2006/relationships/image" Target="../media/image79.png"/><Relationship Id="rId35" Type="http://schemas.openxmlformats.org/officeDocument/2006/relationships/image" Target="../media/image128.png"/><Relationship Id="rId36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4.wmf"/><Relationship Id="rId13" Type="http://schemas.openxmlformats.org/officeDocument/2006/relationships/image" Target="../media/image13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36.wmf"/><Relationship Id="rId16" Type="http://schemas.openxmlformats.org/officeDocument/2006/relationships/image" Target="../media/image135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37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21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22.wmf"/><Relationship Id="rId23" Type="http://schemas.openxmlformats.org/officeDocument/2006/relationships/image" Target="../media/image135.png"/><Relationship Id="rId24" Type="http://schemas.openxmlformats.org/officeDocument/2006/relationships/slide" Target="slide2.xml"/><Relationship Id="rId25" Type="http://schemas.openxmlformats.org/officeDocument/2006/relationships/image" Target="../media/image3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image" Target="../media/image6.jpeg"/><Relationship Id="rId29" Type="http://schemas.openxmlformats.org/officeDocument/2006/relationships/slide" Target="slide55.xml"/><Relationship Id="rId30" Type="http://schemas.openxmlformats.org/officeDocument/2006/relationships/image" Target="../media/image2.jpeg"/><Relationship Id="rId3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4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4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4.wmf"/><Relationship Id="rId29" Type="http://schemas.openxmlformats.org/officeDocument/2006/relationships/image" Target="../media/image79.png"/><Relationship Id="rId30" Type="http://schemas.openxmlformats.org/officeDocument/2006/relationships/image" Target="../media/image79.png"/><Relationship Id="rId31" Type="http://schemas.openxmlformats.org/officeDocument/2006/relationships/image" Target="../media/image79.png"/><Relationship Id="rId32" Type="http://schemas.openxmlformats.org/officeDocument/2006/relationships/image" Target="../media/image79.png"/><Relationship Id="rId33" Type="http://schemas.openxmlformats.org/officeDocument/2006/relationships/slide" Target="slide2.xml"/><Relationship Id="rId34" Type="http://schemas.openxmlformats.org/officeDocument/2006/relationships/image" Target="../media/image3.jpeg"/><Relationship Id="rId35" Type="http://schemas.openxmlformats.org/officeDocument/2006/relationships/image" Target="../media/image4.jpeg"/><Relationship Id="rId36" Type="http://schemas.openxmlformats.org/officeDocument/2006/relationships/image" Target="../media/image5.jpeg"/><Relationship Id="rId37" Type="http://schemas.openxmlformats.org/officeDocument/2006/relationships/image" Target="../media/image6.jpeg"/><Relationship Id="rId38" Type="http://schemas.openxmlformats.org/officeDocument/2006/relationships/slide" Target="slide55.xml"/><Relationship Id="rId39" Type="http://schemas.openxmlformats.org/officeDocument/2006/relationships/image" Target="../media/image2.jpeg"/><Relationship Id="rId40" Type="http://schemas.openxmlformats.org/officeDocument/2006/relationships/oleObject" Target="../embeddings/oleObject15.bin"/><Relationship Id="rId41" Type="http://schemas.openxmlformats.org/officeDocument/2006/relationships/image" Target="../media/image150.wmf"/><Relationship Id="rId4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5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5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60.wmf"/><Relationship Id="rId27" Type="http://schemas.openxmlformats.org/officeDocument/2006/relationships/image" Target="../media/image79.png"/><Relationship Id="rId28" Type="http://schemas.openxmlformats.org/officeDocument/2006/relationships/image" Target="../media/image79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161.wmf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144.wmf"/><Relationship Id="rId33" Type="http://schemas.openxmlformats.org/officeDocument/2006/relationships/oleObject" Target="../embeddings/oleObject16.bin"/><Relationship Id="rId34" Type="http://schemas.openxmlformats.org/officeDocument/2006/relationships/image" Target="../media/image71.wmf"/><Relationship Id="rId35" Type="http://schemas.openxmlformats.org/officeDocument/2006/relationships/oleObject" Target="../embeddings/oleObject17.bin"/><Relationship Id="rId36" Type="http://schemas.openxmlformats.org/officeDocument/2006/relationships/image" Target="../media/image162.wmf"/><Relationship Id="rId37" Type="http://schemas.openxmlformats.org/officeDocument/2006/relationships/image" Target="../media/image79.png"/><Relationship Id="rId38" Type="http://schemas.openxmlformats.org/officeDocument/2006/relationships/slide" Target="slide2.xml"/><Relationship Id="rId39" Type="http://schemas.openxmlformats.org/officeDocument/2006/relationships/image" Target="../media/image3.jpeg"/><Relationship Id="rId40" Type="http://schemas.openxmlformats.org/officeDocument/2006/relationships/image" Target="../media/image4.jpeg"/><Relationship Id="rId41" Type="http://schemas.openxmlformats.org/officeDocument/2006/relationships/image" Target="../media/image5.jpeg"/><Relationship Id="rId42" Type="http://schemas.openxmlformats.org/officeDocument/2006/relationships/image" Target="../media/image6.jpeg"/><Relationship Id="rId43" Type="http://schemas.openxmlformats.org/officeDocument/2006/relationships/slide" Target="slide55.xml"/><Relationship Id="rId44" Type="http://schemas.openxmlformats.org/officeDocument/2006/relationships/image" Target="../media/image2.jpeg"/><Relationship Id="rId45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6.wmf"/><Relationship Id="rId19" Type="http://schemas.openxmlformats.org/officeDocument/2006/relationships/image" Target="../media/image79.png"/><Relationship Id="rId20" Type="http://schemas.openxmlformats.org/officeDocument/2006/relationships/image" Target="../media/image79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67.wmf"/><Relationship Id="rId23" Type="http://schemas.openxmlformats.org/officeDocument/2006/relationships/image" Target="../media/image79.png"/><Relationship Id="rId24" Type="http://schemas.openxmlformats.org/officeDocument/2006/relationships/slide" Target="slide2.xml"/><Relationship Id="rId25" Type="http://schemas.openxmlformats.org/officeDocument/2006/relationships/image" Target="../media/image3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image" Target="../media/image6.jpeg"/><Relationship Id="rId29" Type="http://schemas.openxmlformats.org/officeDocument/2006/relationships/slide" Target="slide55.xml"/><Relationship Id="rId30" Type="http://schemas.openxmlformats.org/officeDocument/2006/relationships/image" Target="../media/image2.jpeg"/><Relationship Id="rId3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1.wmf"/><Relationship Id="rId9" Type="http://schemas.openxmlformats.org/officeDocument/2006/relationships/image" Target="../media/image7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7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7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7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7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5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77.wmf"/><Relationship Id="rId24" Type="http://schemas.openxmlformats.org/officeDocument/2006/relationships/image" Target="../media/image79.png"/><Relationship Id="rId25" Type="http://schemas.openxmlformats.org/officeDocument/2006/relationships/image" Target="../media/image79.png"/><Relationship Id="rId26" Type="http://schemas.openxmlformats.org/officeDocument/2006/relationships/slide" Target="slide2.xml"/><Relationship Id="rId27" Type="http://schemas.openxmlformats.org/officeDocument/2006/relationships/image" Target="../media/image3.jpeg"/><Relationship Id="rId28" Type="http://schemas.openxmlformats.org/officeDocument/2006/relationships/image" Target="../media/image4.jpeg"/><Relationship Id="rId29" Type="http://schemas.openxmlformats.org/officeDocument/2006/relationships/image" Target="../media/image5.jpeg"/><Relationship Id="rId30" Type="http://schemas.openxmlformats.org/officeDocument/2006/relationships/image" Target="../media/image6.jpeg"/><Relationship Id="rId31" Type="http://schemas.openxmlformats.org/officeDocument/2006/relationships/slide" Target="slide55.xml"/><Relationship Id="rId32" Type="http://schemas.openxmlformats.org/officeDocument/2006/relationships/image" Target="../media/image2.jpeg"/><Relationship Id="rId3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" Target="slide55.xml"/><Relationship Id="rId7" Type="http://schemas.openxmlformats.org/officeDocument/2006/relationships/image" Target="../media/image2.jpeg"/><Relationship Id="rId8" Type="http://schemas.openxmlformats.org/officeDocument/2006/relationships/image" Target="../media/image178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79.wmf"/><Relationship Id="rId1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" Target="slide55.xml"/><Relationship Id="rId7" Type="http://schemas.openxmlformats.org/officeDocument/2006/relationships/image" Target="../media/image2.jpe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80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81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82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83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84.wmf"/><Relationship Id="rId18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85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86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87.wmf"/><Relationship Id="rId1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2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8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8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90.wmf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8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" Target="slide5.xml"/><Relationship Id="rId4" Type="http://schemas.openxmlformats.org/officeDocument/2006/relationships/image" Target="../media/image2.jpeg"/><Relationship Id="rId5" Type="http://schemas.openxmlformats.org/officeDocument/2006/relationships/slide" Target="slide2.xm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fafa"/>
                </a:solidFill>
                <a:latin typeface="黑体"/>
                <a:ea typeface="黑体"/>
              </a:rPr>
              <a:t>第</a:t>
            </a:r>
            <a:r>
              <a:rPr b="1" lang="en-US" sz="4000" spc="-1" strike="noStrike">
                <a:solidFill>
                  <a:srgbClr val="f4fafa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f4fafa"/>
                </a:solidFill>
                <a:latin typeface="黑体"/>
                <a:ea typeface="黑体"/>
              </a:rPr>
              <a:t>章 多元正态分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45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rId7" action="ppaction://hlinksldjump"/>
          </p:cNvPr>
          <p:cNvSpPr/>
          <p:nvPr/>
        </p:nvSpPr>
        <p:spPr>
          <a:xfrm>
            <a:off x="1403280" y="1557360"/>
            <a:ext cx="58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fafa"/>
                </a:solidFill>
                <a:latin typeface="Arial"/>
                <a:ea typeface="黑体"/>
              </a:rPr>
              <a:t>§5.1    </a:t>
            </a: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多元分布的基本概念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1382760" y="24210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fafa"/>
                </a:solidFill>
                <a:latin typeface="Arial"/>
                <a:ea typeface="黑体"/>
              </a:rPr>
              <a:t>§5.2    </a:t>
            </a: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统计距离和马氏距离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1347840" y="3213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fafa"/>
                </a:solidFill>
                <a:latin typeface="Arial"/>
                <a:ea typeface="黑体"/>
              </a:rPr>
              <a:t>§5.3     </a:t>
            </a: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多元正态分布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2322000" y="4076640"/>
            <a:ext cx="39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§5</a:t>
            </a:r>
            <a:r>
              <a:rPr b="1" lang="en-US" sz="2800" spc="-1" strike="noStrike">
                <a:solidFill>
                  <a:srgbClr val="f4fafa"/>
                </a:solidFill>
                <a:latin typeface="Arial"/>
                <a:ea typeface="黑体"/>
              </a:rPr>
              <a:t>.4    </a:t>
            </a: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均值向量和协方差阵的估计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2116440" y="4941720"/>
            <a:ext cx="32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§5</a:t>
            </a:r>
            <a:r>
              <a:rPr b="1" lang="en-US" sz="2800" spc="-1" strike="noStrike">
                <a:solidFill>
                  <a:srgbClr val="f4fafa"/>
                </a:solidFill>
                <a:latin typeface="Arial"/>
                <a:ea typeface="黑体"/>
              </a:rPr>
              <a:t>.5    </a:t>
            </a: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常用分布及抽样分布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A0E1-862C-4E5B-B7C1-9FAED23FBA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2A6CD-B158-489A-8E72-75F864DE3A36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4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84360" y="1341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fafa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4fafa"/>
                </a:solidFill>
                <a:latin typeface="黑体"/>
                <a:ea typeface="黑体"/>
              </a:rPr>
              <a:t>、随机向量</a:t>
            </a:r>
            <a:r>
              <a:rPr b="1" i="1" lang="en-US" sz="2800" spc="-1" strike="noStrike">
                <a:solidFill>
                  <a:srgbClr val="f4fafa"/>
                </a:solidFill>
                <a:latin typeface="黑体"/>
                <a:ea typeface="黑体"/>
              </a:rPr>
              <a:t>X </a:t>
            </a:r>
            <a:r>
              <a:rPr b="1" lang="zh-CN" sz="2800" spc="-1" strike="noStrike">
                <a:solidFill>
                  <a:srgbClr val="f4fafa"/>
                </a:solidFill>
                <a:latin typeface="黑体"/>
                <a:ea typeface="黑体"/>
              </a:rPr>
              <a:t>和</a:t>
            </a:r>
            <a:r>
              <a:rPr b="1" i="1" lang="en-US" sz="2800" spc="-1" strike="noStrike">
                <a:solidFill>
                  <a:srgbClr val="f4fafa"/>
                </a:solidFill>
                <a:latin typeface="黑体"/>
                <a:ea typeface="黑体"/>
              </a:rPr>
              <a:t>Y </a:t>
            </a:r>
            <a:r>
              <a:rPr b="1" lang="zh-CN" sz="2800" spc="-1" strike="noStrike">
                <a:solidFill>
                  <a:srgbClr val="f4fafa"/>
                </a:solidFill>
                <a:latin typeface="黑体"/>
                <a:ea typeface="黑体"/>
              </a:rPr>
              <a:t>的协差阵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971640" y="2060640"/>
            <a:ext cx="7773840" cy="1212840"/>
            <a:chOff x="971640" y="2060640"/>
            <a:chExt cx="7773840" cy="1212840"/>
          </a:xfrm>
        </p:grpSpPr>
        <p:sp>
          <p:nvSpPr>
            <p:cNvPr id="427" name=""/>
            <p:cNvSpPr/>
            <p:nvPr/>
          </p:nvSpPr>
          <p:spPr>
            <a:xfrm>
              <a:off x="971640" y="2060640"/>
              <a:ext cx="763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设                                分别为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维和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维随机向量，它们之间的协方差阵定义为一个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矩阵，其元素是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  ，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即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      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1692360" y="2120760"/>
                  <a:ext cx="489744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'</m:t>
                      </m:r>
                      <m:r>
                        <m:t xml:space="preserve"> </m:t>
                      </m:r>
                      <m:r>
                        <m:t xml:space="preserve">和</m:t>
                      </m:r>
                      <m:r>
                        <m:t xml:space="preserve"> 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7524720" y="2179800"/>
                  <a:ext cx="24768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0" name="Rectangle 3"/>
                <p:cNvSpPr txBox="1"/>
                <p:nvPr/>
              </p:nvSpPr>
              <p:spPr>
                <a:xfrm>
                  <a:off x="8459640" y="2205000"/>
                  <a:ext cx="285840" cy="3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7164360" y="2530440"/>
                  <a:ext cx="79236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×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2" name=""/>
                <p:cNvSpPr txBox="1"/>
                <p:nvPr/>
              </p:nvSpPr>
              <p:spPr>
                <a:xfrm>
                  <a:off x="2916360" y="2852640"/>
                  <a:ext cx="1295280" cy="4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v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030320" y="3284640"/>
          <a:ext cx="7732800" cy="493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30320" y="3284640"/>
                    <a:ext cx="773280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106640" y="3789360"/>
                <a:ext cx="49831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若</m:t>
                    </m:r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，称</m:t>
                    </m:r>
                    <m:r>
                      <m:t xml:space="preserve">X和Y</m:t>
                    </m:r>
                    <m:r>
                      <m:rPr>
                        <m:lit/>
                        <m:nor/>
                      </m:rPr>
                      <m:t xml:space="preserve">是不相关的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971640" y="4292640"/>
            <a:ext cx="799308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当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为常数矩阵时，由定义可推出协差阵有如下性质：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258920" y="4865760"/>
                <a:ext cx="374472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Σ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3EC1-E619-4A96-B61E-F41BAE635C83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0CEDD-6164-47BF-8E8A-EBC745839D82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7928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4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grpSp>
        <p:nvGrpSpPr>
          <p:cNvPr id="450" name=""/>
          <p:cNvGrpSpPr/>
          <p:nvPr/>
        </p:nvGrpSpPr>
        <p:grpSpPr>
          <a:xfrm>
            <a:off x="971640" y="1268280"/>
            <a:ext cx="8353440" cy="2302560"/>
            <a:chOff x="971640" y="1268280"/>
            <a:chExt cx="8353440" cy="2302560"/>
          </a:xfrm>
        </p:grpSpPr>
        <p:sp>
          <p:nvSpPr>
            <p:cNvPr id="451" name=""/>
            <p:cNvSpPr/>
            <p:nvPr/>
          </p:nvSpPr>
          <p:spPr>
            <a:xfrm>
              <a:off x="971640" y="1268280"/>
              <a:ext cx="8353440" cy="23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3</a:t>
              </a:r>
              <a:r>
                <a:rPr b="1" lang="zh-CN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）设</a:t>
              </a:r>
              <a:r>
                <a:rPr b="1" i="1" lang="en-US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X</a:t>
              </a:r>
              <a:r>
                <a:rPr b="1" lang="zh-CN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为  维随机向量，期望和协方差存在记                                   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                                                                     </a:t>
              </a:r>
              <a:r>
                <a:rPr b="1" lang="zh-CN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则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>
                  <a:off x="1979640" y="2708280"/>
                  <a:ext cx="47512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X'A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tr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Σ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μ</m:t>
                      </m:r>
                      <m:r>
                        <m:t xml:space="preserve">'</m:t>
                      </m:r>
                      <m:r>
                        <m:rPr>
                          <m:lit/>
                          <m:nor/>
                        </m:rPr>
                        <m:t xml:space="preserve">Aμ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3" name=""/>
                <p:cNvSpPr txBox="1"/>
                <p:nvPr/>
              </p:nvSpPr>
              <p:spPr>
                <a:xfrm>
                  <a:off x="2843280" y="1413000"/>
                  <a:ext cx="37296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1908000" y="1951200"/>
                  <a:ext cx="590400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  <m:r>
                        <m:t xml:space="preserve">=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Σ</m:t>
                      </m:r>
                      <m:r>
                        <m:t xml:space="preserve">=</m:t>
                      </m:r>
                      <m:r>
                        <m:t xml:space="preserve">D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A为n</m:t>
                      </m:r>
                      <m:r>
                        <m:t xml:space="preserve">×</m:t>
                      </m:r>
                      <m:r>
                        <m:t xml:space="preserve">n</m:t>
                      </m:r>
                      <m:r>
                        <m:rPr>
                          <m:lit/>
                          <m:nor/>
                        </m:rPr>
                        <m:t xml:space="preserve">常数阵，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5" name=""/>
          <p:cNvGrpSpPr/>
          <p:nvPr/>
        </p:nvGrpSpPr>
        <p:grpSpPr>
          <a:xfrm>
            <a:off x="684360" y="3500280"/>
            <a:ext cx="7705440" cy="648000"/>
            <a:chOff x="684360" y="3500280"/>
            <a:chExt cx="7705440" cy="648000"/>
          </a:xfrm>
        </p:grpSpPr>
        <p:sp>
          <p:nvSpPr>
            <p:cNvPr id="456" name=""/>
            <p:cNvSpPr/>
            <p:nvPr/>
          </p:nvSpPr>
          <p:spPr>
            <a:xfrm>
              <a:off x="684360" y="3500280"/>
              <a:ext cx="770544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</a:t>
              </a: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对于任何随机向量</a:t>
              </a:r>
              <a:r>
                <a:rPr b="1" i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           </a:t>
              </a: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来说，其协差阵∑都是对称阵，同时总是非负定（也称半正定）的。大多数情形下是正定的。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7" name=""/>
                <p:cNvSpPr txBox="1"/>
                <p:nvPr/>
              </p:nvSpPr>
              <p:spPr>
                <a:xfrm>
                  <a:off x="4181400" y="3597120"/>
                  <a:ext cx="3033720" cy="55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'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BF53-0E93-4746-B707-D9D4CFA6677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998CD-FB41-4D1D-A1F7-BD66A8AD5B6C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Rectangle 3"/>
          <p:cNvGraphicFramePr/>
          <p:nvPr/>
        </p:nvGraphicFramePr>
        <p:xfrm>
          <a:off x="1476360" y="3073320"/>
          <a:ext cx="7129440" cy="16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073320"/>
                    <a:ext cx="7129440" cy="16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46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0" y="1341360"/>
            <a:ext cx="8893080" cy="2022480"/>
            <a:chOff x="0" y="1341360"/>
            <a:chExt cx="8893080" cy="2022480"/>
          </a:xfrm>
        </p:grpSpPr>
        <p:sp>
          <p:nvSpPr>
            <p:cNvPr id="470" name=""/>
            <p:cNvSpPr/>
            <p:nvPr/>
          </p:nvSpPr>
          <p:spPr>
            <a:xfrm>
              <a:off x="0" y="1341360"/>
              <a:ext cx="8893080" cy="20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</a:t>
              </a:r>
              <a:r>
                <a:rPr b="1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、随机向量</a:t>
              </a:r>
              <a:r>
                <a:rPr b="1" i="1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X </a:t>
              </a: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的相关阵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 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若随机向量              的协差阵存在</a:t>
              </a:r>
              <a:r>
                <a:rPr b="0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且每个分量的方差大于零，则</a:t>
              </a:r>
              <a:r>
                <a:rPr b="1" i="1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X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的相关阵定义为</a:t>
              </a:r>
              <a:r>
                <a:rPr b="0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: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1" name=""/>
                <p:cNvSpPr txBox="1"/>
                <p:nvPr/>
              </p:nvSpPr>
              <p:spPr>
                <a:xfrm>
                  <a:off x="3298680" y="1851120"/>
                  <a:ext cx="245268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'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900000" y="5084640"/>
            <a:ext cx="6767640" cy="527040"/>
            <a:chOff x="900000" y="5084640"/>
            <a:chExt cx="6767640" cy="527040"/>
          </a:xfrm>
        </p:grpSpPr>
        <p:sp>
          <p:nvSpPr>
            <p:cNvPr id="474" name=""/>
            <p:cNvSpPr/>
            <p:nvPr/>
          </p:nvSpPr>
          <p:spPr>
            <a:xfrm>
              <a:off x="900000" y="5131440"/>
              <a:ext cx="676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    </a:t>
              </a:r>
              <a:r>
                <a:rPr b="0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也称为分量</a:t>
              </a:r>
              <a:r>
                <a:rPr b="0" i="1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    </a:t>
              </a:r>
              <a:r>
                <a:rPr b="0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与</a:t>
              </a:r>
              <a:r>
                <a:rPr b="0" i="1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    </a:t>
              </a:r>
              <a:r>
                <a:rPr b="0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之间的（线性）相关系数。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5" name=""/>
                <p:cNvSpPr txBox="1"/>
                <p:nvPr/>
              </p:nvSpPr>
              <p:spPr>
                <a:xfrm>
                  <a:off x="971640" y="5084640"/>
                  <a:ext cx="42228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6" name=""/>
                <p:cNvSpPr txBox="1"/>
                <p:nvPr/>
              </p:nvSpPr>
              <p:spPr>
                <a:xfrm>
                  <a:off x="2797200" y="5157720"/>
                  <a:ext cx="38736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7" name=""/>
                <p:cNvSpPr txBox="1"/>
                <p:nvPr/>
              </p:nvSpPr>
              <p:spPr>
                <a:xfrm>
                  <a:off x="3492360" y="5157720"/>
                  <a:ext cx="43524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8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342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8EED-AF0F-4DF5-A2E9-EC4CF7F8458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40184-D80D-471B-941D-8E0DBD518ECA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395280" y="155880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在数据处理时，为了克服由于指标的量纲不同对统计分析结果带来的影响，往往在使用某种统计分析方法之前，常需将每个指标“标准化”，即做如下变换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p:graphicFrame>
        <p:nvGraphicFramePr>
          <p:cNvPr id="482" name="Rectangle 3"/>
          <p:cNvGraphicFramePr/>
          <p:nvPr/>
        </p:nvGraphicFramePr>
        <p:xfrm>
          <a:off x="1258920" y="2708280"/>
          <a:ext cx="5830920" cy="34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708280"/>
                    <a:ext cx="5830920" cy="34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48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6D11-073D-4B94-B7F1-17035FD23810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7CE08-206A-4B01-AACD-5C767A6919F4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4fafa"/>
                </a:solidFill>
                <a:latin typeface="黑体"/>
                <a:ea typeface="黑体"/>
              </a:rPr>
              <a:t>随机向量数字特征的</a:t>
            </a:r>
            <a:r>
              <a:rPr b="1" lang="zh-CN" sz="3800" spc="-1" strike="noStrike">
                <a:solidFill>
                  <a:srgbClr val="fdfdf1"/>
                </a:solidFill>
                <a:latin typeface="Arial"/>
              </a:rPr>
              <a:t>例子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D7C3-13EF-4B0A-AAE3-07979F71022C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7FE4B-6B5B-4C4C-82F5-48D0A5CA26FC}" type="datetime1">
              <a:rPr lang="en-US"/>
              <a:t>07/30/26</a:t>
            </a:fld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dfdf1"/>
                </a:solidFill>
                <a:latin typeface="Arial"/>
              </a:rPr>
              <a:t>增加例</a:t>
            </a:r>
            <a:r>
              <a:rPr b="0" lang="en-US" sz="3800" spc="-1" strike="noStrike">
                <a:solidFill>
                  <a:srgbClr val="fdfdf1"/>
                </a:solidFill>
                <a:latin typeface="Arial"/>
              </a:rPr>
              <a:t>5-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dfd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dfdf1"/>
                </a:solidFill>
                <a:latin typeface="Arial"/>
              </a:rPr>
              <a:t>增加例</a:t>
            </a:r>
            <a:r>
              <a:rPr b="0" lang="en-US" sz="3200" spc="-1" strike="noStrike">
                <a:solidFill>
                  <a:srgbClr val="fdfdf1"/>
                </a:solidFill>
                <a:latin typeface="Arial"/>
              </a:rPr>
              <a:t>5-1 </a:t>
            </a:r>
            <a:r>
              <a:rPr b="0" lang="zh-CN" sz="3200" spc="-1" strike="noStrike">
                <a:solidFill>
                  <a:srgbClr val="fdfdf1"/>
                </a:solidFill>
                <a:latin typeface="Arial"/>
              </a:rPr>
              <a:t>焊接技术培训班有</a:t>
            </a:r>
            <a:r>
              <a:rPr b="0" lang="en-US" sz="3200" spc="-1" strike="noStrike">
                <a:solidFill>
                  <a:srgbClr val="fdfdf1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fdfdf1"/>
                </a:solidFill>
                <a:latin typeface="Arial"/>
              </a:rPr>
              <a:t>名学生：基础焊接技术（</a:t>
            </a:r>
            <a:r>
              <a:rPr b="0" lang="en-US" sz="3200" spc="-1" strike="noStrike">
                <a:solidFill>
                  <a:srgbClr val="fdfdf1"/>
                </a:solidFill>
                <a:latin typeface="Arial"/>
              </a:rPr>
              <a:t>BWT</a:t>
            </a:r>
            <a:r>
              <a:rPr b="0" lang="zh-CN" sz="3200" spc="-1" strike="noStrike">
                <a:solidFill>
                  <a:srgbClr val="fdfdf1"/>
                </a:solidFill>
                <a:latin typeface="Arial"/>
              </a:rPr>
              <a:t>），焊接技术提高（</a:t>
            </a:r>
            <a:r>
              <a:rPr b="0" lang="en-US" sz="3200" spc="-1" strike="noStrike">
                <a:solidFill>
                  <a:srgbClr val="fdfdf1"/>
                </a:solidFill>
                <a:latin typeface="Arial"/>
              </a:rPr>
              <a:t>AWT</a:t>
            </a:r>
            <a:r>
              <a:rPr b="0" lang="zh-CN" sz="3200" spc="-1" strike="noStrike">
                <a:solidFill>
                  <a:srgbClr val="fdfdf1"/>
                </a:solidFill>
                <a:latin typeface="Arial"/>
              </a:rPr>
              <a:t>）和焊接车间实践（</a:t>
            </a:r>
            <a:r>
              <a:rPr b="0" lang="en-US" sz="3200" spc="-1" strike="noStrike">
                <a:solidFill>
                  <a:srgbClr val="fdfdf1"/>
                </a:solidFill>
                <a:latin typeface="Arial"/>
              </a:rPr>
              <a:t>PWW</a:t>
            </a:r>
            <a:r>
              <a:rPr b="0" lang="zh-CN" sz="3200" spc="-1" strike="noStrike">
                <a:solidFill>
                  <a:srgbClr val="fdfdf1"/>
                </a:solidFill>
                <a:latin typeface="Arial"/>
              </a:rPr>
              <a:t>）的成绩如表所示（数据文件</a:t>
            </a:r>
            <a:r>
              <a:rPr b="0" lang="en-US" sz="3200" spc="-1" strike="noStrike">
                <a:solidFill>
                  <a:srgbClr val="fdfdf1"/>
                </a:solidFill>
                <a:latin typeface="Arial"/>
              </a:rPr>
              <a:t>MV_</a:t>
            </a:r>
            <a:r>
              <a:rPr b="0" lang="zh-CN" sz="3200" spc="-1" strike="noStrike">
                <a:solidFill>
                  <a:srgbClr val="fdfdf1"/>
                </a:solidFill>
                <a:latin typeface="Arial"/>
              </a:rPr>
              <a:t>焊接成绩</a:t>
            </a:r>
            <a:r>
              <a:rPr b="0" lang="en-US" sz="3200" spc="-1" strike="noStrike">
                <a:solidFill>
                  <a:srgbClr val="fdfdf1"/>
                </a:solidFill>
                <a:latin typeface="Arial"/>
              </a:rPr>
              <a:t>.BTW</a:t>
            </a:r>
            <a:r>
              <a:rPr b="0" lang="zh-CN" sz="3200" spc="-1" strike="noStrike">
                <a:solidFill>
                  <a:srgbClr val="fdfdf1"/>
                </a:solidFill>
                <a:latin typeface="Arial"/>
              </a:rPr>
              <a:t>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tretch/>
        </p:blipFill>
        <p:spPr>
          <a:xfrm>
            <a:off x="5148360" y="1197000"/>
            <a:ext cx="341928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C2FD-35C5-43A8-AA0A-6032DD75143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1FAF52-0BC8-4002-B165-7A6E1D9A5952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203280" y="16002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dfd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dfdf1"/>
                </a:solidFill>
                <a:latin typeface="Arial"/>
              </a:rPr>
              <a:t>请注意：样本资料阵在形式上与在</a:t>
            </a:r>
            <a:r>
              <a:rPr b="0" lang="en-US" sz="3200" spc="-1" strike="noStrike">
                <a:solidFill>
                  <a:srgbClr val="fdfdf1"/>
                </a:solidFill>
                <a:latin typeface="Arial"/>
              </a:rPr>
              <a:t>MINITAB</a:t>
            </a:r>
            <a:r>
              <a:rPr b="0" lang="zh-CN" sz="3200" spc="-1" strike="noStrike">
                <a:solidFill>
                  <a:srgbClr val="fdfdf1"/>
                </a:solidFill>
                <a:latin typeface="Arial"/>
              </a:rPr>
              <a:t>软件中的工作表是完全一致的，工作表的第</a:t>
            </a:r>
            <a:r>
              <a:rPr b="0" lang="en-US" sz="3200" spc="-1" strike="noStrike">
                <a:solidFill>
                  <a:srgbClr val="fdfdf1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fdfdf1"/>
                </a:solidFill>
                <a:latin typeface="Arial"/>
              </a:rPr>
              <a:t>行表示第</a:t>
            </a:r>
            <a:r>
              <a:rPr b="0" lang="en-US" sz="3200" spc="-1" strike="noStrike">
                <a:solidFill>
                  <a:srgbClr val="fdfdf1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fdfdf1"/>
                </a:solidFill>
                <a:latin typeface="Arial"/>
              </a:rPr>
              <a:t>个样品，工作表的第</a:t>
            </a:r>
            <a:r>
              <a:rPr b="0" lang="en-US" sz="3200" spc="-1" strike="noStrike">
                <a:solidFill>
                  <a:srgbClr val="fdfdf1"/>
                </a:solidFill>
                <a:latin typeface="Arial"/>
              </a:rPr>
              <a:t>j</a:t>
            </a:r>
            <a:r>
              <a:rPr b="0" lang="zh-CN" sz="3200" spc="-1" strike="noStrike">
                <a:solidFill>
                  <a:srgbClr val="fdfdf1"/>
                </a:solidFill>
                <a:latin typeface="Arial"/>
              </a:rPr>
              <a:t>列表示对第</a:t>
            </a:r>
            <a:r>
              <a:rPr b="0" lang="en-US" sz="3200" spc="-1" strike="noStrike">
                <a:solidFill>
                  <a:srgbClr val="fdfdf1"/>
                </a:solidFill>
                <a:latin typeface="Arial"/>
              </a:rPr>
              <a:t>j</a:t>
            </a:r>
            <a:r>
              <a:rPr b="0" lang="zh-CN" sz="3200" spc="-1" strike="noStrike">
                <a:solidFill>
                  <a:srgbClr val="fdfdf1"/>
                </a:solidFill>
                <a:latin typeface="Arial"/>
              </a:rPr>
              <a:t>个变量的观测值，变量名称常列在表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4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448000" cy="38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EDF7-B900-41B5-9FF0-CA87773AE224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32E7D-6159-4500-AEB2-B5F8BCFFB76C}" type="datetime1">
              <a:rPr lang="en-US"/>
              <a:t>07/30/26</a:t>
            </a:fld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772080" cy="32385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5" descr=""/>
          <p:cNvPicPr/>
          <p:nvPr/>
        </p:nvPicPr>
        <p:blipFill>
          <a:blip r:embed="rId2"/>
          <a:stretch/>
        </p:blipFill>
        <p:spPr>
          <a:xfrm>
            <a:off x="3780000" y="476280"/>
            <a:ext cx="2409840" cy="40384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6" descr=""/>
          <p:cNvPicPr/>
          <p:nvPr/>
        </p:nvPicPr>
        <p:blipFill>
          <a:blip r:embed="rId3"/>
          <a:stretch/>
        </p:blipFill>
        <p:spPr>
          <a:xfrm>
            <a:off x="6170760" y="1557360"/>
            <a:ext cx="2973240" cy="2919240"/>
          </a:xfrm>
          <a:prstGeom prst="rect">
            <a:avLst/>
          </a:prstGeom>
          <a:ln w="0">
            <a:noFill/>
          </a:ln>
        </p:spPr>
      </p:pic>
      <p:sp>
        <p:nvSpPr>
          <p:cNvPr id="504" name="AutoShape 7"/>
          <p:cNvSpPr/>
          <p:nvPr/>
        </p:nvSpPr>
        <p:spPr>
          <a:xfrm>
            <a:off x="6156360" y="620640"/>
            <a:ext cx="576360" cy="1295640"/>
          </a:xfrm>
          <a:prstGeom prst="pi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05" name="Oval 8"/>
          <p:cNvSpPr/>
          <p:nvPr/>
        </p:nvSpPr>
        <p:spPr>
          <a:xfrm>
            <a:off x="7380360" y="3789360"/>
            <a:ext cx="7207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506" name="Picture 9" descr=""/>
          <p:cNvPicPr/>
          <p:nvPr/>
        </p:nvPicPr>
        <p:blipFill>
          <a:blip r:embed="rId4"/>
          <a:stretch/>
        </p:blipFill>
        <p:spPr>
          <a:xfrm>
            <a:off x="5553000" y="4586400"/>
            <a:ext cx="3591000" cy="2271600"/>
          </a:xfrm>
          <a:prstGeom prst="rect">
            <a:avLst/>
          </a:prstGeom>
          <a:ln w="0">
            <a:noFill/>
          </a:ln>
        </p:spPr>
      </p:pic>
      <p:sp>
        <p:nvSpPr>
          <p:cNvPr id="507" name="AutoShape 10"/>
          <p:cNvSpPr/>
          <p:nvPr/>
        </p:nvSpPr>
        <p:spPr>
          <a:xfrm>
            <a:off x="7667640" y="4076640"/>
            <a:ext cx="217440" cy="504720"/>
          </a:xfrm>
          <a:prstGeom prst="downArrow">
            <a:avLst>
              <a:gd name="adj1" fmla="val 50000"/>
              <a:gd name="adj2" fmla="val 58030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-364320" y="3500280"/>
            <a:ext cx="182628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dfdf1"/>
                </a:solidFill>
                <a:latin typeface="Arial"/>
              </a:rPr>
              <a:t>样本均值向量的计算</a:t>
            </a:r>
            <a:endParaRPr b="0" lang="en-US" sz="36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509" name="Picture 12" descr=""/>
          <p:cNvPicPr/>
          <p:nvPr/>
        </p:nvPicPr>
        <p:blipFill>
          <a:blip r:embed="rId5"/>
          <a:stretch/>
        </p:blipFill>
        <p:spPr>
          <a:xfrm>
            <a:off x="2124000" y="4653000"/>
            <a:ext cx="3095640" cy="1917720"/>
          </a:xfrm>
          <a:prstGeom prst="rect">
            <a:avLst/>
          </a:prstGeom>
          <a:ln w="0">
            <a:noFill/>
          </a:ln>
        </p:spPr>
      </p:pic>
      <p:sp>
        <p:nvSpPr>
          <p:cNvPr id="510" name="AutoShape 13"/>
          <p:cNvSpPr/>
          <p:nvPr/>
        </p:nvSpPr>
        <p:spPr>
          <a:xfrm>
            <a:off x="5003640" y="5516640"/>
            <a:ext cx="505080" cy="433440"/>
          </a:xfrm>
          <a:prstGeom prst="leftArrow">
            <a:avLst>
              <a:gd name="adj1" fmla="val 50000"/>
              <a:gd name="adj2" fmla="val 29132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16D8-1687-4393-AB1E-9E13FB23B24C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16BC4-8C7B-4BF3-B814-E6312BCA9B47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1403280" y="343080"/>
            <a:ext cx="7221600" cy="63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dfdf1"/>
                </a:solidFill>
                <a:latin typeface="Arial"/>
              </a:rPr>
              <a:t>样本协方差阵（也称为样本方差阵）的计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4" descr=""/>
          <p:cNvPicPr/>
          <p:nvPr/>
        </p:nvPicPr>
        <p:blipFill>
          <a:blip r:embed="rId1"/>
          <a:stretch/>
        </p:blipFill>
        <p:spPr>
          <a:xfrm>
            <a:off x="0" y="1197000"/>
            <a:ext cx="3743280" cy="31719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5" descr=""/>
          <p:cNvPicPr/>
          <p:nvPr/>
        </p:nvPicPr>
        <p:blipFill>
          <a:blip r:embed="rId2"/>
          <a:stretch/>
        </p:blipFill>
        <p:spPr>
          <a:xfrm>
            <a:off x="3708360" y="1700280"/>
            <a:ext cx="2419560" cy="40003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6" descr=""/>
          <p:cNvPicPr/>
          <p:nvPr/>
        </p:nvPicPr>
        <p:blipFill>
          <a:blip r:embed="rId3"/>
          <a:stretch/>
        </p:blipFill>
        <p:spPr>
          <a:xfrm>
            <a:off x="6143760" y="4038480"/>
            <a:ext cx="3000240" cy="28195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" descr=""/>
          <p:cNvPicPr/>
          <p:nvPr/>
        </p:nvPicPr>
        <p:blipFill>
          <a:blip r:embed="rId4"/>
          <a:stretch/>
        </p:blipFill>
        <p:spPr>
          <a:xfrm>
            <a:off x="0" y="4869000"/>
            <a:ext cx="3132000" cy="1330200"/>
          </a:xfrm>
          <a:prstGeom prst="rect">
            <a:avLst/>
          </a:prstGeom>
          <a:ln w="0">
            <a:noFill/>
          </a:ln>
        </p:spPr>
      </p:pic>
      <p:sp>
        <p:nvSpPr>
          <p:cNvPr id="517" name="AutoShape 8"/>
          <p:cNvSpPr/>
          <p:nvPr/>
        </p:nvSpPr>
        <p:spPr>
          <a:xfrm>
            <a:off x="2987640" y="5950080"/>
            <a:ext cx="3168720" cy="358560"/>
          </a:xfrm>
          <a:prstGeom prst="leftArrow">
            <a:avLst>
              <a:gd name="adj1" fmla="val 50000"/>
              <a:gd name="adj2" fmla="val 220934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8045-CA38-4540-816D-0B46E97A20A5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00324-C4B0-4ED8-A084-8A43D3CE9879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956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dfdf1"/>
                </a:solidFill>
                <a:latin typeface="Arial"/>
              </a:rPr>
              <a:t>样本协方差阵（也称为样本方差阵）的计算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dfd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fdf1"/>
                </a:solidFill>
                <a:latin typeface="Arial"/>
              </a:rPr>
              <a:t>由于样本协方差阵是对称的，会话区窗口结果中只显示了协方差阵的下三角部分，所以整个样本协方差阵全部写出则应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dfd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fdf1"/>
                </a:solidFill>
                <a:latin typeface="Arial"/>
              </a:rPr>
              <a:t>如果采用存储功能，则存储的样本协方差阵就是整个方阵而不是三角阵，这个矩阵对角线上的</a:t>
            </a:r>
            <a:r>
              <a:rPr b="0" lang="en-US" sz="2400" spc="-1" strike="noStrike">
                <a:solidFill>
                  <a:srgbClr val="fdfdf1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dfdf1"/>
                </a:solidFill>
                <a:latin typeface="Arial"/>
              </a:rPr>
              <a:t>个数</a:t>
            </a:r>
            <a:r>
              <a:rPr b="0" lang="en-US" sz="2400" spc="-1" strike="noStrike">
                <a:solidFill>
                  <a:srgbClr val="fdfdf1"/>
                </a:solidFill>
                <a:latin typeface="Arial"/>
              </a:rPr>
              <a:t>74.6222</a:t>
            </a:r>
            <a:r>
              <a:rPr b="0" lang="zh-CN" sz="2400" spc="-1" strike="noStrike">
                <a:solidFill>
                  <a:srgbClr val="fdfdf1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dfdf1"/>
                </a:solidFill>
                <a:latin typeface="Arial"/>
              </a:rPr>
              <a:t>70.2222</a:t>
            </a:r>
            <a:r>
              <a:rPr b="0" lang="zh-CN" sz="2400" spc="-1" strike="noStrike">
                <a:solidFill>
                  <a:srgbClr val="fdfdf1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dfdf1"/>
                </a:solidFill>
                <a:latin typeface="Arial"/>
              </a:rPr>
              <a:t>34.9</a:t>
            </a:r>
            <a:r>
              <a:rPr b="0" lang="zh-CN" sz="2400" spc="-1" strike="noStrike">
                <a:solidFill>
                  <a:srgbClr val="fdfdf1"/>
                </a:solidFill>
                <a:latin typeface="Arial"/>
              </a:rPr>
              <a:t>，分别是基础焊接技术（</a:t>
            </a:r>
            <a:r>
              <a:rPr b="0" lang="en-US" sz="2400" spc="-1" strike="noStrike">
                <a:solidFill>
                  <a:srgbClr val="fdfdf1"/>
                </a:solidFill>
                <a:latin typeface="Arial"/>
              </a:rPr>
              <a:t>BWT</a:t>
            </a:r>
            <a:r>
              <a:rPr b="0" lang="zh-CN" sz="2400" spc="-1" strike="noStrike">
                <a:solidFill>
                  <a:srgbClr val="fdfdf1"/>
                </a:solidFill>
                <a:latin typeface="Arial"/>
              </a:rPr>
              <a:t>），焊接技术提高（</a:t>
            </a:r>
            <a:r>
              <a:rPr b="0" lang="en-US" sz="2400" spc="-1" strike="noStrike">
                <a:solidFill>
                  <a:srgbClr val="fdfdf1"/>
                </a:solidFill>
                <a:latin typeface="Arial"/>
              </a:rPr>
              <a:t>AWT</a:t>
            </a:r>
            <a:r>
              <a:rPr b="0" lang="zh-CN" sz="2400" spc="-1" strike="noStrike">
                <a:solidFill>
                  <a:srgbClr val="fdfdf1"/>
                </a:solidFill>
                <a:latin typeface="Arial"/>
              </a:rPr>
              <a:t>）和焊接车间实践（</a:t>
            </a:r>
            <a:r>
              <a:rPr b="0" lang="en-US" sz="2400" spc="-1" strike="noStrike">
                <a:solidFill>
                  <a:srgbClr val="fdfdf1"/>
                </a:solidFill>
                <a:latin typeface="Arial"/>
              </a:rPr>
              <a:t>PWW</a:t>
            </a:r>
            <a:r>
              <a:rPr b="0" lang="zh-CN" sz="2400" spc="-1" strike="noStrike">
                <a:solidFill>
                  <a:srgbClr val="fdfdf1"/>
                </a:solidFill>
                <a:latin typeface="Arial"/>
              </a:rPr>
              <a:t>）三门课成绩的样本方差。</a:t>
            </a:r>
            <a:r>
              <a:rPr b="0" lang="zh-CN" sz="3200" spc="-1" strike="noStrike">
                <a:solidFill>
                  <a:srgbClr val="fdfdf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fd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fdf1"/>
                </a:solidFill>
                <a:latin typeface="Arial"/>
              </a:rPr>
              <a:t>样本离差阵等于样本协方差阵乘以</a:t>
            </a:r>
            <a:r>
              <a:rPr b="0" i="1" lang="en-US" sz="2400" spc="-1" strike="noStrike">
                <a:solidFill>
                  <a:srgbClr val="fdfdf1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dfdf1"/>
                </a:solidFill>
                <a:latin typeface="Arial"/>
              </a:rPr>
              <a:t>−1</a:t>
            </a:r>
            <a:r>
              <a:rPr b="0" lang="zh-CN" sz="2400" spc="-1" strike="noStrike">
                <a:solidFill>
                  <a:srgbClr val="fdfdf1"/>
                </a:solidFill>
                <a:latin typeface="Arial"/>
              </a:rPr>
              <a:t>，所以例</a:t>
            </a:r>
            <a:r>
              <a:rPr b="0" lang="en-US" sz="2400" spc="-1" strike="noStrike">
                <a:solidFill>
                  <a:srgbClr val="fdfdf1"/>
                </a:solidFill>
                <a:latin typeface="Arial"/>
              </a:rPr>
              <a:t>1-1</a:t>
            </a:r>
            <a:r>
              <a:rPr b="0" lang="zh-CN" sz="2400" spc="-1" strike="noStrike">
                <a:solidFill>
                  <a:srgbClr val="fdfdf1"/>
                </a:solidFill>
                <a:latin typeface="Arial"/>
              </a:rPr>
              <a:t>样本离差阵就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3629160" cy="11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DFF5-7ACD-4D29-AE8E-0FC623ABBEC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0AF49-E254-478F-A686-4FD8E4D36CBD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4fafa"/>
                </a:solidFill>
                <a:latin typeface="黑体"/>
                <a:ea typeface="黑体"/>
              </a:rPr>
              <a:t>§5.1</a:t>
            </a:r>
            <a:r>
              <a:rPr b="1" lang="zh-CN" sz="3800" spc="-1" strike="noStrike">
                <a:solidFill>
                  <a:srgbClr val="f4fafa"/>
                </a:solidFill>
                <a:latin typeface="黑体"/>
                <a:ea typeface="黑体"/>
              </a:rPr>
              <a:t>多元分布的基本概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rId8" action="ppaction://hlinksldjump"/>
          </p:cNvPr>
          <p:cNvSpPr/>
          <p:nvPr/>
        </p:nvSpPr>
        <p:spPr>
          <a:xfrm>
            <a:off x="1763640" y="1916280"/>
            <a:ext cx="3895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一、随机向量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3" name="">
            <a:hlinkClick r:id="rId9" action="ppaction://hlinksldjump"/>
          </p:cNvPr>
          <p:cNvSpPr/>
          <p:nvPr/>
        </p:nvSpPr>
        <p:spPr>
          <a:xfrm>
            <a:off x="4398480" y="2749680"/>
            <a:ext cx="343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二、分布函数与密度函数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4" name="">
            <a:hlinkClick r:id="rId10" action="ppaction://hlinksldjump"/>
          </p:cNvPr>
          <p:cNvSpPr/>
          <p:nvPr/>
        </p:nvSpPr>
        <p:spPr>
          <a:xfrm>
            <a:off x="1908000" y="3716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三、多元变量的独立性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5" name="">
            <a:hlinkClick r:id="rId11" action="ppaction://hlinksldjump"/>
          </p:cNvPr>
          <p:cNvSpPr/>
          <p:nvPr/>
        </p:nvSpPr>
        <p:spPr>
          <a:xfrm>
            <a:off x="1971720" y="4454640"/>
            <a:ext cx="5187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四、随机向量的数字特征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1F86-6C72-404C-9E53-49EF950069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0A6ED-080D-4B87-B15D-58B03E5D925A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dfdf1"/>
                </a:solidFill>
                <a:latin typeface="Arial"/>
              </a:rPr>
              <a:t>样本相关阵</a:t>
            </a:r>
            <a:r>
              <a:rPr b="0" i="1" lang="en-US" sz="3800" spc="-1" strike="noStrike">
                <a:solidFill>
                  <a:srgbClr val="fdfdf1"/>
                </a:solidFill>
                <a:latin typeface="Arial"/>
              </a:rPr>
              <a:t>R</a:t>
            </a:r>
            <a:r>
              <a:rPr b="0" lang="zh-CN" sz="3800" spc="-1" strike="noStrike">
                <a:solidFill>
                  <a:srgbClr val="fdfdf1"/>
                </a:solidFill>
                <a:latin typeface="Arial"/>
              </a:rPr>
              <a:t>计算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4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059600" cy="11527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5" descr=""/>
          <p:cNvPicPr/>
          <p:nvPr/>
        </p:nvPicPr>
        <p:blipFill>
          <a:blip r:embed="rId2"/>
          <a:stretch/>
        </p:blipFill>
        <p:spPr>
          <a:xfrm>
            <a:off x="0" y="2421000"/>
            <a:ext cx="3753000" cy="32004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6" descr=""/>
          <p:cNvPicPr/>
          <p:nvPr/>
        </p:nvPicPr>
        <p:blipFill>
          <a:blip r:embed="rId3"/>
          <a:stretch/>
        </p:blipFill>
        <p:spPr>
          <a:xfrm>
            <a:off x="3780000" y="2857680"/>
            <a:ext cx="2428560" cy="400032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7" descr=""/>
          <p:cNvPicPr/>
          <p:nvPr/>
        </p:nvPicPr>
        <p:blipFill>
          <a:blip r:embed="rId4"/>
          <a:stretch/>
        </p:blipFill>
        <p:spPr>
          <a:xfrm>
            <a:off x="6227640" y="4076640"/>
            <a:ext cx="2916360" cy="271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A73-5E54-4395-AA7C-26BC30D751C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61727-73CF-4908-ABC0-033883D77258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Arial"/>
              </a:rPr>
              <a:t>中国人民大学六西格玛质量管理研究中心</a:t>
            </a:r>
            <a:endParaRPr b="0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dfdf1"/>
                </a:solidFill>
                <a:latin typeface="Arial"/>
              </a:rPr>
              <a:t>样本相关阵</a:t>
            </a:r>
            <a:r>
              <a:rPr b="0" i="1" lang="en-US" sz="3800" spc="-1" strike="noStrike">
                <a:solidFill>
                  <a:srgbClr val="fdfdf1"/>
                </a:solidFill>
                <a:latin typeface="Arial"/>
              </a:rPr>
              <a:t>R</a:t>
            </a:r>
            <a:r>
              <a:rPr b="0" lang="zh-CN" sz="3800" spc="-1" strike="noStrike">
                <a:solidFill>
                  <a:srgbClr val="fdfdf1"/>
                </a:solidFill>
                <a:latin typeface="Arial"/>
              </a:rPr>
              <a:t>计算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3168720" cy="267660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5"/>
          <p:cNvSpPr/>
          <p:nvPr/>
        </p:nvSpPr>
        <p:spPr>
          <a:xfrm>
            <a:off x="971640" y="393372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fdf1"/>
                </a:solidFill>
                <a:latin typeface="Arial"/>
              </a:rPr>
              <a:t>由于样本相关阵是对称的，对角线上全是</a:t>
            </a:r>
            <a:r>
              <a:rPr b="0" lang="en-US" sz="2400" spc="-1" strike="noStrike">
                <a:solidFill>
                  <a:srgbClr val="fdfdf1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dfdf1"/>
                </a:solidFill>
                <a:latin typeface="Arial"/>
              </a:rPr>
              <a:t>，会话区窗口结果中只显示了扣除对角线后的下三角部分，所以整个样本相关阵全部写出则应是：</a:t>
            </a:r>
            <a:r>
              <a:rPr b="0" lang="zh-CN" sz="1800" spc="-1" strike="noStrike">
                <a:solidFill>
                  <a:srgbClr val="fdfdf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533" name="Picture 6" descr=""/>
          <p:cNvPicPr/>
          <p:nvPr/>
        </p:nvPicPr>
        <p:blipFill>
          <a:blip r:embed="rId2"/>
          <a:stretch/>
        </p:blipFill>
        <p:spPr>
          <a:xfrm>
            <a:off x="1116000" y="5157720"/>
            <a:ext cx="3533760" cy="11527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11"/>
          <p:cNvSpPr/>
          <p:nvPr/>
        </p:nvSpPr>
        <p:spPr>
          <a:xfrm>
            <a:off x="5219640" y="515772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fdf1"/>
                </a:solidFill>
                <a:latin typeface="Arial"/>
              </a:rPr>
              <a:t>如果采用存储功能，则存储的样本相关阵就是方阵而不是三角阵</a:t>
            </a:r>
            <a:r>
              <a:rPr b="0" lang="zh-CN" sz="1800" spc="-1" strike="noStrike">
                <a:solidFill>
                  <a:srgbClr val="fdfdf1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A03A-8CCA-4110-98EC-5B2D9CDB3F24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B23AE-9EA1-4959-9FC3-5E088075907F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4fafa"/>
                </a:solidFill>
                <a:latin typeface="黑体"/>
                <a:ea typeface="黑体"/>
              </a:rPr>
              <a:t>§5.2 </a:t>
            </a:r>
            <a:r>
              <a:rPr b="1" lang="zh-CN" sz="3800" spc="-1" strike="noStrike">
                <a:solidFill>
                  <a:srgbClr val="f4fafa"/>
                </a:solidFill>
                <a:latin typeface="黑体"/>
                <a:ea typeface="黑体"/>
              </a:rPr>
              <a:t>统计距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95280" y="1413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4fafa"/>
                </a:solidFill>
                <a:latin typeface="Arial"/>
                <a:ea typeface="黑体"/>
              </a:rPr>
              <a:t>欧氏距离</a:t>
            </a:r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39640" y="26665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在多指标统计分析中</a:t>
            </a:r>
            <a:r>
              <a:rPr b="0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距离的概念十分重要</a:t>
            </a:r>
            <a:r>
              <a:rPr b="0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样品间的不少特征都可用距离去描述。大部分多元方法是建立在简单的距离概念基础上的。即平时人们熟悉的欧氏距离</a:t>
            </a:r>
            <a:r>
              <a:rPr b="0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或称直线距离</a:t>
            </a:r>
            <a:r>
              <a:rPr b="0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如几何平面上的点</a:t>
            </a:r>
            <a:r>
              <a:rPr b="0" i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p=(x1,x2)</a:t>
            </a:r>
            <a:r>
              <a:rPr b="0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到原点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O=(0,0)</a:t>
            </a:r>
            <a:r>
              <a:rPr b="0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的欧氏距离</a:t>
            </a:r>
            <a:r>
              <a:rPr b="0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依勾股定理有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p:graphicFrame>
        <p:nvGraphicFramePr>
          <p:cNvPr id="538" name="Rectangle 3"/>
          <p:cNvGraphicFramePr/>
          <p:nvPr/>
        </p:nvGraphicFramePr>
        <p:xfrm>
          <a:off x="1355760" y="4508640"/>
          <a:ext cx="620856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5760" y="4508640"/>
                    <a:ext cx="62085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54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B21-46C6-4BB7-8C4D-7808D733ED76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BFC550-A0BA-4E42-95C1-568383BBFBB4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684360" y="3110760"/>
            <a:ext cx="763272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4fafa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4fafa"/>
                </a:solidFill>
                <a:latin typeface="黑体"/>
                <a:ea typeface="黑体"/>
              </a:rPr>
              <a:t>但就大部分统计问题而言，欧氏距离是不能令人满意的。这是因为，每个坐标对欧氏距离的贡献是同等的。当坐标轴表示测量值时，它们往往带有大小不等的随机波动，在这种情况下，合理的办法是对坐标加权，使得变化较大的坐标比变化小的坐标有较小的权系数，这就产生了各种距离。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4fafa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4fafa"/>
                </a:solidFill>
                <a:latin typeface="黑体"/>
                <a:ea typeface="黑体"/>
              </a:rPr>
              <a:t>欧氏距离还有一个缺点，这就是当各个分量为不同性质的量时，“距离”的大小竟然与指标的单位有关。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4fafa"/>
                </a:solidFill>
                <a:latin typeface="黑体"/>
                <a:ea typeface="黑体"/>
              </a:rPr>
              <a:t>       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5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D2A4-C0D2-4412-9016-6621F7A84B6A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AEB0F-1F1C-452B-B8FF-90DEB5C98539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5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11280" y="1413000"/>
            <a:ext cx="8281800" cy="947160"/>
            <a:chOff x="611280" y="1413000"/>
            <a:chExt cx="8281800" cy="947160"/>
          </a:xfrm>
        </p:grpSpPr>
        <p:sp>
          <p:nvSpPr>
            <p:cNvPr id="563" name=""/>
            <p:cNvSpPr/>
            <p:nvPr/>
          </p:nvSpPr>
          <p:spPr>
            <a:xfrm>
              <a:off x="611280" y="1413000"/>
              <a:ext cx="828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例如，横轴  代表重量（以</a:t>
              </a:r>
              <a:r>
                <a:rPr b="0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kg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为单位），纵轴</a:t>
              </a:r>
              <a:r>
                <a:rPr b="0" i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代表长度（以</a:t>
              </a:r>
              <a:r>
                <a:rPr b="0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cm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为单位）。有四个点</a:t>
              </a:r>
              <a:r>
                <a:rPr b="0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A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、</a:t>
              </a:r>
              <a:r>
                <a:rPr b="0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B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、</a:t>
              </a:r>
              <a:r>
                <a:rPr b="0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C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、</a:t>
              </a:r>
              <a:r>
                <a:rPr b="0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D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见图</a:t>
              </a:r>
              <a:r>
                <a:rPr b="0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5.1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，它们的坐标如图</a:t>
              </a:r>
              <a:r>
                <a:rPr b="0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5.1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所示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3021120" y="1506600"/>
                  <a:ext cx="503280" cy="3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5" name=""/>
                <p:cNvSpPr txBox="1"/>
                <p:nvPr/>
              </p:nvSpPr>
              <p:spPr>
                <a:xfrm>
                  <a:off x="8388360" y="1484280"/>
                  <a:ext cx="504720" cy="40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66" name="" descr=""/>
          <p:cNvPicPr/>
          <p:nvPr/>
        </p:nvPicPr>
        <p:blipFill>
          <a:blip r:embed="rId8"/>
          <a:stretch/>
        </p:blipFill>
        <p:spPr>
          <a:xfrm>
            <a:off x="2050920" y="2852640"/>
            <a:ext cx="3889440" cy="331488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3B71-2BB4-46FC-B75D-782B2E7B6B64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ECA44-9EFE-45EE-AF02-8FAAF144A2DE}" type="datetime1">
              <a:rPr lang="en-US"/>
              <a:t>07/30/26</a:t>
            </a:fld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5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grpSp>
        <p:nvGrpSpPr>
          <p:cNvPr id="574" name=""/>
          <p:cNvGrpSpPr/>
          <p:nvPr/>
        </p:nvGrpSpPr>
        <p:grpSpPr>
          <a:xfrm>
            <a:off x="900000" y="1504800"/>
            <a:ext cx="3888000" cy="885960"/>
            <a:chOff x="900000" y="1504800"/>
            <a:chExt cx="3888000" cy="885960"/>
          </a:xfrm>
        </p:grpSpPr>
        <mc:AlternateContent>
          <mc:Choice xmlns:a14="http://schemas.microsoft.com/office/drawing/2010/main" Requires="a14">
            <p:sp>
              <p:nvSpPr>
                <p:cNvPr id="575" name="Rectangle 3"/>
                <p:cNvSpPr txBox="1"/>
                <p:nvPr/>
              </p:nvSpPr>
              <p:spPr>
                <a:xfrm>
                  <a:off x="2340000" y="1504800"/>
                  <a:ext cx="2448000" cy="88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5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5</m:t>
                              </m:r>
                            </m:e>
                          </m:ra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D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1</m:t>
                              </m:r>
                            </m:e>
                          </m:ra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76" name=""/>
            <p:cNvSpPr/>
            <p:nvPr/>
          </p:nvSpPr>
          <p:spPr>
            <a:xfrm>
              <a:off x="900000" y="1628640"/>
              <a:ext cx="11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这时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826920" y="249228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4fafa"/>
                </a:solidFill>
                <a:latin typeface="黑体"/>
                <a:ea typeface="黑体"/>
              </a:rPr>
              <a:t>显然</a:t>
            </a:r>
            <a:r>
              <a:rPr b="0" i="1" lang="en-US" sz="2800" spc="-1" strike="noStrike">
                <a:solidFill>
                  <a:srgbClr val="f4fafa"/>
                </a:solidFill>
                <a:latin typeface="黑体"/>
                <a:ea typeface="黑体"/>
              </a:rPr>
              <a:t>AB</a:t>
            </a:r>
            <a:r>
              <a:rPr b="0" lang="zh-CN" sz="2800" spc="-1" strike="noStrike">
                <a:solidFill>
                  <a:srgbClr val="f4fafa"/>
                </a:solidFill>
                <a:latin typeface="黑体"/>
                <a:ea typeface="黑体"/>
              </a:rPr>
              <a:t>比</a:t>
            </a:r>
            <a:r>
              <a:rPr b="0" i="1" lang="en-US" sz="2800" spc="-1" strike="noStrike">
                <a:solidFill>
                  <a:srgbClr val="f4fafa"/>
                </a:solidFill>
                <a:latin typeface="黑体"/>
                <a:ea typeface="黑体"/>
              </a:rPr>
              <a:t>CD</a:t>
            </a:r>
            <a:r>
              <a:rPr b="0" lang="zh-CN" sz="2800" spc="-1" strike="noStrike">
                <a:solidFill>
                  <a:srgbClr val="f4fafa"/>
                </a:solidFill>
                <a:latin typeface="黑体"/>
                <a:ea typeface="黑体"/>
              </a:rPr>
              <a:t>要长。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826920" y="3213000"/>
            <a:ext cx="8317080" cy="947160"/>
            <a:chOff x="826920" y="3213000"/>
            <a:chExt cx="8317080" cy="947160"/>
          </a:xfrm>
        </p:grpSpPr>
        <p:sp>
          <p:nvSpPr>
            <p:cNvPr id="579" name=""/>
            <p:cNvSpPr/>
            <p:nvPr/>
          </p:nvSpPr>
          <p:spPr>
            <a:xfrm>
              <a:off x="826920" y="3213000"/>
              <a:ext cx="8317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现在，如果</a:t>
              </a:r>
              <a:r>
                <a:rPr b="0" i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用</a:t>
              </a:r>
              <a:r>
                <a:rPr b="0" i="1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mm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作单位，</a:t>
              </a:r>
              <a:r>
                <a:rPr b="0" i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单位保持不变，此时</a:t>
              </a:r>
              <a:r>
                <a:rPr b="0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A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坐标为（</a:t>
              </a:r>
              <a:r>
                <a:rPr b="0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0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，</a:t>
              </a:r>
              <a:r>
                <a:rPr b="0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50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），</a:t>
              </a:r>
              <a:r>
                <a:rPr b="0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C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坐标为（</a:t>
              </a:r>
              <a:r>
                <a:rPr b="0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0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，</a:t>
              </a:r>
              <a:r>
                <a:rPr b="0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100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），则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0" name="Rectangle 3"/>
                <p:cNvSpPr txBox="1"/>
                <p:nvPr/>
              </p:nvSpPr>
              <p:spPr>
                <a:xfrm>
                  <a:off x="5796000" y="3284640"/>
                  <a:ext cx="50472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1" name=""/>
                <p:cNvSpPr txBox="1"/>
                <p:nvPr/>
              </p:nvSpPr>
              <p:spPr>
                <a:xfrm>
                  <a:off x="3360600" y="3284640"/>
                  <a:ext cx="50508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2" name="Rectangle 3"/>
              <p:cNvSpPr txBox="1"/>
              <p:nvPr/>
            </p:nvSpPr>
            <p:spPr>
              <a:xfrm>
                <a:off x="2627280" y="4270320"/>
                <a:ext cx="295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600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01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3" name=""/>
          <p:cNvSpPr/>
          <p:nvPr/>
        </p:nvSpPr>
        <p:spPr>
          <a:xfrm>
            <a:off x="1042920" y="537372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4fafa"/>
                </a:solidFill>
                <a:latin typeface="黑体"/>
                <a:ea typeface="黑体"/>
              </a:rPr>
              <a:t>结果</a:t>
            </a:r>
            <a:r>
              <a:rPr b="0" i="1" lang="en-US" sz="2800" spc="-1" strike="noStrike">
                <a:solidFill>
                  <a:srgbClr val="f4fafa"/>
                </a:solidFill>
                <a:latin typeface="黑体"/>
                <a:ea typeface="黑体"/>
              </a:rPr>
              <a:t>CD</a:t>
            </a:r>
            <a:r>
              <a:rPr b="0" lang="zh-CN" sz="2800" spc="-1" strike="noStrike">
                <a:solidFill>
                  <a:srgbClr val="f4fafa"/>
                </a:solidFill>
                <a:latin typeface="黑体"/>
                <a:ea typeface="黑体"/>
              </a:rPr>
              <a:t>反而比</a:t>
            </a:r>
            <a:r>
              <a:rPr b="0" i="1" lang="en-US" sz="2800" spc="-1" strike="noStrike">
                <a:solidFill>
                  <a:srgbClr val="f4fafa"/>
                </a:solidFill>
                <a:latin typeface="黑体"/>
                <a:ea typeface="黑体"/>
              </a:rPr>
              <a:t>AB</a:t>
            </a:r>
            <a:r>
              <a:rPr b="0" lang="zh-CN" sz="2800" spc="-1" strike="noStrike">
                <a:solidFill>
                  <a:srgbClr val="f4fafa"/>
                </a:solidFill>
                <a:latin typeface="黑体"/>
                <a:ea typeface="黑体"/>
              </a:rPr>
              <a:t>长！这显然是不够合理的。 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B9D5-C787-4CDE-BF91-5E1D2795C67C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E288F-9D2C-4C58-BB31-7C15F62AAF88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5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539640" y="1700280"/>
            <a:ext cx="7920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4fafa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4fafa"/>
                </a:solidFill>
                <a:latin typeface="黑体"/>
                <a:ea typeface="黑体"/>
              </a:rPr>
              <a:t>因此，有必要建立一种距离，这种距离要能够体现各个变量在变差大小上的不同，以及有时存在着的相关性，还要求距离与各变量所用的单位无关。看来我们选择的距离要依赖于样本方差和协方差。因此，采用“统计距离” 这个术语，以区别通常习惯用的欧氏距离。最常用的一种统计距离是印度统计学家马哈拉诺比斯（</a:t>
            </a:r>
            <a:r>
              <a:rPr b="0" i="1" lang="en-US" sz="2800" spc="-1" strike="noStrike">
                <a:solidFill>
                  <a:srgbClr val="f4fafa"/>
                </a:solidFill>
                <a:latin typeface="黑体"/>
                <a:ea typeface="黑体"/>
              </a:rPr>
              <a:t>Mahalanobis</a:t>
            </a:r>
            <a:r>
              <a:rPr b="0" lang="zh-CN" sz="2800" spc="-1" strike="noStrike">
                <a:solidFill>
                  <a:srgbClr val="f4fafa"/>
                </a:solidFill>
                <a:latin typeface="黑体"/>
                <a:ea typeface="黑体"/>
              </a:rPr>
              <a:t>）于</a:t>
            </a:r>
            <a:r>
              <a:rPr b="0" lang="en-US" sz="2800" spc="-1" strike="noStrike">
                <a:solidFill>
                  <a:srgbClr val="f4fafa"/>
                </a:solidFill>
                <a:latin typeface="黑体"/>
                <a:ea typeface="黑体"/>
              </a:rPr>
              <a:t>1936</a:t>
            </a:r>
            <a:r>
              <a:rPr b="0" lang="zh-CN" sz="2800" spc="-1" strike="noStrike">
                <a:solidFill>
                  <a:srgbClr val="f4fafa"/>
                </a:solidFill>
                <a:latin typeface="黑体"/>
                <a:ea typeface="黑体"/>
              </a:rPr>
              <a:t>年引入的距离，称为“马氏距离”。</a:t>
            </a:r>
            <a:r>
              <a:rPr b="1" lang="zh-CN" sz="2800" spc="-1" strike="noStrike">
                <a:solidFill>
                  <a:srgbClr val="f4fafa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CBA9-CD96-4BF4-BCAD-C9F563633C8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79C73-3EB3-4952-AF6A-F860C90F9BB5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5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611280" y="166536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下面先用一个一维的例子说明欧氏距离与马氏距离在概率上的差异。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971640" y="2413080"/>
            <a:ext cx="7416720" cy="759960"/>
            <a:chOff x="971640" y="2413080"/>
            <a:chExt cx="7416720" cy="759960"/>
          </a:xfrm>
        </p:grpSpPr>
        <p:sp>
          <p:nvSpPr>
            <p:cNvPr id="601" name=""/>
            <p:cNvSpPr/>
            <p:nvPr/>
          </p:nvSpPr>
          <p:spPr>
            <a:xfrm>
              <a:off x="971640" y="2713320"/>
              <a:ext cx="741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设有两个一维正态总体                    。若有一个样品，其值在</a:t>
              </a:r>
              <a:r>
                <a:rPr b="0" i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处，</a:t>
              </a:r>
              <a:r>
                <a:rPr b="0" i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点距离哪个总体近些呢？由图</a:t>
              </a:r>
              <a:r>
                <a:rPr b="0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5-2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2" name=""/>
                <p:cNvSpPr txBox="1"/>
                <p:nvPr/>
              </p:nvSpPr>
              <p:spPr>
                <a:xfrm>
                  <a:off x="4356000" y="2413080"/>
                  <a:ext cx="309564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: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和G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: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3" name=""/>
          <p:cNvGrpSpPr/>
          <p:nvPr/>
        </p:nvGrpSpPr>
        <p:grpSpPr>
          <a:xfrm>
            <a:off x="2050920" y="3583080"/>
            <a:ext cx="5257800" cy="2682000"/>
            <a:chOff x="2050920" y="3583080"/>
            <a:chExt cx="5257800" cy="2682000"/>
          </a:xfrm>
        </p:grpSpPr>
        <p:pic>
          <p:nvPicPr>
            <p:cNvPr id="604" name="" descr=""/>
            <p:cNvPicPr/>
            <p:nvPr/>
          </p:nvPicPr>
          <p:blipFill>
            <a:blip r:embed="rId8"/>
            <a:stretch/>
          </p:blipFill>
          <p:spPr>
            <a:xfrm>
              <a:off x="2050920" y="3583080"/>
              <a:ext cx="525780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3924360" y="58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图</a:t>
              </a:r>
              <a:r>
                <a:rPr b="0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5-2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</p:grp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DEEF-6545-4C3D-99A9-711C4EDF64F4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038E5-78AE-41C1-B696-4B2D8ED02F59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4038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4fafa"/>
                </a:solidFill>
                <a:latin typeface="Arial"/>
                <a:ea typeface="黑体"/>
              </a:rPr>
              <a:t>马氏距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6920" y="2297880"/>
            <a:ext cx="749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fafa"/>
                </a:solidFill>
                <a:latin typeface="Arial"/>
                <a:ea typeface="黑体"/>
              </a:rPr>
              <a:t>   </a:t>
            </a:r>
            <a:r>
              <a:rPr b="0" lang="zh-CN" sz="2400" spc="-1" strike="noStrike">
                <a:solidFill>
                  <a:srgbClr val="f4fafa"/>
                </a:solidFill>
                <a:latin typeface="Arial"/>
                <a:ea typeface="黑体"/>
              </a:rPr>
              <a:t>设</a:t>
            </a:r>
            <a:r>
              <a:rPr b="1" i="1" lang="en-US" sz="2400" spc="-1" strike="noStrike">
                <a:solidFill>
                  <a:srgbClr val="f4fafa"/>
                </a:solidFill>
                <a:latin typeface="Arial"/>
                <a:ea typeface="黑体"/>
              </a:rPr>
              <a:t>X</a:t>
            </a:r>
            <a:r>
              <a:rPr b="1" i="1" lang="zh-CN" sz="2400" spc="-1" strike="noStrike">
                <a:solidFill>
                  <a:srgbClr val="f4fafa"/>
                </a:solidFill>
                <a:latin typeface="Arial"/>
                <a:ea typeface="黑体"/>
              </a:rPr>
              <a:t>、</a:t>
            </a:r>
            <a:r>
              <a:rPr b="1" i="1" lang="en-US" sz="2400" spc="-1" strike="noStrike">
                <a:solidFill>
                  <a:srgbClr val="f4fafa"/>
                </a:solidFill>
                <a:latin typeface="Arial"/>
                <a:ea typeface="黑体"/>
              </a:rPr>
              <a:t>Y</a:t>
            </a:r>
            <a:r>
              <a:rPr b="1" lang="zh-CN" sz="2400" spc="-1" strike="noStrike">
                <a:solidFill>
                  <a:srgbClr val="f4fafa"/>
                </a:solidFill>
                <a:latin typeface="Arial"/>
                <a:ea typeface="黑体"/>
              </a:rPr>
              <a:t>从均值向量为</a:t>
            </a:r>
            <a:r>
              <a:rPr b="1" lang="en-US" sz="2400" spc="-1" strike="noStrike">
                <a:solidFill>
                  <a:srgbClr val="f4fafa"/>
                </a:solidFill>
                <a:latin typeface="Arial"/>
                <a:ea typeface="黑体"/>
              </a:rPr>
              <a:t>μ</a:t>
            </a:r>
            <a:r>
              <a:rPr b="1" lang="zh-CN" sz="2400" spc="-1" strike="noStrike">
                <a:solidFill>
                  <a:srgbClr val="f4fafa"/>
                </a:solidFill>
                <a:latin typeface="Arial"/>
                <a:ea typeface="黑体"/>
              </a:rPr>
              <a:t>，协方差阵为∑的总体</a:t>
            </a:r>
            <a:r>
              <a:rPr b="0" i="1" lang="en-US" sz="2400" spc="-1" strike="noStrike">
                <a:solidFill>
                  <a:srgbClr val="f4fafa"/>
                </a:solidFill>
                <a:latin typeface="Arial"/>
                <a:ea typeface="黑体"/>
              </a:rPr>
              <a:t>G</a:t>
            </a:r>
            <a:r>
              <a:rPr b="0" lang="zh-CN" sz="2400" spc="-1" strike="noStrike">
                <a:solidFill>
                  <a:srgbClr val="f4fafa"/>
                </a:solidFill>
                <a:latin typeface="Arial"/>
                <a:ea typeface="黑体"/>
              </a:rPr>
              <a:t>中抽取的两个样品，定义</a:t>
            </a:r>
            <a:r>
              <a:rPr b="1" i="1" lang="en-US" sz="2400" spc="-1" strike="noStrike">
                <a:solidFill>
                  <a:srgbClr val="f4fafa"/>
                </a:solidFill>
                <a:latin typeface="Arial"/>
                <a:ea typeface="黑体"/>
              </a:rPr>
              <a:t>X</a:t>
            </a:r>
            <a:r>
              <a:rPr b="1" i="1" lang="zh-CN" sz="2400" spc="-1" strike="noStrike">
                <a:solidFill>
                  <a:srgbClr val="f4fafa"/>
                </a:solidFill>
                <a:latin typeface="Arial"/>
                <a:ea typeface="黑体"/>
              </a:rPr>
              <a:t>、</a:t>
            </a:r>
            <a:r>
              <a:rPr b="1" i="1" lang="en-US" sz="2400" spc="-1" strike="noStrike">
                <a:solidFill>
                  <a:srgbClr val="f4fafa"/>
                </a:solidFill>
                <a:latin typeface="Arial"/>
                <a:ea typeface="黑体"/>
              </a:rPr>
              <a:t>Y</a:t>
            </a:r>
            <a:r>
              <a:rPr b="1" lang="zh-CN" sz="2400" spc="-1" strike="noStrike">
                <a:solidFill>
                  <a:srgbClr val="f4fafa"/>
                </a:solidFill>
                <a:latin typeface="Arial"/>
                <a:ea typeface="黑体"/>
              </a:rPr>
              <a:t>两点之间的马氏距离为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1555560" y="3517920"/>
            <a:ext cx="6363720" cy="415800"/>
            <a:chOff x="1555560" y="3517920"/>
            <a:chExt cx="6363720" cy="415800"/>
          </a:xfrm>
        </p:grpSpPr>
        <p:sp>
          <p:nvSpPr>
            <p:cNvPr id="610" name=""/>
            <p:cNvSpPr/>
            <p:nvPr/>
          </p:nvSpPr>
          <p:spPr>
            <a:xfrm>
              <a:off x="7241760" y="3559320"/>
              <a:ext cx="677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(5.21)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542280" y="3559320"/>
              <a:ext cx="701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          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832720" y="3559320"/>
              <a:ext cx="701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          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123160" y="3559320"/>
              <a:ext cx="701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          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025960" y="355932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)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49800" y="355932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(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649680" y="355932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)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873520" y="355932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(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96960" y="355932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)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76200" y="355932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,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866960" y="355932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(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120920" y="35352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1</a:t>
              </a:r>
              <a:endParaRPr b="0" lang="en-US" sz="13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32120" y="35352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/</a:t>
              </a:r>
              <a:endParaRPr b="0" lang="en-US" sz="13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11080" y="35352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2</a:t>
              </a:r>
              <a:endParaRPr b="0" lang="en-US" sz="13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819680" y="35593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Y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362480" y="35593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X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61720" y="3559320"/>
              <a:ext cx="18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Σ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443400" y="35593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Y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986200" y="35593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X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290680" y="35593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Y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979640" y="35593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X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668840" y="352584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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92560" y="352584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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652120" y="3525840"/>
              <a:ext cx="22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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064040" y="351792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</a:t>
              </a:r>
              <a:endParaRPr b="0" lang="en-US" sz="13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555560" y="355932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d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85880" y="37353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m</a:t>
              </a:r>
              <a:endParaRPr b="0" lang="en-US" sz="1300" spc="-1" strike="noStrike">
                <a:solidFill>
                  <a:srgbClr val="f4fafa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1555560" y="4435560"/>
            <a:ext cx="6385680" cy="1260360"/>
            <a:chOff x="1555560" y="4435560"/>
            <a:chExt cx="6385680" cy="1260360"/>
          </a:xfrm>
        </p:grpSpPr>
        <p:sp>
          <p:nvSpPr>
            <p:cNvPr id="638" name=""/>
            <p:cNvSpPr/>
            <p:nvPr/>
          </p:nvSpPr>
          <p:spPr>
            <a:xfrm>
              <a:off x="2114640" y="443556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X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162240" y="443556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G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263720" y="5322960"/>
              <a:ext cx="677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(5.22)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121160" y="532296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  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423120" y="5322960"/>
              <a:ext cx="701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          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713560" y="5322960"/>
              <a:ext cx="701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          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004000" y="5322960"/>
              <a:ext cx="701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          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906800" y="53229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)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83200" y="53229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(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92440" y="53229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)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868480" y="53229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(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492280" y="53229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)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176200" y="532296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,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866960" y="53229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(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54320" y="52992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1</a:t>
              </a:r>
              <a:endParaRPr b="0" lang="en-US" sz="13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673440" y="52992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/</a:t>
              </a:r>
              <a:endParaRPr b="0" lang="en-US" sz="13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711080" y="52992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2</a:t>
              </a:r>
              <a:endParaRPr b="0" lang="en-US" sz="13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744080" y="5322960"/>
              <a:ext cx="159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μ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5880" y="532296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X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803040" y="5322960"/>
              <a:ext cx="18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Σ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27920" y="5322960"/>
              <a:ext cx="159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μ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981160" y="532296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X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979640" y="532296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X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03680" y="52894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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287520" y="52894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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47440" y="5289480"/>
              <a:ext cx="22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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006800" y="528156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</a:t>
              </a:r>
              <a:endParaRPr b="0" lang="en-US" sz="13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78080" y="532296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G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55560" y="532296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d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685880" y="54975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m</a:t>
              </a:r>
              <a:endParaRPr b="0" lang="en-US" sz="13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749400" y="4443480"/>
              <a:ext cx="1006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4fafa"/>
                  </a:solidFill>
                  <a:latin typeface="宋体"/>
                </a:rPr>
                <a:t>的马氏距离为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507040" y="4443480"/>
              <a:ext cx="503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4fafa"/>
                  </a:solidFill>
                  <a:latin typeface="宋体"/>
                </a:rPr>
                <a:t>与总体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678320" y="4443480"/>
              <a:ext cx="335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4fafa"/>
                  </a:solidFill>
                  <a:latin typeface="宋体"/>
                </a:rPr>
                <a:t>定义</a:t>
              </a:r>
              <a:endParaRPr b="0" lang="en-US" sz="2200" spc="-1" strike="noStrike">
                <a:solidFill>
                  <a:srgbClr val="f4fafa"/>
                </a:solidFill>
                <a:latin typeface="Arial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6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677" name="PlaceHolder 2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120-8139-4352-8D95-FBB2D572161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94199-E350-4FF3-B686-089B2911A814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84360" y="1521000"/>
            <a:ext cx="7705080" cy="825480"/>
            <a:chOff x="684360" y="1521000"/>
            <a:chExt cx="7705080" cy="825480"/>
          </a:xfrm>
        </p:grpSpPr>
        <p:sp>
          <p:nvSpPr>
            <p:cNvPr id="684" name=""/>
            <p:cNvSpPr/>
            <p:nvPr/>
          </p:nvSpPr>
          <p:spPr>
            <a:xfrm>
              <a:off x="684360" y="1521000"/>
              <a:ext cx="763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  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设    表示一个点集，    表示距离，它         是到          的函数，可以证明</a:t>
              </a:r>
              <a:r>
                <a:rPr b="1" lang="en-US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马氏距离符合如下距离的四条基本公理 </a:t>
              </a:r>
              <a:r>
                <a:rPr b="1" lang="en-US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: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5" name=""/>
                <p:cNvSpPr txBox="1"/>
                <p:nvPr/>
              </p:nvSpPr>
              <p:spPr>
                <a:xfrm>
                  <a:off x="1582560" y="1581120"/>
                  <a:ext cx="3394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6" name=""/>
                <p:cNvSpPr txBox="1"/>
                <p:nvPr/>
              </p:nvSpPr>
              <p:spPr>
                <a:xfrm>
                  <a:off x="4068720" y="1581120"/>
                  <a:ext cx="31248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7" name=""/>
                <p:cNvSpPr txBox="1"/>
                <p:nvPr/>
              </p:nvSpPr>
              <p:spPr>
                <a:xfrm>
                  <a:off x="6230880" y="1590840"/>
                  <a:ext cx="79020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×</m:t>
                      </m:r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8" name=""/>
                <p:cNvSpPr txBox="1"/>
                <p:nvPr/>
              </p:nvSpPr>
              <p:spPr>
                <a:xfrm>
                  <a:off x="7597800" y="1563840"/>
                  <a:ext cx="79164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9" name=""/>
          <p:cNvGrpSpPr/>
          <p:nvPr/>
        </p:nvGrpSpPr>
        <p:grpSpPr>
          <a:xfrm>
            <a:off x="324000" y="2873880"/>
            <a:ext cx="9144000" cy="555120"/>
            <a:chOff x="324000" y="2873880"/>
            <a:chExt cx="9144000" cy="555120"/>
          </a:xfrm>
        </p:grpSpPr>
        <p:sp>
          <p:nvSpPr>
            <p:cNvPr id="690" name=""/>
            <p:cNvSpPr/>
            <p:nvPr/>
          </p:nvSpPr>
          <p:spPr>
            <a:xfrm>
              <a:off x="5401080" y="29232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4fafa"/>
                  </a:solidFill>
                  <a:latin typeface="宋体"/>
                  <a:ea typeface="Times New Roman"/>
                </a:rPr>
                <a:t>；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1" name=""/>
                <p:cNvSpPr txBox="1"/>
                <p:nvPr/>
              </p:nvSpPr>
              <p:spPr>
                <a:xfrm>
                  <a:off x="2181240" y="2924280"/>
                  <a:ext cx="136872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2" name=""/>
                <p:cNvSpPr txBox="1"/>
                <p:nvPr/>
              </p:nvSpPr>
              <p:spPr>
                <a:xfrm>
                  <a:off x="4104000" y="2979720"/>
                  <a:ext cx="136836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∀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∈</m:t>
                      </m:r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93" name=""/>
            <p:cNvSpPr/>
            <p:nvPr/>
          </p:nvSpPr>
          <p:spPr>
            <a:xfrm>
              <a:off x="1190880" y="2897640"/>
              <a:ext cx="8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）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360960" y="287388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4fafa"/>
                  </a:solidFill>
                  <a:latin typeface="宋体"/>
                  <a:ea typeface="Times New Roman"/>
                </a:rPr>
                <a:t> </a:t>
              </a:r>
              <a:r>
                <a:rPr b="0" lang="zh-CN" sz="2400" spc="-1" strike="noStrike">
                  <a:solidFill>
                    <a:srgbClr val="f4fafa"/>
                  </a:solidFill>
                  <a:latin typeface="宋体"/>
                  <a:ea typeface="Times New Roman"/>
                </a:rPr>
                <a:t>，  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24000" y="3303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2140200" y="3573360"/>
            <a:ext cx="4707720" cy="498600"/>
            <a:chOff x="2140200" y="3573360"/>
            <a:chExt cx="4707720" cy="498600"/>
          </a:xfrm>
        </p:grpSpPr>
        <p:sp>
          <p:nvSpPr>
            <p:cNvPr id="698" name=""/>
            <p:cNvSpPr/>
            <p:nvPr/>
          </p:nvSpPr>
          <p:spPr>
            <a:xfrm>
              <a:off x="2610360" y="3588120"/>
              <a:ext cx="423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）            当且仅当       ；            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9" name=""/>
                <p:cNvSpPr txBox="1"/>
                <p:nvPr/>
              </p:nvSpPr>
              <p:spPr>
                <a:xfrm>
                  <a:off x="2140200" y="3573360"/>
                  <a:ext cx="1441440" cy="4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0" name=""/>
                <p:cNvSpPr txBox="1"/>
                <p:nvPr/>
              </p:nvSpPr>
              <p:spPr>
                <a:xfrm>
                  <a:off x="5308560" y="3673440"/>
                  <a:ext cx="936720" cy="3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1211400" y="4264560"/>
            <a:ext cx="4835520" cy="545400"/>
            <a:chOff x="1211400" y="4264560"/>
            <a:chExt cx="4835520" cy="545400"/>
          </a:xfrm>
        </p:grpSpPr>
        <p:sp>
          <p:nvSpPr>
            <p:cNvPr id="704" name=""/>
            <p:cNvSpPr/>
            <p:nvPr/>
          </p:nvSpPr>
          <p:spPr>
            <a:xfrm>
              <a:off x="1211400" y="4264560"/>
              <a:ext cx="94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） 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5" name=""/>
                <p:cNvSpPr txBox="1"/>
                <p:nvPr/>
              </p:nvSpPr>
              <p:spPr>
                <a:xfrm>
                  <a:off x="2157480" y="4314960"/>
                  <a:ext cx="216036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d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6" name=""/>
                <p:cNvSpPr txBox="1"/>
                <p:nvPr/>
              </p:nvSpPr>
              <p:spPr>
                <a:xfrm>
                  <a:off x="4606920" y="4344840"/>
                  <a:ext cx="144000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∀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∈</m:t>
                      </m:r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1208160" y="4918680"/>
            <a:ext cx="5824440" cy="551880"/>
            <a:chOff x="1208160" y="4918680"/>
            <a:chExt cx="5824440" cy="551880"/>
          </a:xfrm>
        </p:grpSpPr>
        <p:sp>
          <p:nvSpPr>
            <p:cNvPr id="710" name=""/>
            <p:cNvSpPr/>
            <p:nvPr/>
          </p:nvSpPr>
          <p:spPr>
            <a:xfrm>
              <a:off x="1208160" y="4918680"/>
              <a:ext cx="94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4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） 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1" name=""/>
                <p:cNvSpPr txBox="1"/>
                <p:nvPr/>
              </p:nvSpPr>
              <p:spPr>
                <a:xfrm>
                  <a:off x="2143080" y="4969080"/>
                  <a:ext cx="295128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≤</m:t>
                      </m:r>
                      <m:r>
                        <m:t xml:space="preserve">d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d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2" name=""/>
                <p:cNvSpPr txBox="1"/>
                <p:nvPr/>
              </p:nvSpPr>
              <p:spPr>
                <a:xfrm>
                  <a:off x="5375160" y="5031000"/>
                  <a:ext cx="165744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∀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r>
                        <m:t xml:space="preserve">z</m:t>
                      </m:r>
                      <m:r>
                        <m:t xml:space="preserve">∈</m:t>
                      </m:r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3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71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1588-8D9E-421D-8294-1BA06BA83E82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1CA39-1EDE-4687-9A23-2D0BE3FE637A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135160"/>
            <a:ext cx="914400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68360" y="1125360"/>
            <a:ext cx="7848720" cy="2543400"/>
            <a:chOff x="468360" y="1125360"/>
            <a:chExt cx="7848720" cy="2543400"/>
          </a:xfrm>
        </p:grpSpPr>
        <p:sp>
          <p:nvSpPr>
            <p:cNvPr id="73" name=""/>
            <p:cNvSpPr/>
            <p:nvPr/>
          </p:nvSpPr>
          <p:spPr>
            <a:xfrm>
              <a:off x="468360" y="1125360"/>
              <a:ext cx="784872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横看表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5-1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，记                   ，  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   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它表示第  个样品的观测值。竖看表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5-1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第  列的元素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表示对  第个变量   的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n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次观测数值。下面为表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5-1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3564000" y="3141720"/>
                  <a:ext cx="39996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75" name=""/>
            <p:cNvGraphicFramePr/>
            <p:nvPr/>
          </p:nvGraphicFramePr>
          <p:xfrm>
            <a:off x="1979640" y="3284280"/>
            <a:ext cx="216000" cy="33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9640" y="3284280"/>
                      <a:ext cx="216000" cy="3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3170160" y="1290600"/>
                  <a:ext cx="278460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α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α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αp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" name="Rectangle 3"/>
                <p:cNvSpPr txBox="1"/>
                <p:nvPr/>
              </p:nvSpPr>
              <p:spPr>
                <a:xfrm>
                  <a:off x="6300720" y="1290600"/>
                  <a:ext cx="172728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1835280" y="1836720"/>
                  <a:ext cx="288720" cy="28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80" name=""/>
            <p:cNvGrpSpPr/>
            <p:nvPr/>
          </p:nvGrpSpPr>
          <p:grpSpPr>
            <a:xfrm>
              <a:off x="1189080" y="2376360"/>
              <a:ext cx="5327640" cy="522360"/>
              <a:chOff x="1189080" y="2376360"/>
              <a:chExt cx="5327640" cy="522360"/>
            </a:xfrm>
          </p:grpSpPr>
          <mc:AlternateContent>
            <mc:Choice xmlns:a14="http://schemas.microsoft.com/office/drawing/2010/main" Requires="a14">
              <p:sp>
                <p:nvSpPr>
                  <p:cNvPr id="81" name=""/>
                  <p:cNvSpPr txBox="1"/>
                  <p:nvPr/>
                </p:nvSpPr>
                <p:spPr>
                  <a:xfrm>
                    <a:off x="1189080" y="2376360"/>
                    <a:ext cx="3140280" cy="489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'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2" name=""/>
                  <p:cNvSpPr txBox="1"/>
                  <p:nvPr/>
                </p:nvSpPr>
                <p:spPr>
                  <a:xfrm>
                    <a:off x="4645080" y="2400480"/>
                    <a:ext cx="1871640" cy="498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6392880" y="1749240"/>
                  <a:ext cx="26352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0" y="2135160"/>
            <a:ext cx="933480" cy="360"/>
            <a:chOff x="0" y="2135160"/>
            <a:chExt cx="933480" cy="360"/>
          </a:xfrm>
        </p:grpSpPr>
        <p:sp>
          <p:nvSpPr>
            <p:cNvPr id="85" name=""/>
            <p:cNvSpPr/>
            <p:nvPr/>
          </p:nvSpPr>
          <p:spPr>
            <a:xfrm>
              <a:off x="0" y="2135160"/>
              <a:ext cx="80028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2135160"/>
              <a:ext cx="93348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2135160"/>
              <a:ext cx="77472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2135160"/>
              <a:ext cx="80028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2135160"/>
              <a:ext cx="93348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2135160"/>
              <a:ext cx="77472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2135160"/>
              <a:ext cx="80028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135160"/>
              <a:ext cx="93348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135160"/>
              <a:ext cx="77472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2135160"/>
              <a:ext cx="80028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2135160"/>
              <a:ext cx="93348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2135160"/>
              <a:ext cx="77472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900000" y="3933720"/>
            <a:ext cx="7488360" cy="2171880"/>
            <a:chOff x="900000" y="3933720"/>
            <a:chExt cx="7488360" cy="2171880"/>
          </a:xfrm>
        </p:grpSpPr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3635280" y="4437000"/>
                  <a:ext cx="228600" cy="23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3" name=""/>
            <p:cNvSpPr/>
            <p:nvPr/>
          </p:nvSpPr>
          <p:spPr>
            <a:xfrm>
              <a:off x="7308720" y="5668920"/>
              <a:ext cx="1079640" cy="365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12000" y="5668920"/>
              <a:ext cx="1296720" cy="365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marL="339480" indent="-339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…</a:t>
              </a:r>
              <a:endParaRPr b="0" lang="en-US" sz="18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88000" y="5668920"/>
              <a:ext cx="1224000" cy="365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92360" y="5668920"/>
              <a:ext cx="1295640" cy="365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0000" y="5668920"/>
              <a:ext cx="2592360" cy="365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n</a:t>
              </a:r>
              <a:endParaRPr b="0" lang="en-US" sz="18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8720" y="5303880"/>
              <a:ext cx="1079640" cy="365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12000" y="5303880"/>
              <a:ext cx="1296720" cy="365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88000" y="5303880"/>
              <a:ext cx="1224000" cy="365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92360" y="5303880"/>
              <a:ext cx="1295640" cy="365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    </a:t>
              </a:r>
              <a:endParaRPr b="0" lang="en-US" sz="18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00000" y="5303880"/>
              <a:ext cx="2592360" cy="365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                 </a:t>
              </a:r>
              <a:endParaRPr b="0" lang="en-US" sz="18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08720" y="4938840"/>
              <a:ext cx="1079640" cy="365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12000" y="4938840"/>
              <a:ext cx="1296720" cy="365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marL="339480" indent="-339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…</a:t>
              </a:r>
              <a:endParaRPr b="0" lang="en-US" sz="18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88000" y="4938840"/>
              <a:ext cx="1224000" cy="365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92360" y="4938840"/>
              <a:ext cx="1295640" cy="365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4938840"/>
              <a:ext cx="2592360" cy="365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18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08720" y="4573440"/>
              <a:ext cx="1079640" cy="365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12000" y="4573440"/>
              <a:ext cx="1296720" cy="365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marL="339480" indent="-339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…</a:t>
              </a:r>
              <a:endParaRPr b="0" lang="en-US" sz="18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88000" y="4573440"/>
              <a:ext cx="1224000" cy="365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92360" y="4573440"/>
              <a:ext cx="1295640" cy="365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0000" y="4573440"/>
              <a:ext cx="2592360" cy="365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08720" y="3933720"/>
              <a:ext cx="1079640" cy="63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12000" y="3933720"/>
              <a:ext cx="1296720" cy="63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…</a:t>
              </a:r>
              <a:endParaRPr b="0" lang="en-US" sz="18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88000" y="3933720"/>
              <a:ext cx="1224000" cy="63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92360" y="3933720"/>
              <a:ext cx="1295640" cy="63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00000" y="3933720"/>
              <a:ext cx="2592360" cy="63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变量</a:t>
              </a:r>
              <a:endParaRPr b="0" lang="en-US" sz="1800" spc="-1" strike="noStrike">
                <a:solidFill>
                  <a:srgbClr val="f4fafa"/>
                </a:solidFill>
                <a:latin typeface="Arial"/>
              </a:endParaRPr>
            </a:p>
            <a:p>
              <a:pPr marL="339480" indent="-33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序号</a:t>
              </a:r>
              <a:endParaRPr b="0" lang="en-US" sz="18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00000" y="3933720"/>
              <a:ext cx="748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00000" y="6033960"/>
              <a:ext cx="748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00000" y="393372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88360" y="393372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00000" y="4573440"/>
              <a:ext cx="0" cy="365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88360" y="4573440"/>
              <a:ext cx="0" cy="365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00000" y="4938840"/>
              <a:ext cx="0" cy="365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8360" y="4938840"/>
              <a:ext cx="0" cy="365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00000" y="5303880"/>
              <a:ext cx="0" cy="365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88360" y="5303880"/>
              <a:ext cx="0" cy="365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00000" y="5668920"/>
              <a:ext cx="0" cy="365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88360" y="5668920"/>
              <a:ext cx="0" cy="365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00000" y="4573440"/>
              <a:ext cx="748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88000" y="3933720"/>
              <a:ext cx="0" cy="21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12000" y="3933720"/>
              <a:ext cx="0" cy="21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08720" y="3933720"/>
              <a:ext cx="0" cy="21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92360" y="3933720"/>
              <a:ext cx="0" cy="21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00000" y="3933720"/>
              <a:ext cx="25909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3859200" y="4000680"/>
                  <a:ext cx="46368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3882960" y="4508640"/>
                  <a:ext cx="39384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3871800" y="4919760"/>
                  <a:ext cx="43344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3881520" y="5575320"/>
                  <a:ext cx="4824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5132520" y="4000680"/>
                  <a:ext cx="49212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5170320" y="4508640"/>
                  <a:ext cx="39384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5160960" y="4929120"/>
                  <a:ext cx="43344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5168880" y="5580000"/>
                  <a:ext cx="50976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7624800" y="3976560"/>
                  <a:ext cx="520560" cy="56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7664400" y="4487760"/>
                  <a:ext cx="41904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7655040" y="4908600"/>
                  <a:ext cx="45864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t xml:space="preserve">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7689960" y="5572080"/>
                  <a:ext cx="4809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2124000" y="5373720"/>
                  <a:ext cx="133560" cy="3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⋮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4006800" y="5386320"/>
                  <a:ext cx="133560" cy="33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⋮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5281560" y="5389560"/>
                  <a:ext cx="133560" cy="3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⋮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7786800" y="5373720"/>
                  <a:ext cx="13320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⋮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2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6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4fafa"/>
                </a:solidFill>
                <a:latin typeface="黑体"/>
                <a:ea typeface="黑体"/>
              </a:rPr>
              <a:t>一、随机向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FF63-1D0F-4C49-A0C3-5AE5FF29C908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AB0D9-816B-4CA7-BB1D-8DF89F9DE502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4fafa"/>
                </a:solidFill>
                <a:latin typeface="黑体"/>
                <a:ea typeface="黑体"/>
              </a:rPr>
              <a:t>    </a:t>
            </a:r>
            <a:r>
              <a:rPr b="1" lang="en-US" sz="3800" spc="-1" strike="noStrike">
                <a:solidFill>
                  <a:srgbClr val="f4fafa"/>
                </a:solidFill>
                <a:latin typeface="黑体"/>
                <a:ea typeface="黑体"/>
              </a:rPr>
              <a:t>§5.3 </a:t>
            </a:r>
            <a:r>
              <a:rPr b="1" lang="zh-CN" sz="3800" spc="-1" strike="noStrike">
                <a:solidFill>
                  <a:srgbClr val="f4fafa"/>
                </a:solidFill>
                <a:latin typeface="黑体"/>
                <a:ea typeface="黑体"/>
              </a:rPr>
              <a:t>多元正态分布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7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grpSp>
        <p:nvGrpSpPr>
          <p:cNvPr id="727" name=""/>
          <p:cNvGrpSpPr/>
          <p:nvPr/>
        </p:nvGrpSpPr>
        <p:grpSpPr>
          <a:xfrm>
            <a:off x="1967760" y="1989000"/>
            <a:ext cx="3866400" cy="534960"/>
            <a:chOff x="1967760" y="1989000"/>
            <a:chExt cx="3866400" cy="534960"/>
          </a:xfrm>
        </p:grpSpPr>
        <p:sp>
          <p:nvSpPr>
            <p:cNvPr id="728" name=""/>
            <p:cNvSpPr/>
            <p:nvPr/>
          </p:nvSpPr>
          <p:spPr>
            <a:xfrm>
              <a:off x="1967760" y="200340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一、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729" name="">
              <a:hlinkClick r:id="rId8" action="ppaction://hlinksldjump"/>
            </p:cNvPr>
            <p:cNvSpPr/>
            <p:nvPr/>
          </p:nvSpPr>
          <p:spPr>
            <a:xfrm>
              <a:off x="3733200" y="198900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多元正态分布的定义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1895040" y="2832120"/>
            <a:ext cx="3875040" cy="541080"/>
            <a:chOff x="1895040" y="2832120"/>
            <a:chExt cx="3875040" cy="541080"/>
          </a:xfrm>
        </p:grpSpPr>
        <p:sp>
          <p:nvSpPr>
            <p:cNvPr id="731" name=""/>
            <p:cNvSpPr/>
            <p:nvPr/>
          </p:nvSpPr>
          <p:spPr>
            <a:xfrm>
              <a:off x="1895040" y="283212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二、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732" name="">
              <a:hlinkClick r:id="rId9" action="ppaction://hlinksldjump"/>
            </p:cNvPr>
            <p:cNvSpPr/>
            <p:nvPr/>
          </p:nvSpPr>
          <p:spPr>
            <a:xfrm>
              <a:off x="3669120" y="285264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多元正态分布的性质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1941120" y="3591000"/>
            <a:ext cx="3612240" cy="525240"/>
            <a:chOff x="1941120" y="3591000"/>
            <a:chExt cx="3612240" cy="525240"/>
          </a:xfrm>
        </p:grpSpPr>
        <p:sp>
          <p:nvSpPr>
            <p:cNvPr id="734" name=""/>
            <p:cNvSpPr/>
            <p:nvPr/>
          </p:nvSpPr>
          <p:spPr>
            <a:xfrm>
              <a:off x="1941120" y="359100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三、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735" name="">
              <a:hlinkClick r:id="rId10" action="ppaction://hlinksldjump"/>
            </p:cNvPr>
            <p:cNvSpPr/>
            <p:nvPr/>
          </p:nvSpPr>
          <p:spPr>
            <a:xfrm>
              <a:off x="3665880" y="359568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条件分布和独立性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EE0E-A1E5-42E5-96E7-5FA48C0255B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559BB-9DF4-4949-834D-C02D4BD7E24F}" type="datetime1">
              <a:rPr lang="en-US"/>
              <a:t>07/30/26</a:t>
            </a:fld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4fafa"/>
                </a:solidFill>
                <a:latin typeface="黑体"/>
                <a:ea typeface="黑体"/>
              </a:rPr>
              <a:t>一、多元正态分布的定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7" name="Rectangle 3"/>
          <p:cNvGraphicFramePr/>
          <p:nvPr/>
        </p:nvGraphicFramePr>
        <p:xfrm>
          <a:off x="1332000" y="2494080"/>
          <a:ext cx="6842160" cy="120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494080"/>
                    <a:ext cx="6842160" cy="12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9" name=""/>
          <p:cNvSpPr/>
          <p:nvPr/>
        </p:nvSpPr>
        <p:spPr>
          <a:xfrm>
            <a:off x="2124000" y="5661000"/>
            <a:ext cx="60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|∑|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为协差阵∑的行列式。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74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8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324000" y="1628640"/>
            <a:ext cx="8424720" cy="481320"/>
            <a:chOff x="324000" y="1628640"/>
            <a:chExt cx="8424720" cy="481320"/>
          </a:xfrm>
        </p:grpSpPr>
        <p:sp>
          <p:nvSpPr>
            <p:cNvPr id="748" name=""/>
            <p:cNvSpPr/>
            <p:nvPr/>
          </p:nvSpPr>
          <p:spPr>
            <a:xfrm>
              <a:off x="324000" y="162864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定义</a:t>
              </a:r>
              <a:r>
                <a:rPr b="1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5.5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：若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元随机向量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     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的概率密度函数为：   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9" name="Rectangle 3"/>
                <p:cNvSpPr txBox="1"/>
                <p:nvPr/>
              </p:nvSpPr>
              <p:spPr>
                <a:xfrm>
                  <a:off x="2725560" y="1751040"/>
                  <a:ext cx="28584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0" name=""/>
                <p:cNvSpPr txBox="1"/>
                <p:nvPr/>
              </p:nvSpPr>
              <p:spPr>
                <a:xfrm>
                  <a:off x="4594320" y="1690560"/>
                  <a:ext cx="233208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'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539640" y="4076640"/>
            <a:ext cx="7991280" cy="1322280"/>
            <a:chOff x="539640" y="4076640"/>
            <a:chExt cx="7991280" cy="1322280"/>
          </a:xfrm>
        </p:grpSpPr>
        <mc:AlternateContent>
          <mc:Choice xmlns:a14="http://schemas.microsoft.com/office/drawing/2010/main" Requires="a14">
            <p:sp>
              <p:nvSpPr>
                <p:cNvPr id="753" name="Rectangle 3"/>
                <p:cNvSpPr txBox="1"/>
                <p:nvPr/>
              </p:nvSpPr>
              <p:spPr>
                <a:xfrm>
                  <a:off x="3203280" y="4937040"/>
                  <a:ext cx="165600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~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t xml:space="preserve">,</m:t>
                      </m:r>
                      <m:r>
                        <m:t xml:space="preserve">Σ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4" name=""/>
            <p:cNvSpPr/>
            <p:nvPr/>
          </p:nvSpPr>
          <p:spPr>
            <a:xfrm>
              <a:off x="539640" y="4076640"/>
              <a:ext cx="799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则称               遵从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元正态分布，也称</a:t>
              </a:r>
              <a:r>
                <a:rPr b="1" i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X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为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元正态变量。记为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5" name=""/>
                <p:cNvSpPr txBox="1"/>
                <p:nvPr/>
              </p:nvSpPr>
              <p:spPr>
                <a:xfrm>
                  <a:off x="1928520" y="4140360"/>
                  <a:ext cx="218916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'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6" name="Rectangle 3"/>
                <p:cNvSpPr txBox="1"/>
                <p:nvPr/>
              </p:nvSpPr>
              <p:spPr>
                <a:xfrm>
                  <a:off x="4775040" y="4149720"/>
                  <a:ext cx="358920" cy="38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757" name=""/>
            <p:cNvGraphicFramePr/>
            <p:nvPr/>
          </p:nvGraphicFramePr>
          <p:xfrm>
            <a:off x="8028000" y="4149720"/>
            <a:ext cx="353880" cy="382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5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028000" y="4149720"/>
                      <a:ext cx="353880" cy="38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3238-E7FE-4194-BD6A-AEB256E68E50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51E2E-875E-4ACB-97BA-AEA70EC6903F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468360" y="28018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将正态分布的参数</a:t>
            </a:r>
            <a:r>
              <a:rPr b="1" i="1" lang="en-US" sz="2800" spc="-1" strike="noStrike">
                <a:solidFill>
                  <a:srgbClr val="f4fafa"/>
                </a:solidFill>
                <a:latin typeface="Arial"/>
                <a:ea typeface="黑体"/>
              </a:rPr>
              <a:t>μ</a:t>
            </a: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和∑赋于了明确的统计意义。有关这个定理的证明可参见文献</a:t>
            </a:r>
            <a:r>
              <a:rPr b="1" lang="en-US" sz="2800" spc="-1" strike="noStrike">
                <a:solidFill>
                  <a:srgbClr val="f4fafa"/>
                </a:solidFill>
                <a:latin typeface="Arial"/>
                <a:ea typeface="黑体"/>
              </a:rPr>
              <a:t>[4]</a:t>
            </a:r>
            <a:r>
              <a:rPr b="1" i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68360" y="3989520"/>
            <a:ext cx="77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多元正态分布不止定义</a:t>
            </a:r>
            <a:r>
              <a:rPr b="1" lang="en-US" sz="2800" spc="-1" strike="noStrike">
                <a:solidFill>
                  <a:srgbClr val="f4fafa"/>
                </a:solidFill>
                <a:latin typeface="Arial"/>
                <a:ea typeface="黑体"/>
              </a:rPr>
              <a:t>5.5</a:t>
            </a: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一种形式，更广泛地可采用特征函数来定义，也可用一切线性组合均为正态的性质来定义等，有关这些定义的方式参见文献</a:t>
            </a:r>
            <a:r>
              <a:rPr b="1" lang="en-US" sz="2800" spc="-1" strike="noStrike">
                <a:solidFill>
                  <a:srgbClr val="f4fafa"/>
                </a:solidFill>
                <a:latin typeface="Arial"/>
                <a:ea typeface="黑体"/>
              </a:rPr>
              <a:t>[4]</a:t>
            </a: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7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6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24000" y="1628640"/>
            <a:ext cx="8280360" cy="1103400"/>
            <a:chOff x="324000" y="1628640"/>
            <a:chExt cx="8280360" cy="1103400"/>
          </a:xfrm>
        </p:grpSpPr>
        <p:sp>
          <p:nvSpPr>
            <p:cNvPr id="770" name=""/>
            <p:cNvSpPr/>
            <p:nvPr/>
          </p:nvSpPr>
          <p:spPr>
            <a:xfrm>
              <a:off x="324000" y="1628640"/>
              <a:ext cx="828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设</a:t>
              </a:r>
              <a:r>
                <a:rPr b="1" i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     </a:t>
              </a: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则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1" name=""/>
                <p:cNvSpPr txBox="1"/>
                <p:nvPr/>
              </p:nvSpPr>
              <p:spPr>
                <a:xfrm>
                  <a:off x="3132000" y="1700280"/>
                  <a:ext cx="187344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~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t xml:space="preserve">,</m:t>
                      </m:r>
                      <m:r>
                        <m:t xml:space="preserve">Σ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2" name=""/>
                <p:cNvSpPr txBox="1"/>
                <p:nvPr/>
              </p:nvSpPr>
              <p:spPr>
                <a:xfrm>
                  <a:off x="2484360" y="2287440"/>
                  <a:ext cx="302436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D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568D-7B34-4394-BBF1-5A826012D946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2D74A-DCA9-469F-A3A6-E2A93339A071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4fafa"/>
                </a:solidFill>
                <a:latin typeface="黑体"/>
                <a:ea typeface="黑体"/>
              </a:rPr>
              <a:t>二、</a:t>
            </a:r>
            <a:r>
              <a:rPr b="1" lang="zh-CN" sz="3800" spc="-1" strike="noStrike">
                <a:solidFill>
                  <a:srgbClr val="f4fafa"/>
                </a:solidFill>
                <a:latin typeface="黑体"/>
                <a:ea typeface="黑体"/>
              </a:rPr>
              <a:t> 多元正态分布的性质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5" name="Rectangle 3"/>
              <p:cNvSpPr txBox="1"/>
              <p:nvPr/>
            </p:nvSpPr>
            <p:spPr>
              <a:xfrm>
                <a:off x="1187280" y="3924360"/>
                <a:ext cx="655344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/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6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7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7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6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755640" y="1341360"/>
            <a:ext cx="7453440" cy="459720"/>
            <a:chOff x="755640" y="1341360"/>
            <a:chExt cx="7453440" cy="459720"/>
          </a:xfrm>
        </p:grpSpPr>
        <p:sp>
          <p:nvSpPr>
            <p:cNvPr id="784" name=""/>
            <p:cNvSpPr/>
            <p:nvPr/>
          </p:nvSpPr>
          <p:spPr>
            <a:xfrm>
              <a:off x="755640" y="1341360"/>
              <a:ext cx="745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、如果正态随机向量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     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的协方差阵∑是对角阵，则</a:t>
              </a:r>
              <a:r>
                <a:rPr b="1" i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X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的各分量是相互独立的随机变量。证明参见文献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[8]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。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5" name=""/>
                <p:cNvSpPr txBox="1"/>
                <p:nvPr/>
              </p:nvSpPr>
              <p:spPr>
                <a:xfrm>
                  <a:off x="4305240" y="1401840"/>
                  <a:ext cx="2189160" cy="3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'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539640" y="5013360"/>
            <a:ext cx="7848720" cy="498600"/>
            <a:chOff x="539640" y="5013360"/>
            <a:chExt cx="7848720" cy="498600"/>
          </a:xfrm>
        </p:grpSpPr>
        <p:sp>
          <p:nvSpPr>
            <p:cNvPr id="789" name=""/>
            <p:cNvSpPr/>
            <p:nvPr/>
          </p:nvSpPr>
          <p:spPr>
            <a:xfrm>
              <a:off x="539640" y="5013360"/>
              <a:ext cx="78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容易</a:t>
              </a:r>
              <a:r>
                <a:rPr b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验证，</a:t>
              </a:r>
              <a:r>
                <a:rPr b="1" i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         </a:t>
              </a:r>
              <a:r>
                <a:rPr b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  ，但        显然不是正态分布。</a:t>
              </a:r>
              <a:endParaRPr b="0" lang="en-US" sz="20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790" name=""/>
            <p:cNvGraphicFramePr/>
            <p:nvPr/>
          </p:nvGraphicFramePr>
          <p:xfrm>
            <a:off x="2540160" y="5051520"/>
            <a:ext cx="3200400" cy="46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40160" y="5051520"/>
                      <a:ext cx="3200400" cy="46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792" name=""/>
                <p:cNvSpPr txBox="1"/>
                <p:nvPr/>
              </p:nvSpPr>
              <p:spPr>
                <a:xfrm>
                  <a:off x="6321600" y="5084640"/>
                  <a:ext cx="96516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9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684360" y="2565360"/>
            <a:ext cx="8137440" cy="1352520"/>
            <a:chOff x="684360" y="2565360"/>
            <a:chExt cx="8137440" cy="1352520"/>
          </a:xfrm>
        </p:grpSpPr>
        <p:sp>
          <p:nvSpPr>
            <p:cNvPr id="795" name=""/>
            <p:cNvSpPr/>
            <p:nvPr/>
          </p:nvSpPr>
          <p:spPr>
            <a:xfrm>
              <a:off x="684360" y="2565360"/>
              <a:ext cx="813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2</a:t>
              </a:r>
              <a:r>
                <a:rPr b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、多元正态分布随机向量</a:t>
              </a:r>
              <a:r>
                <a:rPr b="1" lang="en-US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X</a:t>
              </a:r>
              <a:r>
                <a:rPr b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的任何一个分量子集的分布（称为</a:t>
              </a:r>
              <a:r>
                <a:rPr b="1" i="1" lang="en-US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X</a:t>
              </a:r>
              <a:r>
                <a:rPr b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的边缘分布）仍然遵从正态分布。而反之，若一个随机向量的任何边缘分布均为正态，并不能导出它是多元正态分布。</a:t>
              </a:r>
              <a:endParaRPr b="0" lang="en-US" sz="2000" spc="-1" strike="noStrike">
                <a:solidFill>
                  <a:srgbClr val="f4faf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例如，设</a:t>
              </a:r>
              <a:r>
                <a:rPr b="1" i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       </a:t>
              </a:r>
              <a:r>
                <a:rPr b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有分布密度</a:t>
              </a:r>
              <a:endParaRPr b="0" lang="en-US" sz="20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6" name=""/>
                <p:cNvSpPr txBox="1"/>
                <p:nvPr/>
              </p:nvSpPr>
              <p:spPr>
                <a:xfrm>
                  <a:off x="1835280" y="3517920"/>
                  <a:ext cx="158436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ACDE-1530-432E-BA63-F5B81F26A152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5509C-4DDC-4541-9658-E746B25588FD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8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6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324000" y="1341360"/>
            <a:ext cx="8281800" cy="1940040"/>
            <a:chOff x="324000" y="1341360"/>
            <a:chExt cx="8281800" cy="1940040"/>
          </a:xfrm>
        </p:grpSpPr>
        <mc:AlternateContent>
          <mc:Choice xmlns:a14="http://schemas.microsoft.com/office/drawing/2010/main" Requires="a14">
            <p:sp>
              <p:nvSpPr>
                <p:cNvPr id="810" name=""/>
                <p:cNvSpPr txBox="1"/>
                <p:nvPr/>
              </p:nvSpPr>
              <p:spPr>
                <a:xfrm>
                  <a:off x="684360" y="2911320"/>
                  <a:ext cx="863280" cy="3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μ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11" name=""/>
            <p:cNvSpPr/>
            <p:nvPr/>
          </p:nvSpPr>
          <p:spPr>
            <a:xfrm>
              <a:off x="324000" y="1341360"/>
              <a:ext cx="828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、多元正态向量                的任意线性变换仍然遵从多元正态分布。即设</a:t>
              </a:r>
              <a:r>
                <a:rPr b="1" i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     </a:t>
              </a:r>
              <a:r>
                <a:rPr b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，而</a:t>
              </a:r>
              <a:r>
                <a:rPr b="1" i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维随机向量            ，其中</a:t>
              </a:r>
              <a:r>
                <a:rPr b="1" i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</a:t>
              </a:r>
              <a:r>
                <a:rPr b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是     阶的常数矩阵， 是</a:t>
              </a:r>
              <a:r>
                <a:rPr b="1" i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维的常向量。则</a:t>
              </a:r>
              <a:r>
                <a:rPr b="1" i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维随机向量</a:t>
              </a:r>
              <a:r>
                <a:rPr b="1" i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也是正态的，且</a:t>
              </a:r>
              <a:r>
                <a:rPr b="1" i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            </a:t>
              </a:r>
              <a:r>
                <a:rPr b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。即</a:t>
              </a:r>
              <a:r>
                <a:rPr b="1" i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遵从</a:t>
              </a:r>
              <a:r>
                <a:rPr b="1" i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元正态分布，其均值向量为</a:t>
              </a:r>
              <a:r>
                <a:rPr b="1" i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 </a:t>
              </a:r>
              <a:r>
                <a:rPr b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，协差阵为</a:t>
              </a:r>
              <a:r>
                <a:rPr b="1" i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</a:t>
              </a:r>
              <a:r>
                <a:rPr b="1" lang="zh-CN" sz="20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。</a:t>
              </a:r>
              <a:endParaRPr b="0" lang="en-US" sz="20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2" name=""/>
                <p:cNvSpPr txBox="1"/>
                <p:nvPr/>
              </p:nvSpPr>
              <p:spPr>
                <a:xfrm>
                  <a:off x="5435640" y="1789200"/>
                  <a:ext cx="158436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m</m:t>
                          </m:r>
                          <m:r>
                            <m:t xml:space="preserve">×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3" name=""/>
                <p:cNvSpPr txBox="1"/>
                <p:nvPr/>
              </p:nvSpPr>
              <p:spPr>
                <a:xfrm>
                  <a:off x="1187280" y="2517840"/>
                  <a:ext cx="230508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~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Aμ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sSup>
                        <m:e>
                          <m:r>
                            <m:t xml:space="preserve">AΣA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4" name=""/>
                <p:cNvSpPr txBox="1"/>
                <p:nvPr/>
              </p:nvSpPr>
              <p:spPr>
                <a:xfrm>
                  <a:off x="2843280" y="2852640"/>
                  <a:ext cx="57636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ΣA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5" name=""/>
                <p:cNvSpPr txBox="1"/>
                <p:nvPr/>
              </p:nvSpPr>
              <p:spPr>
                <a:xfrm>
                  <a:off x="2897280" y="1424160"/>
                  <a:ext cx="205092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'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6" name=""/>
                <p:cNvSpPr txBox="1"/>
                <p:nvPr/>
              </p:nvSpPr>
              <p:spPr>
                <a:xfrm>
                  <a:off x="1979640" y="1825560"/>
                  <a:ext cx="144000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~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t xml:space="preserve">,</m:t>
                      </m:r>
                      <m:r>
                        <m:t xml:space="preserve">Σ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7" name=""/>
                <p:cNvSpPr txBox="1"/>
                <p:nvPr/>
              </p:nvSpPr>
              <p:spPr>
                <a:xfrm>
                  <a:off x="3838680" y="1844640"/>
                  <a:ext cx="37440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8" name=""/>
                <p:cNvSpPr txBox="1"/>
                <p:nvPr/>
              </p:nvSpPr>
              <p:spPr>
                <a:xfrm>
                  <a:off x="7740720" y="1798560"/>
                  <a:ext cx="8650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9" name=""/>
                <p:cNvSpPr txBox="1"/>
                <p:nvPr/>
              </p:nvSpPr>
              <p:spPr>
                <a:xfrm>
                  <a:off x="684360" y="2230560"/>
                  <a:ext cx="647640" cy="26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×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20" name="Rectangle 3"/>
                <p:cNvSpPr txBox="1"/>
                <p:nvPr/>
              </p:nvSpPr>
              <p:spPr>
                <a:xfrm>
                  <a:off x="2987640" y="2133720"/>
                  <a:ext cx="25704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21" name=""/>
                <p:cNvSpPr txBox="1"/>
                <p:nvPr/>
              </p:nvSpPr>
              <p:spPr>
                <a:xfrm>
                  <a:off x="3492360" y="2205000"/>
                  <a:ext cx="287640" cy="2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22" name=""/>
                <p:cNvSpPr txBox="1"/>
                <p:nvPr/>
              </p:nvSpPr>
              <p:spPr>
                <a:xfrm>
                  <a:off x="5508720" y="2205000"/>
                  <a:ext cx="287280" cy="2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23" name=""/>
                <p:cNvSpPr txBox="1"/>
                <p:nvPr/>
              </p:nvSpPr>
              <p:spPr>
                <a:xfrm>
                  <a:off x="7093080" y="2205000"/>
                  <a:ext cx="222120" cy="2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24" name=""/>
                <p:cNvSpPr txBox="1"/>
                <p:nvPr/>
              </p:nvSpPr>
              <p:spPr>
                <a:xfrm>
                  <a:off x="3995640" y="2565360"/>
                  <a:ext cx="219240" cy="23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25" name=""/>
                <p:cNvSpPr txBox="1"/>
                <p:nvPr/>
              </p:nvSpPr>
              <p:spPr>
                <a:xfrm>
                  <a:off x="4788000" y="2565360"/>
                  <a:ext cx="28872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26" name=""/>
          <p:cNvSpPr/>
          <p:nvPr/>
        </p:nvSpPr>
        <p:spPr>
          <a:xfrm>
            <a:off x="6112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95280" y="3213000"/>
            <a:ext cx="820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afa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f4fafa"/>
                </a:solidFill>
                <a:latin typeface="黑体"/>
                <a:ea typeface="黑体"/>
              </a:rPr>
              <a:t>4</a:t>
            </a:r>
            <a:r>
              <a:rPr b="1" lang="zh-CN" sz="2000" spc="-1" strike="noStrike">
                <a:solidFill>
                  <a:srgbClr val="f4fafa"/>
                </a:solidFill>
                <a:latin typeface="黑体"/>
                <a:ea typeface="黑体"/>
              </a:rPr>
              <a:t>、若              ，则</a:t>
            </a:r>
            <a:endParaRPr b="0" lang="en-US" sz="2000" spc="-1" strike="noStrike">
              <a:solidFill>
                <a:srgbClr val="f4faf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4faf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4faf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4faf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4fafa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f4fafa"/>
                </a:solidFill>
                <a:latin typeface="黑体"/>
                <a:ea typeface="黑体"/>
              </a:rPr>
              <a:t>若为定值，随着  的变化其轨迹为一椭球面，是  的密度函数的等值面</a:t>
            </a:r>
            <a:r>
              <a:rPr b="1" lang="en-US" sz="2000" spc="-1" strike="noStrike">
                <a:solidFill>
                  <a:srgbClr val="f4fafa"/>
                </a:solidFill>
                <a:latin typeface="黑体"/>
                <a:ea typeface="黑体"/>
              </a:rPr>
              <a:t>.</a:t>
            </a:r>
            <a:r>
              <a:rPr b="1" lang="zh-CN" sz="2000" spc="-1" strike="noStrike">
                <a:solidFill>
                  <a:srgbClr val="f4fafa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f4fafa"/>
              </a:solidFill>
              <a:latin typeface="Arial"/>
            </a:endParaRPr>
          </a:p>
        </p:txBody>
      </p:sp>
      <p:graphicFrame>
        <p:nvGraphicFramePr>
          <p:cNvPr id="829" name="Rectangle 3"/>
          <p:cNvGraphicFramePr/>
          <p:nvPr/>
        </p:nvGraphicFramePr>
        <p:xfrm>
          <a:off x="6732720" y="4514760"/>
          <a:ext cx="312480" cy="29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0" name="Rectangle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2720" y="4514760"/>
                    <a:ext cx="31248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1" name=""/>
          <p:cNvGraphicFramePr/>
          <p:nvPr/>
        </p:nvGraphicFramePr>
        <p:xfrm>
          <a:off x="1835280" y="3284640"/>
          <a:ext cx="1439640" cy="40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35280" y="3284640"/>
                    <a:ext cx="143964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3" name=""/>
          <p:cNvGraphicFramePr/>
          <p:nvPr/>
        </p:nvGraphicFramePr>
        <p:xfrm>
          <a:off x="1187280" y="3716280"/>
          <a:ext cx="3889440" cy="56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87280" y="3716280"/>
                    <a:ext cx="38894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"/>
          <p:cNvGraphicFramePr/>
          <p:nvPr/>
        </p:nvGraphicFramePr>
        <p:xfrm>
          <a:off x="1042920" y="4437000"/>
          <a:ext cx="328680" cy="344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42920" y="4437000"/>
                    <a:ext cx="3286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"/>
          <p:cNvGraphicFramePr/>
          <p:nvPr/>
        </p:nvGraphicFramePr>
        <p:xfrm>
          <a:off x="3119400" y="4470480"/>
          <a:ext cx="360360" cy="322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3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19400" y="4470480"/>
                    <a:ext cx="36036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9" name="" descr=""/>
          <p:cNvPicPr/>
          <p:nvPr/>
        </p:nvPicPr>
        <p:blipFill>
          <a:blip r:embed="rId17"/>
          <a:stretch/>
        </p:blipFill>
        <p:spPr>
          <a:xfrm>
            <a:off x="4127400" y="3921120"/>
            <a:ext cx="219240" cy="33336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/>
          <p:cNvPicPr/>
          <p:nvPr/>
        </p:nvPicPr>
        <p:blipFill>
          <a:blip r:embed="rId18"/>
          <a:stretch/>
        </p:blipFill>
        <p:spPr>
          <a:xfrm>
            <a:off x="2050920" y="3284640"/>
            <a:ext cx="219240" cy="333360"/>
          </a:xfrm>
          <a:prstGeom prst="rect">
            <a:avLst/>
          </a:prstGeom>
          <a:ln w="0">
            <a:noFill/>
          </a:ln>
        </p:spPr>
      </p:pic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19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8E39-786D-48D2-8D04-3BA402E32848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349F8-6B65-408B-9921-903FDB6AF393}" type="datetime1">
              <a:rPr lang="en-US"/>
              <a:t>07/30/26</a:t>
            </a:fld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4fafa"/>
                </a:solidFill>
                <a:latin typeface="黑体"/>
                <a:ea typeface="黑体"/>
              </a:rPr>
              <a:t>三、  条件分布和独立性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Rectangle 3"/>
          <p:cNvGraphicFramePr/>
          <p:nvPr/>
        </p:nvGraphicFramePr>
        <p:xfrm>
          <a:off x="1332000" y="2509920"/>
          <a:ext cx="684036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509920"/>
                    <a:ext cx="68403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6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84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8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grpSp>
        <p:nvGrpSpPr>
          <p:cNvPr id="852" name=""/>
          <p:cNvGrpSpPr/>
          <p:nvPr/>
        </p:nvGrpSpPr>
        <p:grpSpPr>
          <a:xfrm>
            <a:off x="971640" y="4221000"/>
            <a:ext cx="7848360" cy="827280"/>
            <a:chOff x="971640" y="4221000"/>
            <a:chExt cx="7848360" cy="827280"/>
          </a:xfrm>
        </p:grpSpPr>
        <p:sp>
          <p:nvSpPr>
            <p:cNvPr id="853" name=""/>
            <p:cNvSpPr/>
            <p:nvPr/>
          </p:nvSpPr>
          <p:spPr>
            <a:xfrm>
              <a:off x="971640" y="4221000"/>
              <a:ext cx="720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                  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我们希望求给定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的条件分布，即         的分布。下一个定理指出：正态分布的条件分布仍为正态分布。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4" name=""/>
                <p:cNvSpPr txBox="1"/>
                <p:nvPr/>
              </p:nvSpPr>
              <p:spPr>
                <a:xfrm>
                  <a:off x="1042920" y="4221000"/>
                  <a:ext cx="439272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其中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,</m:t>
                      </m:r>
                      <m:sSup>
                        <m:e>
                          <m:r>
                            <m:t xml:space="preserve">μ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为q</m:t>
                      </m:r>
                      <m:r>
                        <m:t xml:space="preserve">×</m:t>
                      </m:r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为q</m:t>
                      </m:r>
                      <m:r>
                        <m:t xml:space="preserve">×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5" name=""/>
                <p:cNvSpPr txBox="1"/>
                <p:nvPr/>
              </p:nvSpPr>
              <p:spPr>
                <a:xfrm>
                  <a:off x="7464600" y="4259160"/>
                  <a:ext cx="135540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sup>
                      </m:sSup>
                      <m:sSup>
                        <m:e>
                          <m:r>
                            <m:t xml:space="preserve">时X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6" name=""/>
                <p:cNvSpPr txBox="1"/>
                <p:nvPr/>
              </p:nvSpPr>
              <p:spPr>
                <a:xfrm>
                  <a:off x="3273480" y="4653000"/>
                  <a:ext cx="132408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|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57" name="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971640" y="1341360"/>
            <a:ext cx="7272360" cy="525600"/>
            <a:chOff x="971640" y="1341360"/>
            <a:chExt cx="7272360" cy="525600"/>
          </a:xfrm>
        </p:grpSpPr>
        <p:sp>
          <p:nvSpPr>
            <p:cNvPr id="860" name=""/>
            <p:cNvSpPr/>
            <p:nvPr/>
          </p:nvSpPr>
          <p:spPr>
            <a:xfrm>
              <a:off x="971640" y="1341360"/>
              <a:ext cx="727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设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      </a:t>
              </a:r>
              <a:r>
                <a:rPr b="1" i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p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≥2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将</a:t>
              </a:r>
              <a:r>
                <a:rPr b="1" i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X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、</a:t>
              </a:r>
              <a:r>
                <a:rPr b="1" i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μ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和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Σ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剖分如下：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1" name=""/>
                <p:cNvSpPr txBox="1"/>
                <p:nvPr/>
              </p:nvSpPr>
              <p:spPr>
                <a:xfrm>
                  <a:off x="1403280" y="1413000"/>
                  <a:ext cx="172728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~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t xml:space="preserve">,</m:t>
                      </m:r>
                      <m:r>
                        <m:t xml:space="preserve">Σ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7355-8C0C-42FE-8A0D-EBBAFFBCC391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B0648-2929-46D3-AA2F-517DDD17A61C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2" name="Rectangle 3"/>
          <p:cNvGraphicFramePr/>
          <p:nvPr/>
        </p:nvGraphicFramePr>
        <p:xfrm>
          <a:off x="2268360" y="2744640"/>
          <a:ext cx="612144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744640"/>
                    <a:ext cx="612144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4" name=""/>
          <p:cNvSpPr/>
          <p:nvPr/>
        </p:nvSpPr>
        <p:spPr>
          <a:xfrm>
            <a:off x="2195640" y="54450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证明参见文献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[4]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86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67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68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/>
          <p:cNvPicPr/>
          <p:nvPr/>
        </p:nvPicPr>
        <p:blipFill>
          <a:blip r:embed="rId8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1042920" y="1628640"/>
            <a:ext cx="7488360" cy="487440"/>
            <a:chOff x="1042920" y="1628640"/>
            <a:chExt cx="7488360" cy="487440"/>
          </a:xfrm>
        </p:grpSpPr>
        <p:sp>
          <p:nvSpPr>
            <p:cNvPr id="873" name=""/>
            <p:cNvSpPr/>
            <p:nvPr/>
          </p:nvSpPr>
          <p:spPr>
            <a:xfrm>
              <a:off x="1042920" y="1628640"/>
              <a:ext cx="748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定理</a:t>
              </a:r>
              <a:r>
                <a:rPr b="1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5.1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：设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 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Σ&gt;0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，则 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4" name=""/>
                <p:cNvSpPr txBox="1"/>
                <p:nvPr/>
              </p:nvSpPr>
              <p:spPr>
                <a:xfrm>
                  <a:off x="2843280" y="1700280"/>
                  <a:ext cx="158436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~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t xml:space="preserve">,</m:t>
                      </m:r>
                      <m:r>
                        <m:t xml:space="preserve">Σ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837C-2B9F-45A1-A9C4-23C67F368D28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B8D09-22FE-494B-8440-0006B6C6308D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1332000" y="2565360"/>
            <a:ext cx="4101840" cy="1511280"/>
            <a:chOff x="1332000" y="2565360"/>
            <a:chExt cx="4101840" cy="1511280"/>
          </a:xfrm>
        </p:grpSpPr>
        <mc:AlternateContent>
          <mc:Choice xmlns:a14="http://schemas.microsoft.com/office/drawing/2010/main" Requires="a14">
            <p:sp>
              <p:nvSpPr>
                <p:cNvPr id="879" name=""/>
                <p:cNvSpPr txBox="1"/>
                <p:nvPr/>
              </p:nvSpPr>
              <p:spPr>
                <a:xfrm>
                  <a:off x="1332000" y="2581200"/>
                  <a:ext cx="1512720" cy="14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0" name=""/>
                <p:cNvSpPr txBox="1"/>
                <p:nvPr/>
              </p:nvSpPr>
              <p:spPr>
                <a:xfrm>
                  <a:off x="3995640" y="2565360"/>
                  <a:ext cx="1438200" cy="15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p>
                                <m:e>
                                  <m:r>
                                    <m:t xml:space="preserve">μ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p>
                                <m:e>
                                  <m:r>
                                    <m:t xml:space="preserve">μ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1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332000" y="4435560"/>
            <a:ext cx="6192720" cy="1441440"/>
            <a:chOff x="1332000" y="4435560"/>
            <a:chExt cx="6192720" cy="1441440"/>
          </a:xfrm>
        </p:grpSpPr>
        <mc:AlternateContent>
          <mc:Choice xmlns:a14="http://schemas.microsoft.com/office/drawing/2010/main" Requires="a14">
            <p:sp>
              <p:nvSpPr>
                <p:cNvPr id="883" name=""/>
                <p:cNvSpPr txBox="1"/>
                <p:nvPr/>
              </p:nvSpPr>
              <p:spPr>
                <a:xfrm>
                  <a:off x="1332000" y="4435560"/>
                  <a:ext cx="3887640" cy="14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3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m>
                        <m:mr>
                          <m:e>
                            <m:r>
                              <m:t xml:space="preserve">r</m:t>
                            </m:r>
                          </m:e>
                        </m:mr>
                        <m:mr>
                          <m:e>
                            <m:r>
                              <m:t xml:space="preserve">s</m:t>
                            </m:r>
                          </m:e>
                        </m:mr>
                        <m:mr>
                          <m:e>
                            <m:r>
                              <m:t xml:space="preserve">t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884" name=""/>
            <p:cNvSpPr/>
            <p:nvPr/>
          </p:nvSpPr>
          <p:spPr>
            <a:xfrm>
              <a:off x="6229440" y="49417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(5.28)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8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89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90" name="" descr=""/>
          <p:cNvPicPr/>
          <p:nvPr/>
        </p:nvPicPr>
        <p:blipFill>
          <a:blip r:embed="rId6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89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611280" y="1628640"/>
            <a:ext cx="7416720" cy="514440"/>
            <a:chOff x="611280" y="1628640"/>
            <a:chExt cx="7416720" cy="514440"/>
          </a:xfrm>
        </p:grpSpPr>
        <p:sp>
          <p:nvSpPr>
            <p:cNvPr id="893" name=""/>
            <p:cNvSpPr/>
            <p:nvPr/>
          </p:nvSpPr>
          <p:spPr>
            <a:xfrm>
              <a:off x="611280" y="1628640"/>
              <a:ext cx="741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定理</a:t>
              </a:r>
              <a:r>
                <a:rPr b="1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5.2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：设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 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Σ&gt;0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，将</a:t>
              </a:r>
              <a:r>
                <a:rPr b="1" i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X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，</a:t>
              </a:r>
              <a:r>
                <a:rPr b="1" i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μ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Σ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剖分如下：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4" name=""/>
                <p:cNvSpPr txBox="1"/>
                <p:nvPr/>
              </p:nvSpPr>
              <p:spPr>
                <a:xfrm>
                  <a:off x="2386080" y="1706400"/>
                  <a:ext cx="165564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~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t xml:space="preserve">,</m:t>
                      </m:r>
                      <m:r>
                        <m:t xml:space="preserve">Σ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129A-442A-43D9-B684-409128D39F92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6811C6-DD21-42E4-87A5-E7B2F8412B32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900000" y="1603440"/>
            <a:ext cx="7201080" cy="459720"/>
            <a:chOff x="900000" y="1603440"/>
            <a:chExt cx="7201080" cy="459720"/>
          </a:xfrm>
        </p:grpSpPr>
        <p:sp>
          <p:nvSpPr>
            <p:cNvPr id="901" name=""/>
            <p:cNvSpPr/>
            <p:nvPr/>
          </p:nvSpPr>
          <p:spPr>
            <a:xfrm>
              <a:off x="900000" y="1603440"/>
              <a:ext cx="720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则      有如下的条件均值和条件协差阵的递推公式：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2" name=""/>
                <p:cNvSpPr txBox="1"/>
                <p:nvPr/>
              </p:nvSpPr>
              <p:spPr>
                <a:xfrm>
                  <a:off x="1306440" y="1641600"/>
                  <a:ext cx="492120" cy="33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0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1042920" y="2275560"/>
            <a:ext cx="7129440" cy="459720"/>
            <a:chOff x="1042920" y="2275560"/>
            <a:chExt cx="7129440" cy="459720"/>
          </a:xfrm>
        </p:grpSpPr>
        <mc:AlternateContent>
          <mc:Choice xmlns:a14="http://schemas.microsoft.com/office/drawing/2010/main" Requires="a14">
            <p:sp>
              <p:nvSpPr>
                <p:cNvPr id="907" name=""/>
                <p:cNvSpPr txBox="1"/>
                <p:nvPr/>
              </p:nvSpPr>
              <p:spPr>
                <a:xfrm>
                  <a:off x="1042920" y="2276640"/>
                  <a:ext cx="532944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|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3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3</m:t>
                          </m:r>
                        </m:sub>
                      </m:sSub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bSup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08" name=""/>
            <p:cNvSpPr/>
            <p:nvPr/>
          </p:nvSpPr>
          <p:spPr>
            <a:xfrm>
              <a:off x="6659640" y="227556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(5.29)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1042920" y="2924280"/>
            <a:ext cx="7129440" cy="506160"/>
            <a:chOff x="1042920" y="2924280"/>
            <a:chExt cx="7129440" cy="506160"/>
          </a:xfrm>
        </p:grpSpPr>
        <mc:AlternateContent>
          <mc:Choice xmlns:a14="http://schemas.microsoft.com/office/drawing/2010/main" Requires="a14">
            <p:sp>
              <p:nvSpPr>
                <p:cNvPr id="910" name=""/>
                <p:cNvSpPr txBox="1"/>
                <p:nvPr/>
              </p:nvSpPr>
              <p:spPr>
                <a:xfrm>
                  <a:off x="1042920" y="2924280"/>
                  <a:ext cx="518472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|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3</m:t>
                          </m:r>
                        </m:sub>
                      </m:sSub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bSup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1" name=""/>
            <p:cNvSpPr/>
            <p:nvPr/>
          </p:nvSpPr>
          <p:spPr>
            <a:xfrm>
              <a:off x="6659640" y="297072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(5.30)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971640" y="3572280"/>
            <a:ext cx="5618160" cy="1296720"/>
            <a:chOff x="971640" y="3572280"/>
            <a:chExt cx="5618160" cy="1296720"/>
          </a:xfrm>
        </p:grpSpPr>
        <p:sp>
          <p:nvSpPr>
            <p:cNvPr id="913" name=""/>
            <p:cNvSpPr/>
            <p:nvPr/>
          </p:nvSpPr>
          <p:spPr>
            <a:xfrm>
              <a:off x="971640" y="3572280"/>
              <a:ext cx="94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其中 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4" name=""/>
                <p:cNvSpPr txBox="1"/>
                <p:nvPr/>
              </p:nvSpPr>
              <p:spPr>
                <a:xfrm>
                  <a:off x="1757520" y="3624120"/>
                  <a:ext cx="274320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k</m:t>
                          </m:r>
                        </m:sub>
                      </m:sSub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kk</m:t>
                          </m:r>
                        </m:sub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bSup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k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5" name=""/>
                <p:cNvSpPr txBox="1"/>
                <p:nvPr/>
              </p:nvSpPr>
              <p:spPr>
                <a:xfrm>
                  <a:off x="4784760" y="3679920"/>
                  <a:ext cx="180324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,</m:t>
                      </m:r>
                      <m:r>
                        <m:t xml:space="preserve">j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1,2,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16" name=""/>
            <p:cNvSpPr/>
            <p:nvPr/>
          </p:nvSpPr>
          <p:spPr>
            <a:xfrm>
              <a:off x="4192560" y="35773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， 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7" name="Rectangle 3"/>
                <p:cNvSpPr txBox="1"/>
                <p:nvPr/>
              </p:nvSpPr>
              <p:spPr>
                <a:xfrm>
                  <a:off x="1692360" y="4437000"/>
                  <a:ext cx="489744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⋅</m:t>
                          </m:r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|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          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18" name=""/>
          <p:cNvSpPr/>
          <p:nvPr/>
        </p:nvSpPr>
        <p:spPr>
          <a:xfrm>
            <a:off x="2843280" y="544392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33560"/>
                <a:tab algn="l" pos="206676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证明参见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[4]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92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6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FEE6-D52F-4B26-9F41-593117BB7B9A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0FEEC-C43A-472E-BAD5-CF8284C74AE7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200" spc="-1" strike="noStrike">
                <a:solidFill>
                  <a:srgbClr val="fdfdf1"/>
                </a:solidFill>
                <a:latin typeface="Arial"/>
              </a:rPr>
              <a:t>服装标准例子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971280" y="2924280"/>
            <a:ext cx="6832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fdf1"/>
                </a:solidFill>
                <a:latin typeface="Arial"/>
              </a:rPr>
              <a:t>科民</a:t>
            </a:r>
            <a:r>
              <a:rPr b="1" lang="en-US" sz="2400" spc="-1" strike="noStrike">
                <a:solidFill>
                  <a:srgbClr val="fdfdf1"/>
                </a:solidFill>
                <a:latin typeface="Arial"/>
              </a:rPr>
              <a:t>(1976),</a:t>
            </a:r>
            <a:r>
              <a:rPr b="1" lang="zh-CN" sz="2400" spc="-1" strike="noStrike">
                <a:solidFill>
                  <a:srgbClr val="fdfdf1"/>
                </a:solidFill>
                <a:latin typeface="Arial"/>
              </a:rPr>
              <a:t>运用条件分布的理论修定我国服装国家标准</a:t>
            </a:r>
            <a:r>
              <a:rPr b="1" lang="en-US" sz="2400" spc="-1" strike="noStrike">
                <a:solidFill>
                  <a:srgbClr val="fdfdf1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dfdf1"/>
                </a:solidFill>
                <a:latin typeface="Arial"/>
              </a:rPr>
              <a:t>应用数学学报</a:t>
            </a:r>
            <a:r>
              <a:rPr b="1" lang="en-US" sz="2400" spc="-1" strike="noStrike">
                <a:solidFill>
                  <a:srgbClr val="fdfdf1"/>
                </a:solidFill>
                <a:latin typeface="Arial"/>
              </a:rPr>
              <a:t>,2,62-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fdf1"/>
                </a:solidFill>
                <a:latin typeface="Arial"/>
              </a:rPr>
              <a:t>女</a:t>
            </a:r>
            <a:r>
              <a:rPr b="1" lang="en-US" sz="2400" spc="-1" strike="noStrike">
                <a:solidFill>
                  <a:srgbClr val="fdfdf1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fdfdf1"/>
                </a:solidFill>
                <a:latin typeface="Arial"/>
              </a:rPr>
              <a:t>个部位</a:t>
            </a:r>
            <a:r>
              <a:rPr b="1" lang="en-US" sz="2400" spc="-1" strike="noStrike">
                <a:solidFill>
                  <a:srgbClr val="fdfdf1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dfdf1"/>
                </a:solidFill>
                <a:latin typeface="Arial"/>
              </a:rPr>
              <a:t>X1:</a:t>
            </a:r>
            <a:r>
              <a:rPr b="1" lang="zh-CN" sz="2400" spc="-1" strike="noStrike">
                <a:solidFill>
                  <a:srgbClr val="fdfdf1"/>
                </a:solidFill>
                <a:latin typeface="Arial"/>
              </a:rPr>
              <a:t>身高，</a:t>
            </a:r>
            <a:r>
              <a:rPr b="1" i="1" lang="en-US" sz="2400" spc="-1" strike="noStrike">
                <a:solidFill>
                  <a:srgbClr val="fdfdf1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dfdf1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dfdf1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胸围</a:t>
            </a:r>
            <a:r>
              <a:rPr b="1" lang="zh-CN" sz="2400" spc="-1" strike="noStrike">
                <a:solidFill>
                  <a:srgbClr val="fdfdf1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fdfdf1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dfdf1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dfdf1"/>
                </a:solidFill>
                <a:latin typeface="Arial"/>
              </a:rPr>
              <a:t>：腰围，</a:t>
            </a:r>
            <a:r>
              <a:rPr b="1" i="1" lang="en-US" sz="2400" spc="-1" strike="noStrike">
                <a:solidFill>
                  <a:srgbClr val="fdfdf1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dfdf1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dfdf1"/>
                </a:solidFill>
                <a:latin typeface="Arial"/>
              </a:rPr>
              <a:t>：上体长，</a:t>
            </a:r>
            <a:r>
              <a:rPr b="1" i="1" lang="en-US" sz="2400" spc="-1" strike="noStrike">
                <a:solidFill>
                  <a:srgbClr val="fdfdf1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dfdf1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dfdf1"/>
                </a:solidFill>
                <a:latin typeface="Arial"/>
              </a:rPr>
              <a:t>：臀围等</a:t>
            </a:r>
            <a:r>
              <a:rPr b="1" lang="en-US" sz="2400" spc="-1" strike="noStrike">
                <a:solidFill>
                  <a:srgbClr val="fdfdf1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fdfdf1"/>
                </a:solidFill>
                <a:latin typeface="Arial"/>
              </a:rPr>
              <a:t>男</a:t>
            </a:r>
            <a:r>
              <a:rPr b="1" lang="en-US" sz="2400" spc="-1" strike="noStrike">
                <a:solidFill>
                  <a:srgbClr val="fdfdf1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fdfdf1"/>
                </a:solidFill>
                <a:latin typeface="Arial"/>
              </a:rPr>
              <a:t>个部位</a:t>
            </a:r>
            <a:r>
              <a:rPr b="1" lang="en-US" sz="2400" spc="-1" strike="noStrike">
                <a:solidFill>
                  <a:srgbClr val="fdfdf1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身高</a:t>
            </a:r>
            <a:r>
              <a:rPr b="1" lang="en-US" sz="2400" spc="-1" strike="noStrike">
                <a:solidFill>
                  <a:srgbClr val="fdfdf1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fdfdf1"/>
                </a:solidFill>
                <a:latin typeface="Arial"/>
              </a:rPr>
              <a:t>等</a:t>
            </a:r>
            <a:r>
              <a:rPr b="1" lang="en-US" sz="2400" spc="-1" strike="noStrike">
                <a:solidFill>
                  <a:srgbClr val="fdfdf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9607-A318-4541-8949-6E2B9935FFAE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5A8EC-5E7B-4A31-917A-77E53B96456F}" type="datetime1">
              <a:rPr lang="en-US"/>
              <a:t>07/30/26</a:t>
            </a:fld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331640" y="549000"/>
            <a:ext cx="7343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4fafa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因此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样本资料矩阵可用矩阵语言表示为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Rectangle 3"/>
              <p:cNvSpPr txBox="1"/>
              <p:nvPr/>
            </p:nvSpPr>
            <p:spPr>
              <a:xfrm>
                <a:off x="1332000" y="1197000"/>
                <a:ext cx="5545080" cy="18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⋯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⋯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⋮</m:t>
                            </m:r>
                            <m:r>
                              <m:t xml:space="preserve"> </m:t>
                            </m:r>
                            <m:r>
                              <m:t xml:space="preserve">⋮</m:t>
                            </m:r>
                            <m:r>
                              <m:t xml:space="preserve"> </m:t>
                            </m:r>
                            <m:r>
                              <m:t xml:space="preserve">⋮</m:t>
                            </m:r>
                            <m:r>
                              <m:t xml:space="preserve"> 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1" name=""/>
          <p:cNvGrpSpPr/>
          <p:nvPr/>
        </p:nvGrpSpPr>
        <p:grpSpPr>
          <a:xfrm>
            <a:off x="900000" y="3716280"/>
            <a:ext cx="7632720" cy="1114200"/>
            <a:chOff x="900000" y="3716280"/>
            <a:chExt cx="7632720" cy="1114200"/>
          </a:xfrm>
        </p:grpSpPr>
        <p:sp>
          <p:nvSpPr>
            <p:cNvPr id="172" name=""/>
            <p:cNvSpPr/>
            <p:nvPr/>
          </p:nvSpPr>
          <p:spPr>
            <a:xfrm>
              <a:off x="900000" y="3716280"/>
              <a:ext cx="7632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定义</a:t>
              </a:r>
              <a:r>
                <a:rPr b="1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5.1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设           为  个随机变量，由它们组成的向量                  称为随机向量。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Rectangle 3"/>
                <p:cNvSpPr txBox="1"/>
                <p:nvPr/>
              </p:nvSpPr>
              <p:spPr>
                <a:xfrm>
                  <a:off x="2628720" y="3860640"/>
                  <a:ext cx="1584360" cy="4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1954080" y="4343040"/>
                  <a:ext cx="2665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4495680" y="3906720"/>
                  <a:ext cx="35244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6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826920" y="3213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66cc"/>
                </a:solidFill>
                <a:latin typeface="Arial"/>
                <a:ea typeface="黑体"/>
              </a:rPr>
              <a:t>若无特别说明，本书所称向量均指列向量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45360" y="4723560"/>
            <a:ext cx="51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4fafa"/>
                </a:solidFill>
                <a:latin typeface="宋体"/>
                <a:ea typeface="Times New Roman"/>
              </a:rPr>
              <a:t>如</a:t>
            </a:r>
            <a:r>
              <a:rPr b="1" lang="en-US" sz="2000" spc="-1" strike="noStrike">
                <a:solidFill>
                  <a:srgbClr val="f4fafa"/>
                </a:solidFill>
                <a:latin typeface="宋体"/>
                <a:ea typeface="Times New Roman"/>
              </a:rPr>
              <a:t>,</a:t>
            </a:r>
            <a:r>
              <a:rPr b="1" lang="zh-CN" sz="2000" spc="-1" strike="noStrike">
                <a:solidFill>
                  <a:srgbClr val="f4fafa"/>
                </a:solidFill>
                <a:latin typeface="宋体"/>
                <a:ea typeface="Times New Roman"/>
              </a:rPr>
              <a:t>全国各省市、自治区城镇居民消费便为一随机向量，</a:t>
            </a:r>
            <a:endParaRPr b="0" lang="en-US" sz="2000" spc="-1" strike="noStrike">
              <a:solidFill>
                <a:srgbClr val="f4fafa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556000" y="5157720"/>
          <a:ext cx="3240000" cy="324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56000" y="5157720"/>
                    <a:ext cx="32400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879120" y="5372280"/>
            <a:ext cx="715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4fafa"/>
                </a:solidFill>
                <a:latin typeface="宋体"/>
                <a:ea typeface="Times New Roman"/>
              </a:rPr>
              <a:t>，</a:t>
            </a:r>
            <a:r>
              <a:rPr b="0" lang="zh-CN" sz="2400" spc="-1" strike="noStrike">
                <a:solidFill>
                  <a:srgbClr val="f4fafa"/>
                </a:solidFill>
                <a:latin typeface="宋体"/>
                <a:ea typeface="Times New Roman"/>
              </a:rPr>
              <a:t>数据格式如下：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fafa"/>
                </a:solidFill>
                <a:latin typeface="宋体"/>
                <a:ea typeface="Times New Roman"/>
              </a:rPr>
              <a:t>表</a:t>
            </a:r>
            <a:r>
              <a:rPr b="0" lang="en-US" sz="2400" spc="-1" strike="noStrike">
                <a:solidFill>
                  <a:srgbClr val="f4fafa"/>
                </a:solidFill>
                <a:latin typeface="宋体"/>
                <a:ea typeface="Times New Roman"/>
              </a:rPr>
              <a:t>5-2</a:t>
            </a:r>
            <a:r>
              <a:rPr b="0" lang="zh-CN" sz="2400" spc="-1" strike="noStrike">
                <a:solidFill>
                  <a:srgbClr val="f4fafa"/>
                </a:solidFill>
                <a:latin typeface="宋体"/>
                <a:ea typeface="Times New Roman"/>
              </a:rPr>
              <a:t>：</a:t>
            </a:r>
            <a:r>
              <a:rPr b="0" lang="en-US" sz="2400" spc="-1" strike="noStrike">
                <a:solidFill>
                  <a:srgbClr val="f4fafa"/>
                </a:solidFill>
                <a:latin typeface="宋体"/>
                <a:ea typeface="Times New Roman"/>
              </a:rPr>
              <a:t>2008</a:t>
            </a:r>
            <a:r>
              <a:rPr b="0" lang="zh-CN" sz="2400" spc="-1" strike="noStrike">
                <a:solidFill>
                  <a:srgbClr val="f4fafa"/>
                </a:solidFill>
                <a:latin typeface="宋体"/>
                <a:ea typeface="Times New Roman"/>
              </a:rPr>
              <a:t>年各地区城镇居民家庭平均每人全年消费性支出 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717F-E35E-4A2C-AF7E-D5299B99E25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EAD06-BB15-4CC2-A229-269468DFB820}" type="datetime1">
              <a:rPr lang="en-US"/>
              <a:t>07/30/26</a:t>
            </a:fld>
          </a:p>
        </p:txBody>
      </p:sp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d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fdf1"/>
                </a:solidFill>
                <a:latin typeface="Arial"/>
              </a:rPr>
              <a:t>定理</a:t>
            </a:r>
            <a:r>
              <a:rPr b="1" lang="en-US" sz="2400" spc="-1" strike="noStrike">
                <a:solidFill>
                  <a:srgbClr val="fdfdf1"/>
                </a:solidFill>
                <a:latin typeface="Arial"/>
              </a:rPr>
              <a:t>5.1</a:t>
            </a:r>
            <a:r>
              <a:rPr b="1" lang="zh-CN" sz="2400" spc="-1" strike="noStrike">
                <a:solidFill>
                  <a:srgbClr val="fdfdf1"/>
                </a:solidFill>
                <a:latin typeface="Arial"/>
              </a:rPr>
              <a:t>和定理</a:t>
            </a:r>
            <a:r>
              <a:rPr b="1" lang="en-US" sz="2400" spc="-1" strike="noStrike">
                <a:solidFill>
                  <a:srgbClr val="fdfdf1"/>
                </a:solidFill>
                <a:latin typeface="Arial"/>
              </a:rPr>
              <a:t>5.2</a:t>
            </a:r>
            <a:r>
              <a:rPr b="1" lang="zh-CN" sz="2400" spc="-1" strike="noStrike">
                <a:solidFill>
                  <a:srgbClr val="fdfdf1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fdfdf1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fdfdf1"/>
                </a:solidFill>
                <a:latin typeface="Arial"/>
              </a:rPr>
              <a:t>世纪</a:t>
            </a:r>
            <a:r>
              <a:rPr b="1" lang="en-US" sz="2400" spc="-1" strike="noStrike">
                <a:solidFill>
                  <a:srgbClr val="fdfdf1"/>
                </a:solidFill>
                <a:latin typeface="Arial"/>
              </a:rPr>
              <a:t>70</a:t>
            </a:r>
            <a:r>
              <a:rPr b="1" lang="zh-CN" sz="2400" spc="-1" strike="noStrike">
                <a:solidFill>
                  <a:srgbClr val="fdfdf1"/>
                </a:solidFill>
                <a:latin typeface="Arial"/>
              </a:rPr>
              <a:t>年代中期为国家标准部门制定服装标准时有成功的应用，见参考文献</a:t>
            </a:r>
            <a:r>
              <a:rPr b="1" lang="en-US" sz="2400" spc="-1" strike="noStrike">
                <a:solidFill>
                  <a:srgbClr val="fdfdf1"/>
                </a:solidFill>
                <a:latin typeface="Arial"/>
              </a:rPr>
              <a:t>[4]</a:t>
            </a:r>
            <a:r>
              <a:rPr b="1" lang="zh-CN" sz="2400" spc="-1" strike="noStrike">
                <a:solidFill>
                  <a:srgbClr val="fdfdf1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fd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fdf1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dfdf1"/>
                </a:solidFill>
                <a:latin typeface="Arial"/>
              </a:rPr>
              <a:t>5.2 </a:t>
            </a:r>
            <a:r>
              <a:rPr b="1" lang="zh-CN" sz="2400" spc="-1" strike="noStrike">
                <a:solidFill>
                  <a:srgbClr val="fdfdf1"/>
                </a:solidFill>
                <a:latin typeface="Arial"/>
              </a:rPr>
              <a:t>在制定服装标准时需抽样进行人体测量，现从某年龄段女子测量取出部分结果如下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0" name="Rectangle 3"/>
          <p:cNvGraphicFramePr/>
          <p:nvPr/>
        </p:nvGraphicFramePr>
        <p:xfrm>
          <a:off x="1690560" y="4076640"/>
          <a:ext cx="6842160" cy="17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0560" y="4076640"/>
                    <a:ext cx="684216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2" name=""/>
          <p:cNvSpPr/>
          <p:nvPr/>
        </p:nvSpPr>
        <p:spPr>
          <a:xfrm>
            <a:off x="826920" y="292428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dfdf1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dfdf1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dfdf1"/>
                </a:solidFill>
                <a:latin typeface="Arial"/>
              </a:rPr>
              <a:t>：身高，</a:t>
            </a:r>
            <a:r>
              <a:rPr b="1" i="1" lang="en-US" sz="2800" spc="-1" strike="noStrike">
                <a:solidFill>
                  <a:srgbClr val="fdfdf1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dfdf1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dfdf1"/>
                </a:solidFill>
                <a:latin typeface="Arial"/>
              </a:rPr>
              <a:t>：胸围，</a:t>
            </a:r>
            <a:r>
              <a:rPr b="1" i="1" lang="en-US" sz="2800" spc="-1" strike="noStrike">
                <a:solidFill>
                  <a:srgbClr val="fdfdf1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dfdf1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dfdf1"/>
                </a:solidFill>
                <a:latin typeface="Arial"/>
              </a:rPr>
              <a:t>：腰围，</a:t>
            </a:r>
            <a:r>
              <a:rPr b="1" i="1" lang="en-US" sz="2800" spc="-1" strike="noStrike">
                <a:solidFill>
                  <a:srgbClr val="fdfdf1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dfdf1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dfdf1"/>
                </a:solidFill>
                <a:latin typeface="Arial"/>
              </a:rPr>
              <a:t>：上体长，</a:t>
            </a:r>
            <a:r>
              <a:rPr b="1" i="1" lang="en-US" sz="2800" spc="-1" strike="noStrike">
                <a:solidFill>
                  <a:srgbClr val="fdfdf1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dfdf1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dfdf1"/>
                </a:solidFill>
                <a:latin typeface="Arial"/>
              </a:rPr>
              <a:t>：臀围，已知它们遵从</a:t>
            </a:r>
            <a:r>
              <a:rPr b="1" i="1" lang="en-US" sz="2800" spc="-1" strike="noStrike">
                <a:solidFill>
                  <a:srgbClr val="fdfdf1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dfdf1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dfdf1"/>
                </a:solidFill>
                <a:latin typeface="Arial"/>
              </a:rPr>
              <a:t>（</a:t>
            </a:r>
            <a:r>
              <a:rPr b="1" i="1" lang="en-US" sz="2800" spc="-1" strike="noStrike">
                <a:solidFill>
                  <a:srgbClr val="fdfdf1"/>
                </a:solidFill>
                <a:latin typeface="Arial"/>
              </a:rPr>
              <a:t>μ</a:t>
            </a:r>
            <a:r>
              <a:rPr b="1" lang="zh-CN" sz="2800" spc="-1" strike="noStrike">
                <a:solidFill>
                  <a:srgbClr val="fdfdf1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fdfdf1"/>
                </a:solidFill>
                <a:latin typeface="Arial"/>
              </a:rPr>
              <a:t>Σ</a:t>
            </a:r>
            <a:r>
              <a:rPr b="1" lang="zh-CN" sz="2800" spc="-1" strike="noStrike">
                <a:solidFill>
                  <a:srgbClr val="fdfdf1"/>
                </a:solidFill>
                <a:latin typeface="Arial"/>
              </a:rPr>
              <a:t>），其中 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9CA8-B106-41C1-823C-30C6C3265C47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FD01F-62A4-4079-AA68-0F5E3DE0DDCC}" type="datetime1">
              <a:rPr lang="en-US"/>
              <a:t>07/30/26</a:t>
            </a:fld>
          </a:p>
        </p:txBody>
      </p:sp>
    </p:spTree>
  </p:cSld>
  <p:transition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4" name="Rectangle 3"/>
          <p:cNvGraphicFramePr/>
          <p:nvPr/>
        </p:nvGraphicFramePr>
        <p:xfrm>
          <a:off x="684360" y="1413000"/>
          <a:ext cx="6696000" cy="47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13000"/>
                    <a:ext cx="6696000" cy="47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CA47-1123-4B03-92C2-2FFFCB158A28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90B2A-B6B8-4206-B473-EBF3366EEA29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7" name="Rectangle 3"/>
          <p:cNvGraphicFramePr/>
          <p:nvPr/>
        </p:nvGraphicFramePr>
        <p:xfrm>
          <a:off x="1547640" y="1341360"/>
          <a:ext cx="5113440" cy="48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341360"/>
                    <a:ext cx="511344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293B-2F37-4E23-83BA-1CE8D477AE6C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D525D-A4C4-4397-9E50-890BE4FDF186}" type="datetime1">
              <a:rPr lang="en-US"/>
              <a:t>07/30/26</a:t>
            </a:fld>
          </a:p>
        </p:txBody>
      </p:sp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再利用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3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式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1" name="Rectangle 3"/>
          <p:cNvGraphicFramePr/>
          <p:nvPr/>
        </p:nvGraphicFramePr>
        <p:xfrm>
          <a:off x="971640" y="2133720"/>
          <a:ext cx="4537080" cy="39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133720"/>
                    <a:ext cx="453708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7059-BF76-4A15-BA62-A63A0BB258A1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F5C2C-6C37-42BE-B8F7-90C00AAC688A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4221000"/>
            <a:ext cx="8291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这说明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若已知一个人的上体的长和臀围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则身高、胸围和腰围的条件方差比原来的方差大大缩小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042920" y="1557360"/>
            <a:ext cx="58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fdf1"/>
                </a:solidFill>
                <a:latin typeface="Arial"/>
              </a:rPr>
              <a:t>此时我们可看到 </a:t>
            </a:r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aphicFrame>
        <p:nvGraphicFramePr>
          <p:cNvPr id="946" name="Rectangle 3"/>
          <p:cNvGraphicFramePr/>
          <p:nvPr/>
        </p:nvGraphicFramePr>
        <p:xfrm>
          <a:off x="900000" y="2276640"/>
          <a:ext cx="7272360" cy="189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276640"/>
                    <a:ext cx="7272360" cy="18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B5AE-A83F-49F5-AA83-2062F8C3B6F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458A2-96A8-4109-892E-C58E9ED6070E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684360" y="1628280"/>
            <a:ext cx="7127640" cy="1410480"/>
            <a:chOff x="684360" y="1628280"/>
            <a:chExt cx="7127640" cy="1410480"/>
          </a:xfrm>
        </p:grpSpPr>
        <p:sp>
          <p:nvSpPr>
            <p:cNvPr id="959" name=""/>
            <p:cNvSpPr/>
            <p:nvPr/>
          </p:nvSpPr>
          <p:spPr>
            <a:xfrm>
              <a:off x="684360" y="1628280"/>
              <a:ext cx="712764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933560"/>
                  <a:tab algn="l" pos="2066760"/>
                  <a:tab algn="l" pos="22669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在定理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5.1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中，我们给出了对</a:t>
              </a:r>
              <a:r>
                <a:rPr b="1" i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X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、</a:t>
              </a:r>
              <a:r>
                <a:rPr b="1" i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μ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和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Σ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作形如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(5.25)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式剖分时条件协差阵    的表达式及其与非条件协差阵的关系，令        表示     的元素，则可以定义偏相关系数的概念如下： 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0" name=""/>
                <p:cNvSpPr txBox="1"/>
                <p:nvPr/>
              </p:nvSpPr>
              <p:spPr>
                <a:xfrm>
                  <a:off x="4500720" y="1984320"/>
                  <a:ext cx="64764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1" name=""/>
                <p:cNvSpPr txBox="1"/>
                <p:nvPr/>
              </p:nvSpPr>
              <p:spPr>
                <a:xfrm>
                  <a:off x="3851280" y="2344680"/>
                  <a:ext cx="1152360" cy="4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  <m:r>
                            <m:t xml:space="preserve">q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⋯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2" name=""/>
                <p:cNvSpPr txBox="1"/>
                <p:nvPr/>
              </p:nvSpPr>
              <p:spPr>
                <a:xfrm>
                  <a:off x="5724360" y="2382840"/>
                  <a:ext cx="64800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6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1332000" y="4229280"/>
                <a:ext cx="547344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  <m:r>
                              <m:t xml:space="preserve">,</m:t>
                            </m:r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  <m:r>
                              <m:t xml:space="preserve">,</m:t>
                            </m:r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j</m:t>
                            </m:r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  <m:r>
                              <m:t xml:space="preserve">,</m:t>
                            </m:r>
                            <m:r>
                              <m:t xml:space="preserve">p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5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1258920" y="3470400"/>
            <a:ext cx="6697800" cy="529560"/>
            <a:chOff x="1258920" y="3470400"/>
            <a:chExt cx="6697800" cy="529560"/>
          </a:xfrm>
        </p:grpSpPr>
        <p:sp>
          <p:nvSpPr>
            <p:cNvPr id="969" name=""/>
            <p:cNvSpPr/>
            <p:nvPr/>
          </p:nvSpPr>
          <p:spPr>
            <a:xfrm>
              <a:off x="1258920" y="3470400"/>
              <a:ext cx="66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定义</a:t>
              </a:r>
              <a:r>
                <a:rPr b="1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5.6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：当   给定时，  与   的偏相关系数为：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0" name=""/>
                <p:cNvSpPr txBox="1"/>
                <p:nvPr/>
              </p:nvSpPr>
              <p:spPr>
                <a:xfrm>
                  <a:off x="2987640" y="3504960"/>
                  <a:ext cx="504720" cy="32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1" name=""/>
                <p:cNvSpPr txBox="1"/>
                <p:nvPr/>
              </p:nvSpPr>
              <p:spPr>
                <a:xfrm>
                  <a:off x="4640400" y="3533760"/>
                  <a:ext cx="388800" cy="44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2" name=""/>
                <p:cNvSpPr txBox="1"/>
                <p:nvPr/>
              </p:nvSpPr>
              <p:spPr>
                <a:xfrm>
                  <a:off x="5372280" y="3546360"/>
                  <a:ext cx="436320" cy="45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3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9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97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976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977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978" name="" descr=""/>
          <p:cNvPicPr/>
          <p:nvPr/>
        </p:nvPicPr>
        <p:blipFill>
          <a:blip r:embed="rId6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B0DE-4A68-4DF2-8534-35815A2BCB5C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D1253-28FB-402C-825C-7B5CAD3D62CA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287240" y="35301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979640" y="4039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fdf1"/>
                </a:solidFill>
                <a:latin typeface="Arial"/>
              </a:rPr>
              <a:t>偏相关系数</a:t>
            </a:r>
            <a:r>
              <a:rPr b="0" lang="zh-CN" sz="3200" spc="-1" strike="noStrike">
                <a:solidFill>
                  <a:srgbClr val="fdfdf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68360" y="1268280"/>
            <a:ext cx="8207280" cy="41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dfdf1"/>
                </a:solidFill>
                <a:latin typeface="Times New Roman"/>
                <a:ea typeface="宋体"/>
              </a:rPr>
              <a:t>以</a:t>
            </a:r>
            <a:r>
              <a:rPr b="0" i="1" lang="en-US" sz="2800" spc="-1" strike="noStrike">
                <a:solidFill>
                  <a:srgbClr val="fdfdf1"/>
                </a:solidFill>
                <a:latin typeface="Times New Roman"/>
                <a:ea typeface="宋体"/>
              </a:rPr>
              <a:t>x</a:t>
            </a:r>
            <a:r>
              <a:rPr b="0" lang="en-US" sz="2800" spc="-1" strike="noStrike" baseline="-25000">
                <a:solidFill>
                  <a:srgbClr val="fdfdf1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fdfdf1"/>
                </a:solidFill>
                <a:latin typeface="Times New Roman"/>
                <a:ea typeface="宋体"/>
              </a:rPr>
              <a:t>表示某种商品的销售量，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dfdf1"/>
                </a:solidFill>
                <a:latin typeface="Times New Roman"/>
                <a:ea typeface="宋体"/>
              </a:rPr>
              <a:t>    </a:t>
            </a:r>
            <a:r>
              <a:rPr b="0" i="1" lang="en-US" sz="2800" spc="-1" strike="noStrike">
                <a:solidFill>
                  <a:srgbClr val="fdfdf1"/>
                </a:solidFill>
                <a:latin typeface="Times New Roman"/>
                <a:ea typeface="宋体"/>
              </a:rPr>
              <a:t>x</a:t>
            </a:r>
            <a:r>
              <a:rPr b="0" lang="en-US" sz="2800" spc="-1" strike="noStrike" baseline="-25000">
                <a:solidFill>
                  <a:srgbClr val="fdfdf1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fdfdf1"/>
                </a:solidFill>
                <a:latin typeface="Times New Roman"/>
                <a:ea typeface="宋体"/>
              </a:rPr>
              <a:t>表示消费者人均可支配收入，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dfdf1"/>
                </a:solidFill>
                <a:latin typeface="Times New Roman"/>
                <a:ea typeface="宋体"/>
              </a:rPr>
              <a:t>    </a:t>
            </a:r>
            <a:r>
              <a:rPr b="0" i="1" lang="en-US" sz="2800" spc="-1" strike="noStrike">
                <a:solidFill>
                  <a:srgbClr val="fdfdf1"/>
                </a:solidFill>
                <a:latin typeface="Times New Roman"/>
                <a:ea typeface="宋体"/>
              </a:rPr>
              <a:t>x</a:t>
            </a:r>
            <a:r>
              <a:rPr b="0" lang="en-US" sz="2800" spc="-1" strike="noStrike" baseline="-25000">
                <a:solidFill>
                  <a:srgbClr val="fdfdf1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fdfdf1"/>
                </a:solidFill>
                <a:latin typeface="Times New Roman"/>
                <a:ea typeface="宋体"/>
              </a:rPr>
              <a:t>表示商品价格。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dfdf1"/>
                </a:solidFill>
                <a:latin typeface="Times New Roman"/>
              </a:rPr>
              <a:t>从经验上看，销售量</a:t>
            </a:r>
            <a:r>
              <a:rPr b="0" i="1" lang="en-US" sz="2800" spc="-1" strike="noStrike">
                <a:solidFill>
                  <a:srgbClr val="fdfdf1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dfdf1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dfdf1"/>
                </a:solidFill>
                <a:latin typeface="Times New Roman"/>
              </a:rPr>
              <a:t>与消费者人均可支配收入</a:t>
            </a:r>
            <a:r>
              <a:rPr b="0" i="1" lang="en-US" sz="2800" spc="-1" strike="noStrike">
                <a:solidFill>
                  <a:srgbClr val="fdfdf1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dfdf1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dfdf1"/>
                </a:solidFill>
                <a:latin typeface="Times New Roman"/>
              </a:rPr>
              <a:t>之间应该有正相关，简单相关系数</a:t>
            </a:r>
            <a:r>
              <a:rPr b="0" i="1" lang="en-US" sz="2800" spc="-1" strike="noStrike">
                <a:solidFill>
                  <a:srgbClr val="fdfdf1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dfdf1"/>
                </a:solidFill>
                <a:latin typeface="Times New Roman"/>
              </a:rPr>
              <a:t>12</a:t>
            </a:r>
            <a:r>
              <a:rPr b="0" lang="zh-CN" sz="2800" spc="-1" strike="noStrike">
                <a:solidFill>
                  <a:srgbClr val="fdfdf1"/>
                </a:solidFill>
                <a:latin typeface="Times New Roman"/>
              </a:rPr>
              <a:t>应该是正的。但是如果你计算出的</a:t>
            </a:r>
            <a:r>
              <a:rPr b="0" i="1" lang="en-US" sz="2800" spc="-1" strike="noStrike">
                <a:solidFill>
                  <a:srgbClr val="fdfdf1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dfdf1"/>
                </a:solidFill>
                <a:latin typeface="Times New Roman"/>
              </a:rPr>
              <a:t>12</a:t>
            </a:r>
            <a:r>
              <a:rPr b="0" lang="zh-CN" sz="2800" spc="-1" strike="noStrike">
                <a:solidFill>
                  <a:srgbClr val="fdfdf1"/>
                </a:solidFill>
                <a:latin typeface="Times New Roman"/>
              </a:rPr>
              <a:t>是个负数也不要感到惊讶，这是因为还有其它没有被固定的变量在发挥影响，例如商品价格</a:t>
            </a:r>
            <a:r>
              <a:rPr b="0" i="1" lang="en-US" sz="2800" spc="-1" strike="noStrike">
                <a:solidFill>
                  <a:srgbClr val="fdfdf1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dfdf1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dfdf1"/>
                </a:solidFill>
                <a:latin typeface="Times New Roman"/>
              </a:rPr>
              <a:t>在这期间大幅提高了。反映固定</a:t>
            </a:r>
            <a:r>
              <a:rPr b="0" i="1" lang="en-US" sz="2800" spc="-1" strike="noStrike">
                <a:solidFill>
                  <a:srgbClr val="fdfdf1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dfdf1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dfdf1"/>
                </a:solidFill>
                <a:latin typeface="Times New Roman"/>
              </a:rPr>
              <a:t>后</a:t>
            </a:r>
            <a:r>
              <a:rPr b="0" i="1" lang="en-US" sz="2800" spc="-1" strike="noStrike">
                <a:solidFill>
                  <a:srgbClr val="fdfdf1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dfdf1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dfdf1"/>
                </a:solidFill>
                <a:latin typeface="Times New Roman"/>
              </a:rPr>
              <a:t>与</a:t>
            </a:r>
            <a:r>
              <a:rPr b="0" i="1" lang="en-US" sz="2800" spc="-1" strike="noStrike">
                <a:solidFill>
                  <a:srgbClr val="fdfdf1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dfdf1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dfdf1"/>
                </a:solidFill>
                <a:latin typeface="Times New Roman"/>
              </a:rPr>
              <a:t>相关程度的偏相关系数</a:t>
            </a:r>
            <a:r>
              <a:rPr b="0" i="1" lang="en-US" sz="2800" spc="-1" strike="noStrike">
                <a:solidFill>
                  <a:srgbClr val="fdfdf1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dfdf1"/>
                </a:solidFill>
                <a:latin typeface="Times New Roman"/>
              </a:rPr>
              <a:t>12</a:t>
            </a:r>
            <a:r>
              <a:rPr b="0" lang="zh-CN" sz="2800" spc="-1" strike="noStrike" baseline="-25000">
                <a:solidFill>
                  <a:srgbClr val="fdfdf1"/>
                </a:solidFill>
                <a:latin typeface="Times New Roman"/>
              </a:rPr>
              <a:t>；</a:t>
            </a:r>
            <a:r>
              <a:rPr b="0" lang="en-US" sz="2800" spc="-1" strike="noStrike" baseline="-25000">
                <a:solidFill>
                  <a:srgbClr val="fdfdf1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dfdf1"/>
                </a:solidFill>
                <a:latin typeface="Times New Roman"/>
              </a:rPr>
              <a:t>会是个正数。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FDED-AD26-4B09-A472-0332C0C8D20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EB82A3-2371-4256-B7E8-932CC92A86C7}" type="datetime1">
              <a:rPr lang="en-US"/>
              <a:t>07/30/26</a:t>
            </a:fld>
          </a:p>
        </p:txBody>
      </p:sp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dfd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fdf1"/>
                </a:solidFill>
                <a:latin typeface="Arial"/>
              </a:rPr>
              <a:t>在上面制定服装标准的例子中，给定</a:t>
            </a:r>
            <a:r>
              <a:rPr b="1" lang="en-US" sz="3200" spc="-1" strike="noStrike">
                <a:solidFill>
                  <a:srgbClr val="fdfdf1"/>
                </a:solidFill>
                <a:latin typeface="Arial"/>
              </a:rPr>
              <a:t>X4</a:t>
            </a:r>
            <a:r>
              <a:rPr b="1" lang="zh-CN" sz="3200" spc="-1" strike="noStrike">
                <a:solidFill>
                  <a:srgbClr val="fdfdf1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dfdf1"/>
                </a:solidFill>
                <a:latin typeface="Arial"/>
              </a:rPr>
              <a:t>X5</a:t>
            </a:r>
            <a:r>
              <a:rPr b="1" lang="zh-CN" sz="3200" spc="-1" strike="noStrike">
                <a:solidFill>
                  <a:srgbClr val="fdfdf1"/>
                </a:solidFill>
                <a:latin typeface="Arial"/>
              </a:rPr>
              <a:t>的偏相关系数为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aphicFrame>
        <p:nvGraphicFramePr>
          <p:cNvPr id="987" name=""/>
          <p:cNvGraphicFramePr/>
          <p:nvPr/>
        </p:nvGraphicFramePr>
        <p:xfrm>
          <a:off x="1017720" y="2781360"/>
          <a:ext cx="5236920" cy="10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7720" y="2781360"/>
                    <a:ext cx="523692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aphicFrame>
        <p:nvGraphicFramePr>
          <p:cNvPr id="990" name=""/>
          <p:cNvGraphicFramePr/>
          <p:nvPr/>
        </p:nvGraphicFramePr>
        <p:xfrm>
          <a:off x="1089000" y="3860640"/>
          <a:ext cx="5307120" cy="10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9000" y="3860640"/>
                    <a:ext cx="530712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aphicFrame>
        <p:nvGraphicFramePr>
          <p:cNvPr id="993" name=""/>
          <p:cNvGraphicFramePr/>
          <p:nvPr/>
        </p:nvGraphicFramePr>
        <p:xfrm>
          <a:off x="1182600" y="4941720"/>
          <a:ext cx="5338800" cy="109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2600" y="4941720"/>
                    <a:ext cx="5338800" cy="10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5" name="PlaceHolder 2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1905-C1EE-45C3-AE12-E08A5B735B28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BB34F-1D29-4C00-8D70-2CEBAE9E7EB0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Rectangle 3"/>
              <p:cNvSpPr txBox="1"/>
              <p:nvPr/>
            </p:nvSpPr>
            <p:spPr>
              <a:xfrm>
                <a:off x="1403280" y="2851200"/>
                <a:ext cx="5832720" cy="13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⋮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0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01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01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013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6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101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684360" y="1700280"/>
            <a:ext cx="7129440" cy="490320"/>
            <a:chOff x="684360" y="1700280"/>
            <a:chExt cx="7129440" cy="490320"/>
          </a:xfrm>
        </p:grpSpPr>
        <p:sp>
          <p:nvSpPr>
            <p:cNvPr id="1018" name=""/>
            <p:cNvSpPr/>
            <p:nvPr/>
          </p:nvSpPr>
          <p:spPr>
            <a:xfrm>
              <a:off x="684360" y="1700280"/>
              <a:ext cx="712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定理</a:t>
              </a:r>
              <a:r>
                <a:rPr b="1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5.3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：设          将</a:t>
              </a:r>
              <a:r>
                <a:rPr b="1" i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X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、</a:t>
              </a:r>
              <a:r>
                <a:rPr b="1" i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μ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、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Σ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按同样方式剖分为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9" name=""/>
                <p:cNvSpPr txBox="1"/>
                <p:nvPr/>
              </p:nvSpPr>
              <p:spPr>
                <a:xfrm>
                  <a:off x="3059280" y="1773360"/>
                  <a:ext cx="1584000" cy="41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~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t xml:space="preserve">,</m:t>
                      </m:r>
                      <m:r>
                        <m:t xml:space="preserve">Σ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755640" y="4508640"/>
            <a:ext cx="7777080" cy="1191240"/>
            <a:chOff x="755640" y="4508640"/>
            <a:chExt cx="7777080" cy="1191240"/>
          </a:xfrm>
        </p:grpSpPr>
        <p:sp>
          <p:nvSpPr>
            <p:cNvPr id="1023" name=""/>
            <p:cNvSpPr/>
            <p:nvPr/>
          </p:nvSpPr>
          <p:spPr>
            <a:xfrm>
              <a:off x="755640" y="4508640"/>
              <a:ext cx="770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其中，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4" name=""/>
                <p:cNvSpPr txBox="1"/>
                <p:nvPr/>
              </p:nvSpPr>
              <p:spPr>
                <a:xfrm>
                  <a:off x="2050920" y="4508640"/>
                  <a:ext cx="6481800" cy="54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: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×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sSup>
                        <m:e>
                          <m:r>
                            <m:t xml:space="preserve">μ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: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×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jj</m:t>
                          </m:r>
                        </m:sub>
                      </m:sSub>
                      <m:r>
                        <m:t xml:space="preserve">: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×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j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5" name=""/>
                <p:cNvSpPr txBox="1"/>
                <p:nvPr/>
              </p:nvSpPr>
              <p:spPr>
                <a:xfrm>
                  <a:off x="1258920" y="5084640"/>
                  <a:ext cx="7128000" cy="53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p>
                        <m:e>
                          <m:r>
                            <m:t xml:space="preserve">则X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相互独立当且仅当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对一切</m:t>
                      </m:r>
                      <m:r>
                        <m:t xml:space="preserve">i</m:t>
                      </m:r>
                      <m:r>
                        <m:t xml:space="preserve">≠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6" name=""/>
          <p:cNvSpPr/>
          <p:nvPr/>
        </p:nvSpPr>
        <p:spPr>
          <a:xfrm>
            <a:off x="971640" y="566100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证明参见文献</a:t>
            </a:r>
            <a:r>
              <a:rPr b="1" lang="en-US" sz="2800" spc="-1" strike="noStrike">
                <a:solidFill>
                  <a:srgbClr val="f4fafa"/>
                </a:solidFill>
                <a:latin typeface="Arial"/>
                <a:ea typeface="黑体"/>
              </a:rPr>
              <a:t>[4]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E248-CA6D-4A29-A89B-E2FA7E7C3A59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B35A5-0108-4231-B076-E08307BB5CD7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488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4fafa"/>
                </a:solidFill>
                <a:latin typeface="黑体"/>
                <a:ea typeface="黑体"/>
              </a:rPr>
              <a:t>§5.4  </a:t>
            </a:r>
            <a:r>
              <a:rPr b="1" lang="zh-CN" sz="3600" spc="-1" strike="noStrike">
                <a:solidFill>
                  <a:srgbClr val="f4fafa"/>
                </a:solidFill>
                <a:latin typeface="黑体"/>
                <a:ea typeface="黑体"/>
              </a:rPr>
              <a:t>均值向量和协方差阵的估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898560" y="2060640"/>
            <a:ext cx="727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4fafa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4fafa"/>
                </a:solidFill>
                <a:latin typeface="黑体"/>
                <a:ea typeface="黑体"/>
              </a:rPr>
              <a:t>上节已经给出了多元正态分布的定义和有关的性质</a:t>
            </a:r>
            <a:r>
              <a:rPr b="1" lang="en-US" sz="3200" spc="-1" strike="noStrike">
                <a:solidFill>
                  <a:srgbClr val="f4fafa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4fafa"/>
                </a:solidFill>
                <a:latin typeface="黑体"/>
                <a:ea typeface="黑体"/>
              </a:rPr>
              <a:t>在实际问题中</a:t>
            </a:r>
            <a:r>
              <a:rPr b="1" lang="en-US" sz="3200" spc="-1" strike="noStrike">
                <a:solidFill>
                  <a:srgbClr val="f4fafa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4fafa"/>
                </a:solidFill>
                <a:latin typeface="黑体"/>
                <a:ea typeface="黑体"/>
              </a:rPr>
              <a:t>通常可以假定被研究的对象是多元正态分布</a:t>
            </a:r>
            <a:r>
              <a:rPr b="1" lang="en-US" sz="3200" spc="-1" strike="noStrike">
                <a:solidFill>
                  <a:srgbClr val="f4fafa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4fafa"/>
                </a:solidFill>
                <a:latin typeface="黑体"/>
                <a:ea typeface="黑体"/>
              </a:rPr>
              <a:t>但分布中的参数</a:t>
            </a:r>
            <a:r>
              <a:rPr b="1" i="1" lang="en-US" sz="3200" spc="-1" strike="noStrike">
                <a:solidFill>
                  <a:srgbClr val="f4fafa"/>
                </a:solidFill>
                <a:latin typeface="黑体"/>
                <a:ea typeface="黑体"/>
              </a:rPr>
              <a:t>μ</a:t>
            </a:r>
            <a:r>
              <a:rPr b="1" lang="zh-CN" sz="3200" spc="-1" strike="noStrike">
                <a:solidFill>
                  <a:srgbClr val="f4fafa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f4fafa"/>
                </a:solidFill>
                <a:latin typeface="黑体"/>
                <a:ea typeface="黑体"/>
              </a:rPr>
              <a:t>Σ</a:t>
            </a:r>
            <a:r>
              <a:rPr b="1" lang="zh-CN" sz="3200" spc="-1" strike="noStrike">
                <a:solidFill>
                  <a:srgbClr val="f4fafa"/>
                </a:solidFill>
                <a:latin typeface="黑体"/>
                <a:ea typeface="黑体"/>
              </a:rPr>
              <a:t>是未知的</a:t>
            </a:r>
            <a:r>
              <a:rPr b="1" lang="en-US" sz="3200" spc="-1" strike="noStrike">
                <a:solidFill>
                  <a:srgbClr val="f4fafa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4fafa"/>
                </a:solidFill>
                <a:latin typeface="黑体"/>
                <a:ea typeface="黑体"/>
              </a:rPr>
              <a:t>一般的做法是通过样本来估计。</a:t>
            </a:r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0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03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033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034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AF67-03E6-4D56-BEC0-00EC4923EA26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9FD33-762B-4D41-A5E4-428B50262917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3" dur="2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395280" y="2852640"/>
            <a:ext cx="7848720" cy="505080"/>
            <a:chOff x="395280" y="2852640"/>
            <a:chExt cx="7848720" cy="505080"/>
          </a:xfrm>
        </p:grpSpPr>
        <p:sp>
          <p:nvSpPr>
            <p:cNvPr id="189" name=""/>
            <p:cNvSpPr/>
            <p:nvPr/>
          </p:nvSpPr>
          <p:spPr>
            <a:xfrm>
              <a:off x="395280" y="2852640"/>
              <a:ext cx="78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 </a:t>
              </a: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定义</a:t>
              </a:r>
              <a:r>
                <a:rPr b="1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5.2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设                  是一随机向量，它的多元分布函数是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Rectangle 3"/>
                <p:cNvSpPr txBox="1"/>
                <p:nvPr/>
              </p:nvSpPr>
              <p:spPr>
                <a:xfrm>
                  <a:off x="2770200" y="2892600"/>
                  <a:ext cx="252108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91" name=""/>
          <p:cNvGraphicFramePr/>
          <p:nvPr/>
        </p:nvGraphicFramePr>
        <p:xfrm>
          <a:off x="853920" y="3848040"/>
          <a:ext cx="741852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3848040"/>
                    <a:ext cx="74185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15840" y="3881160"/>
            <a:ext cx="25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4fafa"/>
                </a:solidFill>
                <a:latin typeface="宋体"/>
                <a:ea typeface="Times New Roman"/>
              </a:rPr>
              <a:t> </a:t>
            </a:r>
            <a:r>
              <a:rPr b="0" lang="zh-CN" sz="1100" spc="-1" strike="noStrike">
                <a:solidFill>
                  <a:srgbClr val="f4fafa"/>
                </a:solidFill>
                <a:latin typeface="Arial"/>
                <a:ea typeface="黑体"/>
              </a:rPr>
              <a:t> </a:t>
            </a:r>
            <a:endParaRPr b="0" lang="en-US" sz="11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11280" y="4581360"/>
            <a:ext cx="8353440" cy="533520"/>
            <a:chOff x="611280" y="4581360"/>
            <a:chExt cx="8353440" cy="533520"/>
          </a:xfrm>
        </p:grpSpPr>
        <p:sp>
          <p:nvSpPr>
            <p:cNvPr id="195" name=""/>
            <p:cNvSpPr/>
            <p:nvPr/>
          </p:nvSpPr>
          <p:spPr>
            <a:xfrm>
              <a:off x="611280" y="4581360"/>
              <a:ext cx="835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式中，                          ，并记成      。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196" name="Rectangle 3"/>
            <p:cNvGraphicFramePr/>
            <p:nvPr/>
          </p:nvGraphicFramePr>
          <p:xfrm>
            <a:off x="2351160" y="4619520"/>
            <a:ext cx="2749320" cy="495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7" name="Rectangle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51160" y="4619520"/>
                      <a:ext cx="2749320" cy="4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6877080" y="4627440"/>
                  <a:ext cx="108108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6769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4fafa"/>
                </a:solidFill>
                <a:latin typeface="黑体"/>
                <a:ea typeface="黑体"/>
              </a:rPr>
              <a:t>二、分布函数与密度函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1916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fafa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4fafa"/>
                </a:solidFill>
                <a:latin typeface="Arial"/>
                <a:ea typeface="黑体"/>
              </a:rPr>
              <a:t>描述随机变量的最基本工具是分布函数，类似地描述随机向量的最基本工具还是分布函数。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20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" action="ppaction://hlinkshowjump?jump=endshow"/>
          </p:cNvPr>
          <p:cNvPicPr/>
          <p:nvPr/>
        </p:nvPicPr>
        <p:blipFill>
          <a:blip r:embed="rId10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00000" y="537372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多元分布函数的有关性质此处从略。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CDBC-FC97-4148-BC76-25EAE8AD58A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6045A-456E-4956-A5DC-CCF14FB4DE16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/>
          <p:nvPr/>
        </p:nvSpPr>
        <p:spPr>
          <a:xfrm>
            <a:off x="179280" y="134136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4fafa"/>
                </a:solidFill>
                <a:latin typeface="黑体"/>
                <a:ea typeface="黑体"/>
              </a:rPr>
              <a:t>均值向量的估计</a:t>
            </a:r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611280" y="2349360"/>
            <a:ext cx="60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在一般情况下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如果样本资料阵为：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8" name="Rectangle 3"/>
              <p:cNvSpPr txBox="1"/>
              <p:nvPr/>
            </p:nvSpPr>
            <p:spPr>
              <a:xfrm>
                <a:off x="1116000" y="3130560"/>
                <a:ext cx="5256360" cy="21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   </m:t>
                                </m:r>
                                <m:r>
                                  <m:t xml:space="preserve">⋯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p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   </m:t>
                                </m:r>
                                <m:r>
                                  <m:t xml:space="preserve">⋯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p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⋮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 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⋮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 </m:t>
                                </m:r>
                                <m:r>
                                  <m:t xml:space="preserve">⋮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9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040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04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042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043" name="" descr="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044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686A-2026-4125-8BAE-B8F495396BCC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97E26-E5D1-452B-87A1-C01CE4CA9F1D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6" name="Rectangle 3"/>
          <p:cNvGraphicFramePr/>
          <p:nvPr/>
        </p:nvGraphicFramePr>
        <p:xfrm>
          <a:off x="1425600" y="2565360"/>
          <a:ext cx="5284800" cy="24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5600" y="2565360"/>
                    <a:ext cx="528480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8" name=""/>
          <p:cNvSpPr/>
          <p:nvPr/>
        </p:nvSpPr>
        <p:spPr>
          <a:xfrm>
            <a:off x="539640" y="519912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即均值向量</a:t>
            </a:r>
            <a:r>
              <a:rPr b="1" i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μ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的估计量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就是样本均值向量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这可由极大似然法推导出来。推导过程参见文献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[4]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。 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050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05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052" name="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053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054" name="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105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1058" name=""/>
          <p:cNvGrpSpPr/>
          <p:nvPr/>
        </p:nvGrpSpPr>
        <p:grpSpPr>
          <a:xfrm>
            <a:off x="395280" y="1484280"/>
            <a:ext cx="7632720" cy="849240"/>
            <a:chOff x="395280" y="1484280"/>
            <a:chExt cx="7632720" cy="849240"/>
          </a:xfrm>
        </p:grpSpPr>
        <p:sp>
          <p:nvSpPr>
            <p:cNvPr id="1059" name=""/>
            <p:cNvSpPr/>
            <p:nvPr/>
          </p:nvSpPr>
          <p:spPr>
            <a:xfrm>
              <a:off x="395280" y="1484280"/>
              <a:ext cx="763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设样品            相互独立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同遵从于</a:t>
              </a:r>
              <a:r>
                <a:rPr b="1" i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P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元正态分布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而且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Σ&gt;0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则总体参数均值</a:t>
              </a:r>
              <a:r>
                <a:rPr b="1" i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μ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的估计量是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0" name=""/>
                <p:cNvSpPr txBox="1"/>
                <p:nvPr/>
              </p:nvSpPr>
              <p:spPr>
                <a:xfrm>
                  <a:off x="2025720" y="1557360"/>
                  <a:ext cx="1800000" cy="40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⋯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1" name=""/>
                <p:cNvSpPr txBox="1"/>
                <p:nvPr/>
              </p:nvSpPr>
              <p:spPr>
                <a:xfrm>
                  <a:off x="773280" y="1954080"/>
                  <a:ext cx="93492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t xml:space="preserve">,</m:t>
                      </m:r>
                      <m:r>
                        <m:t xml:space="preserve">Σ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2" name=""/>
                <p:cNvSpPr txBox="1"/>
                <p:nvPr/>
              </p:nvSpPr>
              <p:spPr>
                <a:xfrm>
                  <a:off x="2666880" y="1976400"/>
                  <a:ext cx="86364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&gt;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FE75-7FBC-479D-B480-CDE36B947185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D9C87-631F-447A-B54E-474FE21FD945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250920" y="119700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4fafa"/>
                </a:solidFill>
                <a:latin typeface="黑体"/>
                <a:ea typeface="黑体"/>
              </a:rPr>
              <a:t>协方差阵的估计</a:t>
            </a:r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1042920" y="177336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fafa"/>
                </a:solidFill>
                <a:latin typeface="Arial"/>
                <a:ea typeface="黑体"/>
              </a:rPr>
              <a:t>总体参数协差阵</a:t>
            </a:r>
            <a:r>
              <a:rPr b="1" lang="en-US" sz="2400" spc="-1" strike="noStrike">
                <a:solidFill>
                  <a:srgbClr val="f4fafa"/>
                </a:solidFill>
                <a:latin typeface="Arial"/>
                <a:ea typeface="黑体"/>
              </a:rPr>
              <a:t>Σ</a:t>
            </a:r>
            <a:r>
              <a:rPr b="1" lang="zh-CN" sz="2400" spc="-1" strike="noStrike">
                <a:solidFill>
                  <a:srgbClr val="f4fafa"/>
                </a:solidFill>
                <a:latin typeface="Arial"/>
                <a:ea typeface="黑体"/>
              </a:rPr>
              <a:t>的极大似然估计是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068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06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070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071" name="" descr="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072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107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1403280" y="2309760"/>
                <a:ext cx="41054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Σ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−</m:t>
                        </m:r>
                        <m:limUpp>
                          <m:e>
                            <m:r>
                              <m:t xml:space="preserve">X</m:t>
                            </m:r>
                          </m:e>
                          <m:lim>
                            <m:r>
                              <m:t xml:space="preserve">−</m:t>
                            </m:r>
                          </m:lim>
                        </m:limUpp>
                        <m:r>
                          <m:t xml:space="preserve">)</m:t>
                        </m:r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−</m:t>
                    </m:r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7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1908000" y="3255840"/>
                <a:ext cx="6409080" cy="254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limUpp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  <m:lim>
                                    <m:r>
                                      <m:t xml:space="preserve">−</m:t>
                                    </m:r>
                                  </m:lim>
                                </m:limUp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⋯</m:t>
                            </m:r>
                            <m:r>
                              <m:t xml:space="preserve"> 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limUp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lim>
                                        <m:r>
                                          <m:t xml:space="preserve">−</m:t>
                                        </m:r>
                                      </m:lim>
                                    </m:limUpp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p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limUp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lim>
                                        <m:r>
                                          <m:t xml:space="preserve">−</m:t>
                                        </m:r>
                                      </m:lim>
                                    </m:limUpp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limUp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lim>
                                        <m:r>
                                          <m:t xml:space="preserve">−</m:t>
                                        </m:r>
                                      </m:lim>
                                    </m:limUpp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⋯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limUpp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e>
                                      <m:lim>
                                        <m:r>
                                          <m:t xml:space="preserve">−</m:t>
                                        </m:r>
                                      </m:lim>
                                    </m:limUpp>
                                    <m:r>
                                      <m:t xml:space="preserve">)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p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limUp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lim>
                                            <m:r>
                                              <m:t xml:space="preserve">−</m:t>
                                            </m:r>
                                          </m:lim>
                                        </m:limUpp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 </m:t>
                                </m:r>
                              </m:e>
                            </m:nary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⋮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99B0-98D7-4030-9AD0-78A71479AE3A}" type="slidenum">
              <a:t>5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0AC84-29F2-4229-B9B0-A824AB42B9F1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079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081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082" name="" descr="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083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1084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539640" y="1773360"/>
            <a:ext cx="7993080" cy="2448720"/>
            <a:chOff x="539640" y="1773360"/>
            <a:chExt cx="7993080" cy="2448720"/>
          </a:xfrm>
        </p:grpSpPr>
        <p:sp>
          <p:nvSpPr>
            <p:cNvPr id="1086" name=""/>
            <p:cNvSpPr/>
            <p:nvPr/>
          </p:nvSpPr>
          <p:spPr>
            <a:xfrm>
              <a:off x="900000" y="1844640"/>
              <a:ext cx="6912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39640" y="1773360"/>
              <a:ext cx="7993080" cy="24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</a:t>
              </a: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其中</a:t>
              </a:r>
              <a:r>
                <a:rPr b="1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L</a:t>
              </a: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是离差阵，它是每一个样品（向量）与样本均值（向量）的离差积形成的</a:t>
              </a:r>
              <a:r>
                <a:rPr b="1" i="1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n</a:t>
              </a: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个</a:t>
              </a:r>
              <a:r>
                <a:rPr b="1" i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</a:t>
              </a: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阶对称阵的和。同一元相似， 不是</a:t>
              </a:r>
              <a:r>
                <a:rPr b="1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Σ</a:t>
              </a:r>
              <a:r>
                <a:rPr b="1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的无偏估计，为了得到无偏估计我们常用样本协差阵                       作为总体协差阵的估计。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书上</a:t>
              </a:r>
              <a:r>
                <a:rPr b="1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87</a:t>
              </a:r>
              <a:r>
                <a:rPr b="1" lang="zh-CN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页例题</a:t>
              </a:r>
              <a:r>
                <a:rPr b="1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5.3 </a:t>
              </a:r>
              <a:r>
                <a:rPr b="1" lang="zh-CN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是</a:t>
              </a:r>
              <a:r>
                <a:rPr b="0" lang="en-US" sz="2800" spc="-1" strike="noStrike">
                  <a:solidFill>
                    <a:srgbClr val="ffff00"/>
                  </a:solidFill>
                  <a:latin typeface="Arial"/>
                  <a:ea typeface="黑体"/>
                </a:rPr>
                <a:t>2008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黑体"/>
                </a:rPr>
                <a:t>年各地区城镇居民家庭平均每人全年消费性支出的</a:t>
              </a:r>
              <a:r>
                <a:rPr b="1" lang="zh-CN" sz="2800" spc="-1" strike="noStrike">
                  <a:solidFill>
                    <a:srgbClr val="ffff00"/>
                  </a:solidFill>
                  <a:latin typeface="Arial"/>
                  <a:ea typeface="黑体"/>
                </a:rPr>
                <a:t>均值向量和协方差阵的估计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  <a:ea typeface="黑体"/>
                </a:rPr>
                <a:t>(SPSS)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1088" name=""/>
            <p:cNvGraphicFramePr/>
            <p:nvPr/>
          </p:nvGraphicFramePr>
          <p:xfrm>
            <a:off x="4356000" y="2924280"/>
            <a:ext cx="515880" cy="627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8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356000" y="2924280"/>
                      <a:ext cx="515880" cy="62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0" name=""/>
            <p:cNvGraphicFramePr/>
            <p:nvPr/>
          </p:nvGraphicFramePr>
          <p:xfrm>
            <a:off x="6372360" y="3357720"/>
            <a:ext cx="1728720" cy="75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9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72360" y="3357720"/>
                      <a:ext cx="1728720" cy="75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092" name=""/>
                <p:cNvSpPr txBox="1"/>
                <p:nvPr/>
              </p:nvSpPr>
              <p:spPr>
                <a:xfrm>
                  <a:off x="6443640" y="2492280"/>
                  <a:ext cx="100800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×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F6C3-FB1E-48E4-8BC0-0767A14903D3}" type="slidenum">
              <a:t>5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B8B6A-2894-4282-9CE1-A9474A38C506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4fafa"/>
                </a:solidFill>
                <a:latin typeface="黑体"/>
                <a:ea typeface="黑体"/>
              </a:rPr>
              <a:t>§5.5</a:t>
            </a:r>
            <a:r>
              <a:rPr b="1" lang="zh-CN" sz="3800" spc="-1" strike="noStrike">
                <a:solidFill>
                  <a:srgbClr val="f4fafa"/>
                </a:solidFill>
                <a:latin typeface="黑体"/>
                <a:ea typeface="黑体"/>
              </a:rPr>
              <a:t>常用分布及抽样分布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684360" y="1341360"/>
            <a:ext cx="7127640" cy="2406600"/>
            <a:chOff x="684360" y="1341360"/>
            <a:chExt cx="7127640" cy="2406600"/>
          </a:xfrm>
        </p:grpSpPr>
        <p:sp>
          <p:nvSpPr>
            <p:cNvPr id="1097" name=""/>
            <p:cNvSpPr/>
            <p:nvPr/>
          </p:nvSpPr>
          <p:spPr>
            <a:xfrm>
              <a:off x="684360" y="1341360"/>
              <a:ext cx="7127640" cy="17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   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多元统计研究的是多指标问题</a:t>
              </a:r>
              <a:r>
                <a:rPr b="1" lang="en-US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为了了解总体的特征</a:t>
              </a:r>
              <a:r>
                <a:rPr b="1" lang="en-US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通过对总体抽样得到代表总体的样本</a:t>
              </a:r>
              <a:r>
                <a:rPr b="1" lang="en-US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但因为信息是分散在每个样本上的</a:t>
              </a:r>
              <a:r>
                <a:rPr b="1" lang="en-US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就需要对样本进行加工</a:t>
              </a:r>
              <a:r>
                <a:rPr b="1" lang="en-US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把样本的信息浓缩到不包含未知量的样本函数中</a:t>
              </a:r>
              <a:r>
                <a:rPr b="1" lang="en-US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这个函数称为统计量</a:t>
              </a:r>
              <a:r>
                <a:rPr b="1" lang="en-US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如前面介绍的样本均值向量   、样本离差阵   等都是统计量</a:t>
              </a:r>
              <a:r>
                <a:rPr b="1" lang="en-US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.</a:t>
              </a:r>
              <a:r>
                <a:rPr b="1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统计量的分布称为抽样分布</a:t>
              </a:r>
              <a:r>
                <a:rPr b="1" lang="en-US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.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1098" name=""/>
            <p:cNvGraphicFramePr/>
            <p:nvPr/>
          </p:nvGraphicFramePr>
          <p:xfrm>
            <a:off x="6659640" y="2997360"/>
            <a:ext cx="320760" cy="360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59640" y="2997360"/>
                      <a:ext cx="32076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0" name=""/>
            <p:cNvGraphicFramePr/>
            <p:nvPr/>
          </p:nvGraphicFramePr>
          <p:xfrm>
            <a:off x="1992240" y="3441600"/>
            <a:ext cx="252360" cy="306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92240" y="3441600"/>
                      <a:ext cx="252360" cy="30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02" name=""/>
          <p:cNvGrpSpPr/>
          <p:nvPr/>
        </p:nvGrpSpPr>
        <p:grpSpPr>
          <a:xfrm>
            <a:off x="755640" y="4292640"/>
            <a:ext cx="7345440" cy="1173240"/>
            <a:chOff x="755640" y="4292640"/>
            <a:chExt cx="7345440" cy="1173240"/>
          </a:xfrm>
        </p:grpSpPr>
        <p:sp>
          <p:nvSpPr>
            <p:cNvPr id="1103" name=""/>
            <p:cNvSpPr/>
            <p:nvPr/>
          </p:nvSpPr>
          <p:spPr>
            <a:xfrm>
              <a:off x="755640" y="4292640"/>
              <a:ext cx="7345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在数理统计中常用的抽样分布有  分布、  分布和  分布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.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在多元统计中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与之对应的分布分别为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Wishart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分布、 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分布和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Wilks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分布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1104" name=""/>
            <p:cNvGraphicFramePr/>
            <p:nvPr/>
          </p:nvGraphicFramePr>
          <p:xfrm>
            <a:off x="5724720" y="4330800"/>
            <a:ext cx="317520" cy="371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0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24720" y="4330800"/>
                      <a:ext cx="317520" cy="37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6" name=""/>
            <p:cNvGraphicFramePr/>
            <p:nvPr/>
          </p:nvGraphicFramePr>
          <p:xfrm>
            <a:off x="7045560" y="4389480"/>
            <a:ext cx="339480" cy="360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0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45560" y="4389480"/>
                      <a:ext cx="3394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8" name=""/>
            <p:cNvGraphicFramePr/>
            <p:nvPr/>
          </p:nvGraphicFramePr>
          <p:xfrm>
            <a:off x="1187640" y="4795920"/>
            <a:ext cx="288720" cy="288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0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187640" y="4795920"/>
                      <a:ext cx="288720" cy="28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0" name=""/>
            <p:cNvGraphicFramePr/>
            <p:nvPr/>
          </p:nvGraphicFramePr>
          <p:xfrm>
            <a:off x="2849760" y="5078520"/>
            <a:ext cx="387360" cy="387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1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49760" y="5078520"/>
                      <a:ext cx="3873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12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113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114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115" name="" descr="">
            <a:hlinkClick r:id="" action="ppaction://hlinkshowjump?jump=previousslide"/>
          </p:cNvPr>
          <p:cNvPicPr/>
          <p:nvPr/>
        </p:nvPicPr>
        <p:blipFill>
          <a:blip r:embed="rId17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116" name="" descr="">
            <a:hlinkClick r:id="" action="ppaction://hlinkshowjump?jump=endshow"/>
          </p:cNvPr>
          <p:cNvPicPr/>
          <p:nvPr/>
        </p:nvPicPr>
        <p:blipFill>
          <a:blip r:embed="rId18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117" name="" descr="">
            <a:hlinkClick r:id="" action="ppaction://hlinkshowjump?jump=nextslide"/>
          </p:cNvPr>
          <p:cNvPicPr/>
          <p:nvPr/>
        </p:nvPicPr>
        <p:blipFill>
          <a:blip r:embed="rId19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E904-1A84-412F-9D11-2E876861A945}" type="slidenum">
              <a:t>5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9A3D1-56A1-4E22-9063-2ADD16730615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3" dur="2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8" dur="2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4fafa"/>
                </a:solidFill>
                <a:latin typeface="黑体"/>
                <a:ea typeface="黑体"/>
              </a:rPr>
              <a:t>§5.5</a:t>
            </a:r>
            <a:r>
              <a:rPr b="1" lang="zh-CN" sz="3800" spc="-1" strike="noStrike">
                <a:solidFill>
                  <a:srgbClr val="f4fafa"/>
                </a:solidFill>
                <a:latin typeface="黑体"/>
                <a:ea typeface="黑体"/>
              </a:rPr>
              <a:t>常用分布及抽样分布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1428840" y="2989440"/>
            <a:ext cx="4511520" cy="614160"/>
            <a:chOff x="1428840" y="2989440"/>
            <a:chExt cx="4511520" cy="614160"/>
          </a:xfrm>
        </p:grpSpPr>
        <p:sp>
          <p:nvSpPr>
            <p:cNvPr id="1120" name="">
              <a:hlinkClick r:id="rId1" action="ppaction://hlinksldjump"/>
            </p:cNvPr>
            <p:cNvSpPr/>
            <p:nvPr/>
          </p:nvSpPr>
          <p:spPr>
            <a:xfrm>
              <a:off x="1428840" y="2989440"/>
              <a:ext cx="451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4fafa"/>
                  </a:solidFill>
                  <a:latin typeface="Arial"/>
                  <a:ea typeface="黑体"/>
                </a:rPr>
                <a:t>二、     分布与     分布</a:t>
              </a:r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1121" name=""/>
            <p:cNvGraphicFramePr/>
            <p:nvPr/>
          </p:nvGraphicFramePr>
          <p:xfrm>
            <a:off x="2690640" y="3029040"/>
            <a:ext cx="311760" cy="57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2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690640" y="3029040"/>
                      <a:ext cx="31176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3" name=""/>
            <p:cNvGraphicFramePr/>
            <p:nvPr/>
          </p:nvGraphicFramePr>
          <p:xfrm>
            <a:off x="4323240" y="3052800"/>
            <a:ext cx="415800" cy="432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2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323240" y="3052800"/>
                      <a:ext cx="41580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25" name=""/>
          <p:cNvGrpSpPr/>
          <p:nvPr/>
        </p:nvGrpSpPr>
        <p:grpSpPr>
          <a:xfrm>
            <a:off x="1433520" y="2128680"/>
            <a:ext cx="6408720" cy="581400"/>
            <a:chOff x="1433520" y="2128680"/>
            <a:chExt cx="6408720" cy="581400"/>
          </a:xfrm>
        </p:grpSpPr>
        <p:sp>
          <p:nvSpPr>
            <p:cNvPr id="1126" name="">
              <a:hlinkClick r:id="rId6" action="ppaction://hlinksldjump"/>
            </p:cNvPr>
            <p:cNvSpPr/>
            <p:nvPr/>
          </p:nvSpPr>
          <p:spPr>
            <a:xfrm>
              <a:off x="1433520" y="2128680"/>
              <a:ext cx="640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4fafa"/>
                  </a:solidFill>
                  <a:latin typeface="Arial"/>
                  <a:ea typeface="黑体"/>
                </a:rPr>
                <a:t>一、      分布与</a:t>
              </a:r>
              <a:r>
                <a:rPr b="1" lang="en-US" sz="3200" spc="-1" strike="noStrike">
                  <a:solidFill>
                    <a:srgbClr val="f4fafa"/>
                  </a:solidFill>
                  <a:latin typeface="Arial"/>
                  <a:ea typeface="黑体"/>
                </a:rPr>
                <a:t>Wishart</a:t>
              </a:r>
              <a:r>
                <a:rPr b="1" lang="zh-CN" sz="3200" spc="-1" strike="noStrike">
                  <a:solidFill>
                    <a:srgbClr val="f4fafa"/>
                  </a:solidFill>
                  <a:latin typeface="Arial"/>
                  <a:ea typeface="黑体"/>
                </a:rPr>
                <a:t>分布</a:t>
              </a:r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1127" name=""/>
            <p:cNvGraphicFramePr/>
            <p:nvPr/>
          </p:nvGraphicFramePr>
          <p:xfrm>
            <a:off x="2724120" y="2166840"/>
            <a:ext cx="449280" cy="51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2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724120" y="2166840"/>
                      <a:ext cx="449280" cy="5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29" name=""/>
          <p:cNvGrpSpPr/>
          <p:nvPr/>
        </p:nvGrpSpPr>
        <p:grpSpPr>
          <a:xfrm>
            <a:off x="1403280" y="3857760"/>
            <a:ext cx="6481800" cy="581400"/>
            <a:chOff x="1403280" y="3857760"/>
            <a:chExt cx="6481800" cy="581400"/>
          </a:xfrm>
        </p:grpSpPr>
        <p:sp>
          <p:nvSpPr>
            <p:cNvPr id="1130" name="">
              <a:hlinkClick r:id="rId9" action="ppaction://hlinksldjump"/>
            </p:cNvPr>
            <p:cNvSpPr/>
            <p:nvPr/>
          </p:nvSpPr>
          <p:spPr>
            <a:xfrm>
              <a:off x="1403280" y="3857760"/>
              <a:ext cx="648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4fafa"/>
                  </a:solidFill>
                  <a:latin typeface="Arial"/>
                  <a:ea typeface="黑体"/>
                </a:rPr>
                <a:t>三、       中心分布与</a:t>
              </a:r>
              <a:r>
                <a:rPr b="1" lang="en-US" sz="3200" spc="-1" strike="noStrike">
                  <a:solidFill>
                    <a:srgbClr val="f4fafa"/>
                  </a:solidFill>
                  <a:latin typeface="Arial"/>
                  <a:ea typeface="黑体"/>
                </a:rPr>
                <a:t>Wilks</a:t>
              </a:r>
              <a:r>
                <a:rPr b="1" lang="zh-CN" sz="3200" spc="-1" strike="noStrike">
                  <a:solidFill>
                    <a:srgbClr val="f4fafa"/>
                  </a:solidFill>
                  <a:latin typeface="Arial"/>
                  <a:ea typeface="黑体"/>
                </a:rPr>
                <a:t>分布</a:t>
              </a:r>
              <a:endParaRPr b="0" lang="en-US" sz="32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1131" name=""/>
            <p:cNvGraphicFramePr/>
            <p:nvPr/>
          </p:nvGraphicFramePr>
          <p:xfrm>
            <a:off x="2733840" y="3943440"/>
            <a:ext cx="431640" cy="4316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13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733840" y="3943440"/>
                      <a:ext cx="43164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33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134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135" name="" descr="">
            <a:hlinkClick r:id="" action="ppaction://hlinkshowjump?jump=previousslide"/>
          </p:cNvPr>
          <p:cNvPicPr/>
          <p:nvPr/>
        </p:nvPicPr>
        <p:blipFill>
          <a:blip r:embed="rId14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>
            <a:hlinkClick r:id="" action="ppaction://hlinkshowjump?jump=endshow"/>
          </p:cNvPr>
          <p:cNvPicPr/>
          <p:nvPr/>
        </p:nvPicPr>
        <p:blipFill>
          <a:blip r:embed="rId15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137" name="" descr="">
            <a:hlinkClick r:id="" action="ppaction://hlinkshowjump?jump=nextslide"/>
          </p:cNvPr>
          <p:cNvPicPr/>
          <p:nvPr/>
        </p:nvPicPr>
        <p:blipFill>
          <a:blip r:embed="rId16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138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728-E721-484E-8FAC-F034B6F4050C}" type="slidenum">
              <a:t>5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98C57-2296-4B9D-A147-C574CE5CD943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9" name=""/>
          <p:cNvGrpSpPr/>
          <p:nvPr/>
        </p:nvGrpSpPr>
        <p:grpSpPr>
          <a:xfrm>
            <a:off x="971640" y="3356640"/>
            <a:ext cx="3445200" cy="459720"/>
            <a:chOff x="971640" y="3356640"/>
            <a:chExt cx="3445200" cy="459720"/>
          </a:xfrm>
        </p:grpSpPr>
        <p:graphicFrame>
          <p:nvGraphicFramePr>
            <p:cNvPr id="1140" name=""/>
            <p:cNvGraphicFramePr/>
            <p:nvPr/>
          </p:nvGraphicFramePr>
          <p:xfrm>
            <a:off x="971640" y="3357720"/>
            <a:ext cx="792000" cy="443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640" y="3357720"/>
                      <a:ext cx="792000" cy="44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2" name=""/>
            <p:cNvSpPr/>
            <p:nvPr/>
          </p:nvSpPr>
          <p:spPr>
            <a:xfrm>
              <a:off x="2247480" y="3356640"/>
              <a:ext cx="216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分布有两个重要的性质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: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</p:grpSp>
      <p:sp>
        <p:nvSpPr>
          <p:cNvPr id="114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395280" y="1628640"/>
            <a:ext cx="8280360" cy="1516320"/>
            <a:chOff x="395280" y="1628640"/>
            <a:chExt cx="8280360" cy="1516320"/>
          </a:xfrm>
        </p:grpSpPr>
        <p:sp>
          <p:nvSpPr>
            <p:cNvPr id="1152" name=""/>
            <p:cNvSpPr/>
            <p:nvPr/>
          </p:nvSpPr>
          <p:spPr>
            <a:xfrm>
              <a:off x="395280" y="1628640"/>
              <a:ext cx="828036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在数理统计中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若          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(          )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且相互独立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则    所服从的分布为自由度为  的   分布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(chi squared distribution)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记为      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. 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1153" name=""/>
            <p:cNvGraphicFramePr/>
            <p:nvPr/>
          </p:nvGraphicFramePr>
          <p:xfrm>
            <a:off x="5076720" y="1773360"/>
            <a:ext cx="1541520" cy="409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76720" y="1773360"/>
                      <a:ext cx="1541520" cy="40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5" name=""/>
            <p:cNvGraphicFramePr/>
            <p:nvPr/>
          </p:nvGraphicFramePr>
          <p:xfrm>
            <a:off x="826920" y="2166840"/>
            <a:ext cx="560520" cy="573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6920" y="2166840"/>
                      <a:ext cx="560520" cy="57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7" name=""/>
            <p:cNvGraphicFramePr/>
            <p:nvPr/>
          </p:nvGraphicFramePr>
          <p:xfrm>
            <a:off x="4716360" y="2301840"/>
            <a:ext cx="311400" cy="358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5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16360" y="2301840"/>
                      <a:ext cx="31140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9" name=""/>
            <p:cNvGraphicFramePr/>
            <p:nvPr/>
          </p:nvGraphicFramePr>
          <p:xfrm>
            <a:off x="5432400" y="2190600"/>
            <a:ext cx="388800" cy="444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6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32400" y="2190600"/>
                      <a:ext cx="38880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1" name=""/>
            <p:cNvGraphicFramePr/>
            <p:nvPr/>
          </p:nvGraphicFramePr>
          <p:xfrm>
            <a:off x="3220920" y="2701800"/>
            <a:ext cx="792360" cy="443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6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20920" y="2701800"/>
                      <a:ext cx="792360" cy="44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63" name=""/>
            <p:cNvGrpSpPr/>
            <p:nvPr/>
          </p:nvGrpSpPr>
          <p:grpSpPr>
            <a:xfrm>
              <a:off x="3492360" y="1760400"/>
              <a:ext cx="1440000" cy="443160"/>
              <a:chOff x="3492360" y="1760400"/>
              <a:chExt cx="1440000" cy="443160"/>
            </a:xfrm>
          </p:grpSpPr>
          <p:graphicFrame>
            <p:nvGraphicFramePr>
              <p:cNvPr id="1164" name=""/>
              <p:cNvGraphicFramePr/>
              <p:nvPr/>
            </p:nvGraphicFramePr>
            <p:xfrm>
              <a:off x="3492360" y="1776240"/>
              <a:ext cx="1440000" cy="4273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16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492360" y="1776240"/>
                        <a:ext cx="1440000" cy="42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166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886200" y="1760400"/>
                <a:ext cx="219240" cy="362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67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168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>
            <a:hlinkClick r:id="" action="ppaction://hlinkshowjump?jump=previousslide"/>
          </p:cNvPr>
          <p:cNvPicPr/>
          <p:nvPr/>
        </p:nvPicPr>
        <p:blipFill>
          <a:blip r:embed="rId18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170" name="" descr="">
            <a:hlinkClick r:id="" action="ppaction://hlinkshowjump?jump=endshow"/>
          </p:cNvPr>
          <p:cNvPicPr/>
          <p:nvPr/>
        </p:nvPicPr>
        <p:blipFill>
          <a:blip r:embed="rId19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171" name="" descr="">
            <a:hlinkClick r:id="" action="ppaction://hlinkshowjump?jump=nextslide"/>
          </p:cNvPr>
          <p:cNvPicPr/>
          <p:nvPr/>
        </p:nvPicPr>
        <p:blipFill>
          <a:blip r:embed="rId20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172" name="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grpSp>
        <p:nvGrpSpPr>
          <p:cNvPr id="1173" name=""/>
          <p:cNvGrpSpPr/>
          <p:nvPr/>
        </p:nvGrpSpPr>
        <p:grpSpPr>
          <a:xfrm>
            <a:off x="1846080" y="4004280"/>
            <a:ext cx="3771360" cy="2067840"/>
            <a:chOff x="1846080" y="4004280"/>
            <a:chExt cx="3771360" cy="2067840"/>
          </a:xfrm>
        </p:grpSpPr>
        <p:grpSp>
          <p:nvGrpSpPr>
            <p:cNvPr id="1174" name=""/>
            <p:cNvGrpSpPr/>
            <p:nvPr/>
          </p:nvGrpSpPr>
          <p:grpSpPr>
            <a:xfrm>
              <a:off x="1846080" y="4004280"/>
              <a:ext cx="3771360" cy="2067840"/>
              <a:chOff x="1846080" y="4004280"/>
              <a:chExt cx="3771360" cy="2067840"/>
            </a:xfrm>
          </p:grpSpPr>
          <p:sp>
            <p:nvSpPr>
              <p:cNvPr id="1175" name=""/>
              <p:cNvSpPr/>
              <p:nvPr/>
            </p:nvSpPr>
            <p:spPr>
              <a:xfrm>
                <a:off x="2138760" y="4004280"/>
                <a:ext cx="347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1</a:t>
                </a:r>
                <a:r>
                  <a:rPr b="1" lang="zh-CN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、若        </a:t>
                </a:r>
                <a:r>
                  <a:rPr b="1" lang="en-US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,         </a:t>
                </a:r>
                <a:r>
                  <a:rPr b="1" lang="zh-CN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且相互独立</a:t>
                </a:r>
                <a:r>
                  <a:rPr b="1" lang="en-US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,</a:t>
                </a:r>
                <a:r>
                  <a:rPr b="1" lang="zh-CN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则</a:t>
                </a:r>
                <a:endParaRPr b="0" lang="en-US" sz="2400" spc="-1" strike="noStrike">
                  <a:solidFill>
                    <a:srgbClr val="f4fafa"/>
                  </a:solidFill>
                  <a:latin typeface="Arial"/>
                </a:endParaRPr>
              </a:p>
            </p:txBody>
          </p:sp>
          <p:graphicFrame>
            <p:nvGraphicFramePr>
              <p:cNvPr id="1176" name=""/>
              <p:cNvGraphicFramePr/>
              <p:nvPr/>
            </p:nvGraphicFramePr>
            <p:xfrm>
              <a:off x="3262320" y="4067280"/>
              <a:ext cx="1447560" cy="37944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1177" name="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3262320" y="4067280"/>
                        <a:ext cx="1447560" cy="37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78" name=""/>
              <p:cNvGraphicFramePr/>
              <p:nvPr/>
            </p:nvGraphicFramePr>
            <p:xfrm>
              <a:off x="1846080" y="4637160"/>
              <a:ext cx="2233800" cy="84456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1179" name="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1846080" y="4637160"/>
                        <a:ext cx="2233800" cy="844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80" name=""/>
              <p:cNvSpPr/>
              <p:nvPr/>
            </p:nvSpPr>
            <p:spPr>
              <a:xfrm>
                <a:off x="1886040" y="5588640"/>
                <a:ext cx="261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4fafa"/>
                    </a:solidFill>
                    <a:latin typeface="宋体"/>
                    <a:ea typeface="黑体"/>
                  </a:rPr>
                  <a:t>称为相互独立   的</a:t>
                </a:r>
                <a:r>
                  <a:rPr b="0" lang="zh-CN" sz="2400" spc="-1" strike="noStrike">
                    <a:solidFill>
                      <a:srgbClr val="f4fafa"/>
                    </a:solidFill>
                    <a:latin typeface="Arial"/>
                    <a:ea typeface="黑体"/>
                  </a:rPr>
                  <a:t>具有可加性</a:t>
                </a:r>
                <a:endParaRPr b="0" lang="en-US" sz="2400" spc="-1" strike="noStrike">
                  <a:solidFill>
                    <a:srgbClr val="f4fafa"/>
                  </a:solidFill>
                  <a:latin typeface="Arial"/>
                </a:endParaRPr>
              </a:p>
            </p:txBody>
          </p:sp>
          <p:graphicFrame>
            <p:nvGraphicFramePr>
              <p:cNvPr id="1181" name=""/>
              <p:cNvGraphicFramePr/>
              <p:nvPr/>
            </p:nvGraphicFramePr>
            <p:xfrm>
              <a:off x="2990880" y="5556240"/>
              <a:ext cx="450720" cy="51588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1182" name="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2990880" y="5556240"/>
                        <a:ext cx="450720" cy="515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183" name=""/>
            <p:cNvGraphicFramePr/>
            <p:nvPr/>
          </p:nvGraphicFramePr>
          <p:xfrm>
            <a:off x="1873080" y="4041720"/>
            <a:ext cx="1295640" cy="4050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184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1873080" y="4041720"/>
                      <a:ext cx="1295640" cy="40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85" name="" descr=""/>
            <p:cNvPicPr/>
            <p:nvPr/>
          </p:nvPicPr>
          <p:blipFill>
            <a:blip r:embed="rId31"/>
            <a:stretch/>
          </p:blipFill>
          <p:spPr>
            <a:xfrm>
              <a:off x="2195280" y="4040280"/>
              <a:ext cx="21924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6" name="" descr=""/>
            <p:cNvPicPr/>
            <p:nvPr/>
          </p:nvPicPr>
          <p:blipFill>
            <a:blip r:embed="rId32"/>
            <a:stretch/>
          </p:blipFill>
          <p:spPr>
            <a:xfrm>
              <a:off x="2627280" y="4832280"/>
              <a:ext cx="218880" cy="36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7" name=""/>
          <p:cNvSpPr/>
          <p:nvPr/>
        </p:nvSpPr>
        <p:spPr>
          <a:xfrm>
            <a:off x="2758320" y="692280"/>
            <a:ext cx="34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一、      分布与</a:t>
            </a:r>
            <a:r>
              <a:rPr b="1" lang="en-US" sz="2800" spc="-1" strike="noStrike">
                <a:solidFill>
                  <a:srgbClr val="f4fafa"/>
                </a:solidFill>
                <a:latin typeface="Arial"/>
                <a:ea typeface="黑体"/>
              </a:rPr>
              <a:t>Wishart</a:t>
            </a: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分布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graphicFrame>
        <p:nvGraphicFramePr>
          <p:cNvPr id="1188" name=""/>
          <p:cNvGraphicFramePr/>
          <p:nvPr/>
        </p:nvGraphicFramePr>
        <p:xfrm>
          <a:off x="3203640" y="765000"/>
          <a:ext cx="384120" cy="4320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189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203640" y="765000"/>
                    <a:ext cx="3841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F06B-E98F-434B-B66C-399C8B0C8D9C}" type="slidenum">
              <a:t>5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2379C-80D5-4A60-A94F-38CA1297ABCF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0" name=""/>
          <p:cNvGrpSpPr/>
          <p:nvPr/>
        </p:nvGrpSpPr>
        <p:grpSpPr>
          <a:xfrm>
            <a:off x="539640" y="1700280"/>
            <a:ext cx="8066160" cy="2435040"/>
            <a:chOff x="539640" y="1700280"/>
            <a:chExt cx="8066160" cy="2435040"/>
          </a:xfrm>
        </p:grpSpPr>
        <p:sp>
          <p:nvSpPr>
            <p:cNvPr id="1191" name=""/>
            <p:cNvSpPr/>
            <p:nvPr/>
          </p:nvSpPr>
          <p:spPr>
            <a:xfrm>
              <a:off x="539640" y="1700280"/>
              <a:ext cx="8066160" cy="17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2.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设        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(         )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且相互独立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                 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为  个  阶对称阵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且      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阶单位阵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)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记             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 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则          为相互独立的  分布的充要条件为           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.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此时         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           .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1192" name=""/>
            <p:cNvGraphicFramePr/>
            <p:nvPr/>
          </p:nvGraphicFramePr>
          <p:xfrm>
            <a:off x="1979640" y="1889280"/>
            <a:ext cx="1224000" cy="361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9640" y="1889280"/>
                      <a:ext cx="1224000" cy="36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4" name=""/>
            <p:cNvGraphicFramePr/>
            <p:nvPr/>
          </p:nvGraphicFramePr>
          <p:xfrm>
            <a:off x="3441600" y="1892160"/>
            <a:ext cx="1224000" cy="325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41600" y="1892160"/>
                      <a:ext cx="122400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6" name=""/>
            <p:cNvGraphicFramePr/>
            <p:nvPr/>
          </p:nvGraphicFramePr>
          <p:xfrm>
            <a:off x="7032600" y="1882800"/>
            <a:ext cx="1513080" cy="326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32600" y="1882800"/>
                      <a:ext cx="1513080" cy="32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8" name=""/>
            <p:cNvGraphicFramePr/>
            <p:nvPr/>
          </p:nvGraphicFramePr>
          <p:xfrm>
            <a:off x="938160" y="2416320"/>
            <a:ext cx="378000" cy="333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9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38160" y="2416320"/>
                      <a:ext cx="378000" cy="3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00" name=""/>
            <p:cNvGraphicFramePr/>
            <p:nvPr/>
          </p:nvGraphicFramePr>
          <p:xfrm>
            <a:off x="1531800" y="2349360"/>
            <a:ext cx="373320" cy="430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0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31800" y="2349360"/>
                      <a:ext cx="373320" cy="43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02" name=""/>
            <p:cNvGraphicFramePr/>
            <p:nvPr/>
          </p:nvGraphicFramePr>
          <p:xfrm>
            <a:off x="3540240" y="2276640"/>
            <a:ext cx="1008000" cy="591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0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540240" y="2276640"/>
                      <a:ext cx="1008000" cy="59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04" name=""/>
            <p:cNvGraphicFramePr/>
            <p:nvPr/>
          </p:nvGraphicFramePr>
          <p:xfrm>
            <a:off x="6465960" y="2308320"/>
            <a:ext cx="2066760" cy="490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0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465960" y="2308320"/>
                      <a:ext cx="2066760" cy="49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06" name=""/>
            <p:cNvGraphicFramePr/>
            <p:nvPr/>
          </p:nvGraphicFramePr>
          <p:xfrm>
            <a:off x="693720" y="3025800"/>
            <a:ext cx="1440000" cy="4287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0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93720" y="3025800"/>
                      <a:ext cx="1440000" cy="4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08" name=""/>
            <p:cNvGraphicFramePr/>
            <p:nvPr/>
          </p:nvGraphicFramePr>
          <p:xfrm>
            <a:off x="2519280" y="3024360"/>
            <a:ext cx="1511280" cy="4172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0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519280" y="3024360"/>
                      <a:ext cx="1511280" cy="41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10" name=""/>
            <p:cNvGraphicFramePr/>
            <p:nvPr/>
          </p:nvGraphicFramePr>
          <p:xfrm>
            <a:off x="5842080" y="2979720"/>
            <a:ext cx="388800" cy="4446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211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842080" y="2979720"/>
                      <a:ext cx="38880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12" name=""/>
            <p:cNvGraphicFramePr/>
            <p:nvPr/>
          </p:nvGraphicFramePr>
          <p:xfrm>
            <a:off x="914400" y="3397320"/>
            <a:ext cx="1612800" cy="7380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213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914400" y="3397320"/>
                      <a:ext cx="1612800" cy="73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14" name=""/>
            <p:cNvGraphicFramePr/>
            <p:nvPr/>
          </p:nvGraphicFramePr>
          <p:xfrm>
            <a:off x="4995720" y="3568680"/>
            <a:ext cx="1584360" cy="4446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215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995720" y="3568680"/>
                      <a:ext cx="158436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16" name=""/>
            <p:cNvGraphicFramePr/>
            <p:nvPr/>
          </p:nvGraphicFramePr>
          <p:xfrm>
            <a:off x="6732720" y="1844640"/>
            <a:ext cx="363240" cy="453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217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732720" y="1844640"/>
                      <a:ext cx="36324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18" name=""/>
            <p:cNvGraphicFramePr/>
            <p:nvPr/>
          </p:nvGraphicFramePr>
          <p:xfrm>
            <a:off x="3419640" y="3548160"/>
            <a:ext cx="1296720" cy="447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219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3419640" y="3548160"/>
                      <a:ext cx="129672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20" name="" descr=""/>
            <p:cNvPicPr/>
            <p:nvPr/>
          </p:nvPicPr>
          <p:blipFill>
            <a:blip r:embed="rId29"/>
            <a:stretch/>
          </p:blipFill>
          <p:spPr>
            <a:xfrm>
              <a:off x="2268360" y="1903320"/>
              <a:ext cx="219240" cy="3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1" name="" descr=""/>
            <p:cNvPicPr/>
            <p:nvPr/>
          </p:nvPicPr>
          <p:blipFill>
            <a:blip r:embed="rId30"/>
            <a:stretch/>
          </p:blipFill>
          <p:spPr>
            <a:xfrm>
              <a:off x="3720960" y="3576600"/>
              <a:ext cx="219240" cy="36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2" name=""/>
          <p:cNvSpPr/>
          <p:nvPr/>
        </p:nvSpPr>
        <p:spPr>
          <a:xfrm>
            <a:off x="611280" y="476748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这个性质称为</a:t>
            </a:r>
            <a:r>
              <a:rPr b="0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Cochran</a:t>
            </a:r>
            <a:r>
              <a:rPr b="0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定理</a:t>
            </a:r>
            <a:r>
              <a:rPr b="0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在方差分析和回归分析中起着重要作用</a:t>
            </a:r>
            <a:r>
              <a:rPr b="0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224" name="" descr="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225" name="" descr="">
            <a:hlinkClick r:id="" action="ppaction://hlinkshowjump?jump=previousslide"/>
          </p:cNvPr>
          <p:cNvPicPr/>
          <p:nvPr/>
        </p:nvPicPr>
        <p:blipFill>
          <a:blip r:embed="rId33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226" name="" descr="">
            <a:hlinkClick r:id="" action="ppaction://hlinkshowjump?jump=endshow"/>
          </p:cNvPr>
          <p:cNvPicPr/>
          <p:nvPr/>
        </p:nvPicPr>
        <p:blipFill>
          <a:blip r:embed="rId34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227" name="" descr="">
            <a:hlinkClick r:id="" action="ppaction://hlinkshowjump?jump=nextslide"/>
          </p:cNvPr>
          <p:cNvPicPr/>
          <p:nvPr/>
        </p:nvPicPr>
        <p:blipFill>
          <a:blip r:embed="rId35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228" name="" descr="">
            <a:hlinkClick r:id="rId36" action="ppaction://hlinksldjump"/>
          </p:cNvPr>
          <p:cNvPicPr/>
          <p:nvPr/>
        </p:nvPicPr>
        <p:blipFill>
          <a:blip r:embed="rId37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78A-88EA-4AEF-902E-8AAC6322497B}" type="slidenum">
              <a:t>5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54E43-11C6-4C5D-BCDB-9196B2A64371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9" name=""/>
          <p:cNvGrpSpPr/>
          <p:nvPr/>
        </p:nvGrpSpPr>
        <p:grpSpPr>
          <a:xfrm>
            <a:off x="623880" y="1577880"/>
            <a:ext cx="7921800" cy="1851120"/>
            <a:chOff x="623880" y="1577880"/>
            <a:chExt cx="7921800" cy="1851120"/>
          </a:xfrm>
        </p:grpSpPr>
        <p:grpSp>
          <p:nvGrpSpPr>
            <p:cNvPr id="1230" name=""/>
            <p:cNvGrpSpPr/>
            <p:nvPr/>
          </p:nvGrpSpPr>
          <p:grpSpPr>
            <a:xfrm>
              <a:off x="2268360" y="2637000"/>
              <a:ext cx="4527360" cy="792000"/>
              <a:chOff x="2268360" y="2637000"/>
              <a:chExt cx="4527360" cy="792000"/>
            </a:xfrm>
          </p:grpSpPr>
          <p:graphicFrame>
            <p:nvGraphicFramePr>
              <p:cNvPr id="1231" name=""/>
              <p:cNvGraphicFramePr/>
              <p:nvPr/>
            </p:nvGraphicFramePr>
            <p:xfrm>
              <a:off x="2268360" y="2637000"/>
              <a:ext cx="2305080" cy="792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3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268360" y="2637000"/>
                        <a:ext cx="2305080" cy="792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33" name=""/>
              <p:cNvSpPr/>
              <p:nvPr/>
            </p:nvSpPr>
            <p:spPr>
              <a:xfrm>
                <a:off x="5720400" y="2827800"/>
                <a:ext cx="107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(5.32)</a:t>
                </a:r>
                <a:endParaRPr b="0" lang="en-US" sz="2400" spc="-1" strike="noStrike">
                  <a:solidFill>
                    <a:srgbClr val="f4fafa"/>
                  </a:solidFill>
                  <a:latin typeface="Arial"/>
                </a:endParaRPr>
              </a:p>
            </p:txBody>
          </p:sp>
        </p:grpSp>
        <p:sp>
          <p:nvSpPr>
            <p:cNvPr id="1234" name=""/>
            <p:cNvSpPr/>
            <p:nvPr/>
          </p:nvSpPr>
          <p:spPr>
            <a:xfrm>
              <a:off x="623880" y="1577880"/>
              <a:ext cx="792180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</a:t>
              </a: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定义</a:t>
              </a:r>
              <a:r>
                <a:rPr b="1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5.7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设                             相互独立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且             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记                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则随机矩阵：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1235" name=""/>
            <p:cNvGraphicFramePr/>
            <p:nvPr/>
          </p:nvGraphicFramePr>
          <p:xfrm>
            <a:off x="3786120" y="1700280"/>
            <a:ext cx="492120" cy="384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86120" y="1700280"/>
                      <a:ext cx="492120" cy="3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37" name=""/>
            <p:cNvGraphicFramePr/>
            <p:nvPr/>
          </p:nvGraphicFramePr>
          <p:xfrm>
            <a:off x="5364000" y="1687680"/>
            <a:ext cx="1729080" cy="37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3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64000" y="1687680"/>
                      <a:ext cx="1729080" cy="37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39" name=""/>
            <p:cNvGraphicFramePr/>
            <p:nvPr/>
          </p:nvGraphicFramePr>
          <p:xfrm>
            <a:off x="1117440" y="2174760"/>
            <a:ext cx="1789200" cy="419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4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17440" y="2174760"/>
                      <a:ext cx="17892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1" name=""/>
            <p:cNvGraphicFramePr/>
            <p:nvPr/>
          </p:nvGraphicFramePr>
          <p:xfrm>
            <a:off x="3525840" y="2133720"/>
            <a:ext cx="2316240" cy="436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4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525840" y="2133720"/>
                      <a:ext cx="2316240" cy="43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43" name="" descr=""/>
            <p:cNvPicPr/>
            <p:nvPr/>
          </p:nvPicPr>
          <p:blipFill>
            <a:blip r:embed="rId11"/>
            <a:stretch/>
          </p:blipFill>
          <p:spPr>
            <a:xfrm>
              <a:off x="1547640" y="2205000"/>
              <a:ext cx="219240" cy="3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4" name=""/>
          <p:cNvGrpSpPr/>
          <p:nvPr/>
        </p:nvGrpSpPr>
        <p:grpSpPr>
          <a:xfrm>
            <a:off x="324000" y="3716280"/>
            <a:ext cx="8424000" cy="909720"/>
            <a:chOff x="324000" y="3716280"/>
            <a:chExt cx="8424000" cy="909720"/>
          </a:xfrm>
        </p:grpSpPr>
        <p:grpSp>
          <p:nvGrpSpPr>
            <p:cNvPr id="1245" name=""/>
            <p:cNvGrpSpPr/>
            <p:nvPr/>
          </p:nvGrpSpPr>
          <p:grpSpPr>
            <a:xfrm>
              <a:off x="324000" y="3716280"/>
              <a:ext cx="8424000" cy="552600"/>
              <a:chOff x="324000" y="3716280"/>
              <a:chExt cx="8424000" cy="552600"/>
            </a:xfrm>
          </p:grpSpPr>
          <p:sp>
            <p:nvSpPr>
              <p:cNvPr id="1246" name=""/>
              <p:cNvSpPr/>
              <p:nvPr/>
            </p:nvSpPr>
            <p:spPr>
              <a:xfrm>
                <a:off x="324000" y="3716280"/>
                <a:ext cx="84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   </a:t>
                </a:r>
                <a:r>
                  <a:rPr b="1" lang="zh-CN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所服从的分布称为自由度为  </a:t>
                </a:r>
                <a:r>
                  <a:rPr b="1" lang="en-US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n</a:t>
                </a:r>
                <a:r>
                  <a:rPr b="1" lang="zh-CN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的 </a:t>
                </a:r>
                <a:r>
                  <a:rPr b="1" lang="en-US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p </a:t>
                </a:r>
                <a:r>
                  <a:rPr b="1" lang="zh-CN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维</a:t>
                </a:r>
                <a:r>
                  <a:rPr b="1" lang="en-US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Wishart</a:t>
                </a:r>
                <a:r>
                  <a:rPr b="1" lang="zh-CN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分布</a:t>
                </a:r>
                <a:r>
                  <a:rPr b="1" lang="en-US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,</a:t>
                </a:r>
                <a:r>
                  <a:rPr b="1" lang="zh-CN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记为      </a:t>
                </a:r>
                <a:r>
                  <a:rPr b="1" lang="en-US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. </a:t>
                </a:r>
                <a:endParaRPr b="0" lang="en-US" sz="2400" spc="-1" strike="noStrike">
                  <a:solidFill>
                    <a:srgbClr val="f4fafa"/>
                  </a:solidFill>
                  <a:latin typeface="Arial"/>
                </a:endParaRPr>
              </a:p>
            </p:txBody>
          </p:sp>
          <p:graphicFrame>
            <p:nvGraphicFramePr>
              <p:cNvPr id="1247" name=""/>
              <p:cNvGraphicFramePr/>
              <p:nvPr/>
            </p:nvGraphicFramePr>
            <p:xfrm>
              <a:off x="5041800" y="3811680"/>
              <a:ext cx="313200" cy="45720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1248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5041800" y="3811680"/>
                        <a:ext cx="31320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49" name=""/>
              <p:cNvGraphicFramePr/>
              <p:nvPr/>
            </p:nvGraphicFramePr>
            <p:xfrm>
              <a:off x="5735160" y="3844800"/>
              <a:ext cx="297000" cy="40644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1250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5735160" y="3844800"/>
                        <a:ext cx="297000" cy="406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251" name=""/>
            <p:cNvGraphicFramePr/>
            <p:nvPr/>
          </p:nvGraphicFramePr>
          <p:xfrm>
            <a:off x="2068200" y="4210200"/>
            <a:ext cx="1503360" cy="41580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252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2068200" y="4210200"/>
                      <a:ext cx="1503360" cy="41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53" name="" descr=""/>
            <p:cNvPicPr/>
            <p:nvPr/>
          </p:nvPicPr>
          <p:blipFill>
            <a:blip r:embed="rId18"/>
            <a:stretch/>
          </p:blipFill>
          <p:spPr>
            <a:xfrm>
              <a:off x="2206080" y="4211640"/>
              <a:ext cx="243720" cy="36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4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255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256" name="" descr="">
            <a:hlinkClick r:id="" action="ppaction://hlinkshowjump?jump=previousslide"/>
          </p:cNvPr>
          <p:cNvPicPr/>
          <p:nvPr/>
        </p:nvPicPr>
        <p:blipFill>
          <a:blip r:embed="rId21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257" name="" descr="">
            <a:hlinkClick r:id="" action="ppaction://hlinkshowjump?jump=endshow"/>
          </p:cNvPr>
          <p:cNvPicPr/>
          <p:nvPr/>
        </p:nvPicPr>
        <p:blipFill>
          <a:blip r:embed="rId22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258" name="" descr="">
            <a:hlinkClick r:id="" action="ppaction://hlinkshowjump?jump=nextslide"/>
          </p:cNvPr>
          <p:cNvPicPr/>
          <p:nvPr/>
        </p:nvPicPr>
        <p:blipFill>
          <a:blip r:embed="rId23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259" name="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0" name=""/>
          <p:cNvGraphicFramePr/>
          <p:nvPr/>
        </p:nvGraphicFramePr>
        <p:xfrm>
          <a:off x="5508720" y="4149720"/>
          <a:ext cx="1512720" cy="40968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508720" y="4149720"/>
                    <a:ext cx="151272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B165-A20A-4394-8AB5-F5439318AB67}" type="slidenum">
              <a:t>5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B0B3F-185C-4AD8-A789-DCE00C9B3AC8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250920" y="1341360"/>
            <a:ext cx="8353440" cy="1168560"/>
            <a:chOff x="250920" y="1341360"/>
            <a:chExt cx="8353440" cy="1168560"/>
          </a:xfrm>
        </p:grpSpPr>
        <p:sp>
          <p:nvSpPr>
            <p:cNvPr id="1266" name=""/>
            <p:cNvSpPr/>
            <p:nvPr/>
          </p:nvSpPr>
          <p:spPr>
            <a:xfrm>
              <a:off x="250920" y="1341360"/>
              <a:ext cx="8353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由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Wishart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分布的定义知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当    时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退化为  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此时中心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Wishart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分布就退化为      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由此可以看出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 Wishart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分布实际上是   分布在多维正态情形下的推广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1267" name=""/>
            <p:cNvGraphicFramePr/>
            <p:nvPr/>
          </p:nvGraphicFramePr>
          <p:xfrm>
            <a:off x="4643280" y="1424160"/>
            <a:ext cx="576360" cy="336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43280" y="1424160"/>
                      <a:ext cx="576360" cy="33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9" name=""/>
            <p:cNvGraphicFramePr/>
            <p:nvPr/>
          </p:nvGraphicFramePr>
          <p:xfrm>
            <a:off x="5724360" y="1455840"/>
            <a:ext cx="289080" cy="333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24360" y="1455840"/>
                      <a:ext cx="289080" cy="3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1" name=""/>
            <p:cNvGraphicFramePr/>
            <p:nvPr/>
          </p:nvGraphicFramePr>
          <p:xfrm>
            <a:off x="6950160" y="1379520"/>
            <a:ext cx="358560" cy="358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7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50160" y="1379520"/>
                      <a:ext cx="35856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3" name=""/>
            <p:cNvGraphicFramePr/>
            <p:nvPr/>
          </p:nvGraphicFramePr>
          <p:xfrm>
            <a:off x="3564000" y="1763640"/>
            <a:ext cx="936720" cy="381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7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64000" y="1763640"/>
                      <a:ext cx="93672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5" name=""/>
            <p:cNvGraphicFramePr/>
            <p:nvPr/>
          </p:nvGraphicFramePr>
          <p:xfrm>
            <a:off x="1573200" y="2109960"/>
            <a:ext cx="576360" cy="399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7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73200" y="2109960"/>
                      <a:ext cx="5763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77" name=""/>
          <p:cNvSpPr/>
          <p:nvPr/>
        </p:nvSpPr>
        <p:spPr>
          <a:xfrm>
            <a:off x="536400" y="266112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下面不加证明的给出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Wishart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分布的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条重要性质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: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395280" y="3140640"/>
            <a:ext cx="7800840" cy="1691640"/>
            <a:chOff x="395280" y="3140640"/>
            <a:chExt cx="7800840" cy="1691640"/>
          </a:xfrm>
        </p:grpSpPr>
        <p:sp>
          <p:nvSpPr>
            <p:cNvPr id="1279" name=""/>
            <p:cNvSpPr/>
            <p:nvPr/>
          </p:nvSpPr>
          <p:spPr>
            <a:xfrm>
              <a:off x="3012840" y="3653280"/>
              <a:ext cx="148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个随机样本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 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349960" y="3665880"/>
              <a:ext cx="250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为样本均值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样本离差阵为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101000" y="3162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宋体"/>
                  <a:ea typeface="黑体"/>
                </a:rPr>
                <a:t>维正态总体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1282" name=""/>
            <p:cNvGraphicFramePr/>
            <p:nvPr/>
          </p:nvGraphicFramePr>
          <p:xfrm>
            <a:off x="2573280" y="3211560"/>
            <a:ext cx="541440" cy="422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8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573280" y="3211560"/>
                      <a:ext cx="541440" cy="4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4" name=""/>
            <p:cNvGraphicFramePr/>
            <p:nvPr/>
          </p:nvGraphicFramePr>
          <p:xfrm>
            <a:off x="4452840" y="3214800"/>
            <a:ext cx="1584360" cy="441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8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452840" y="3214800"/>
                      <a:ext cx="158436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6" name=""/>
            <p:cNvGraphicFramePr/>
            <p:nvPr/>
          </p:nvGraphicFramePr>
          <p:xfrm>
            <a:off x="6566040" y="3255840"/>
            <a:ext cx="355320" cy="3780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8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566040" y="3255840"/>
                      <a:ext cx="355320" cy="3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8" name=""/>
            <p:cNvGraphicFramePr/>
            <p:nvPr/>
          </p:nvGraphicFramePr>
          <p:xfrm>
            <a:off x="395280" y="3684600"/>
            <a:ext cx="1081080" cy="4287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8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95280" y="3684600"/>
                      <a:ext cx="1081080" cy="4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0" name=""/>
            <p:cNvGraphicFramePr/>
            <p:nvPr/>
          </p:nvGraphicFramePr>
          <p:xfrm>
            <a:off x="2635200" y="3683160"/>
            <a:ext cx="372960" cy="4302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291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635200" y="3683160"/>
                      <a:ext cx="372960" cy="43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2" name=""/>
            <p:cNvGraphicFramePr/>
            <p:nvPr/>
          </p:nvGraphicFramePr>
          <p:xfrm>
            <a:off x="4500720" y="3697200"/>
            <a:ext cx="385560" cy="4064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293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500720" y="3697200"/>
                      <a:ext cx="38556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4" name=""/>
            <p:cNvGraphicFramePr/>
            <p:nvPr/>
          </p:nvGraphicFramePr>
          <p:xfrm>
            <a:off x="466560" y="4133880"/>
            <a:ext cx="2592720" cy="6984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295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66560" y="4133880"/>
                      <a:ext cx="2592720" cy="6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6" name=""/>
            <p:cNvSpPr/>
            <p:nvPr/>
          </p:nvSpPr>
          <p:spPr>
            <a:xfrm>
              <a:off x="659520" y="3140640"/>
              <a:ext cx="69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1.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若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883120" y="3175560"/>
              <a:ext cx="69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宋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f4fafa"/>
                  </a:solidFill>
                  <a:latin typeface="宋体"/>
                  <a:ea typeface="黑体"/>
                </a:rPr>
                <a:t>是从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607760" y="3645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中抽取的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854440" y="4194720"/>
              <a:ext cx="60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则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998160" y="3836160"/>
              <a:ext cx="214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4fafa"/>
                  </a:solidFill>
                  <a:latin typeface="宋体"/>
                  <a:ea typeface="Times New Roman"/>
                </a:rPr>
                <a:t>.</a:t>
              </a:r>
              <a:endParaRPr b="0" lang="en-US" sz="1000" spc="-1" strike="noStrike">
                <a:solidFill>
                  <a:srgbClr val="f4fafa"/>
                </a:solidFill>
                <a:latin typeface="Arial"/>
              </a:endParaRPr>
            </a:p>
          </p:txBody>
        </p:sp>
      </p:grpSp>
      <p:sp>
        <p:nvSpPr>
          <p:cNvPr id="1301" name=""/>
          <p:cNvSpPr/>
          <p:nvPr/>
        </p:nvSpPr>
        <p:spPr>
          <a:xfrm>
            <a:off x="2315880" y="4877640"/>
            <a:ext cx="92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4fafa"/>
                </a:solidFill>
                <a:latin typeface="黑体"/>
                <a:ea typeface="黑体"/>
              </a:rPr>
              <a:t>相互独立</a:t>
            </a:r>
            <a:r>
              <a:rPr b="1" lang="en-US" sz="2000" spc="-1" strike="noStrike">
                <a:solidFill>
                  <a:srgbClr val="f4fafa"/>
                </a:solidFill>
                <a:latin typeface="黑体"/>
                <a:ea typeface="黑体"/>
              </a:rPr>
              <a:t>.</a:t>
            </a:r>
            <a:endParaRPr b="0" lang="en-US" sz="2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517040" y="4893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4fafa"/>
                </a:solidFill>
                <a:latin typeface="黑体"/>
                <a:ea typeface="黑体"/>
              </a:rPr>
              <a:t>和</a:t>
            </a:r>
            <a:endParaRPr b="0" lang="en-US" sz="2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61320" y="48934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afa"/>
                </a:solidFill>
                <a:latin typeface="黑体"/>
                <a:ea typeface="黑体"/>
              </a:rPr>
              <a:t>(1) </a:t>
            </a:r>
            <a:endParaRPr b="0" lang="en-US" sz="2000" spc="-1" strike="noStrike">
              <a:solidFill>
                <a:srgbClr val="f4fafa"/>
              </a:solidFill>
              <a:latin typeface="Arial"/>
            </a:endParaRPr>
          </a:p>
        </p:txBody>
      </p:sp>
      <p:graphicFrame>
        <p:nvGraphicFramePr>
          <p:cNvPr id="1304" name=""/>
          <p:cNvGraphicFramePr/>
          <p:nvPr/>
        </p:nvGraphicFramePr>
        <p:xfrm>
          <a:off x="1258920" y="4919760"/>
          <a:ext cx="317520" cy="334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0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258920" y="4919760"/>
                    <a:ext cx="31752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6" name=""/>
          <p:cNvGraphicFramePr/>
          <p:nvPr/>
        </p:nvGraphicFramePr>
        <p:xfrm>
          <a:off x="1882800" y="4915080"/>
          <a:ext cx="360360" cy="339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30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882800" y="4915080"/>
                    <a:ext cx="36036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8" name=""/>
          <p:cNvGraphicFramePr/>
          <p:nvPr/>
        </p:nvGraphicFramePr>
        <p:xfrm>
          <a:off x="1258920" y="5513400"/>
          <a:ext cx="1800360" cy="449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30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258920" y="5513400"/>
                    <a:ext cx="180036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0" name=""/>
          <p:cNvGraphicFramePr/>
          <p:nvPr/>
        </p:nvGraphicFramePr>
        <p:xfrm>
          <a:off x="3340080" y="5516640"/>
          <a:ext cx="1901880" cy="4604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31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340080" y="5516640"/>
                    <a:ext cx="19018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2" name=""/>
          <p:cNvSpPr/>
          <p:nvPr/>
        </p:nvSpPr>
        <p:spPr>
          <a:xfrm>
            <a:off x="648720" y="5487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afa"/>
                </a:solidFill>
                <a:latin typeface="黑体"/>
                <a:ea typeface="黑体"/>
              </a:rPr>
              <a:t>(2) </a:t>
            </a:r>
            <a:endParaRPr b="0" lang="en-US" sz="2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987640" y="55155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afa"/>
                </a:solidFill>
                <a:latin typeface="黑体"/>
                <a:ea typeface="黑体"/>
              </a:rPr>
              <a:t>,</a:t>
            </a:r>
            <a:endParaRPr b="0" lang="en-US" sz="2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33"/>
          <a:stretch/>
        </p:blipFill>
        <p:spPr>
          <a:xfrm>
            <a:off x="1585800" y="5526000"/>
            <a:ext cx="219240" cy="362160"/>
          </a:xfrm>
          <a:prstGeom prst="rect">
            <a:avLst/>
          </a:prstGeom>
          <a:ln w="0">
            <a:noFill/>
          </a:ln>
        </p:spPr>
      </p:pic>
      <p:pic>
        <p:nvPicPr>
          <p:cNvPr id="1315" name="" descr=""/>
          <p:cNvPicPr/>
          <p:nvPr/>
        </p:nvPicPr>
        <p:blipFill>
          <a:blip r:embed="rId34"/>
          <a:stretch/>
        </p:blipFill>
        <p:spPr>
          <a:xfrm>
            <a:off x="3584520" y="5541840"/>
            <a:ext cx="219240" cy="362160"/>
          </a:xfrm>
          <a:prstGeom prst="rect">
            <a:avLst/>
          </a:prstGeom>
          <a:ln w="0">
            <a:noFill/>
          </a:ln>
        </p:spPr>
      </p:pic>
      <p:sp>
        <p:nvSpPr>
          <p:cNvPr id="1316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317" name="" descr="">
            <a:hlinkClick r:id="rId35" action="ppaction://hlinksldjump"/>
          </p:cNvPr>
          <p:cNvPicPr/>
          <p:nvPr/>
        </p:nvPicPr>
        <p:blipFill>
          <a:blip r:embed="rId36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318" name="" descr="">
            <a:hlinkClick r:id="" action="ppaction://hlinkshowjump?jump=previousslide"/>
          </p:cNvPr>
          <p:cNvPicPr/>
          <p:nvPr/>
        </p:nvPicPr>
        <p:blipFill>
          <a:blip r:embed="rId37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319" name="" descr="">
            <a:hlinkClick r:id="" action="ppaction://hlinkshowjump?jump=endshow"/>
          </p:cNvPr>
          <p:cNvPicPr/>
          <p:nvPr/>
        </p:nvPicPr>
        <p:blipFill>
          <a:blip r:embed="rId38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320" name="" descr="">
            <a:hlinkClick r:id="" action="ppaction://hlinkshowjump?jump=nextslide"/>
          </p:cNvPr>
          <p:cNvPicPr/>
          <p:nvPr/>
        </p:nvPicPr>
        <p:blipFill>
          <a:blip r:embed="rId39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321" name="" descr="">
            <a:hlinkClick r:id="rId40" action="ppaction://hlinksldjump"/>
          </p:cNvPr>
          <p:cNvPicPr/>
          <p:nvPr/>
        </p:nvPicPr>
        <p:blipFill>
          <a:blip r:embed="rId41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D675-9527-4286-BE7F-30E3761C6F1B}" type="slidenum">
              <a:t>5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D2C09-D04A-4357-B489-4232FDC2CC0C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8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3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8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3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2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8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Rectangle 3"/>
          <p:cNvGraphicFramePr/>
          <p:nvPr/>
        </p:nvGraphicFramePr>
        <p:xfrm>
          <a:off x="1217520" y="2435400"/>
          <a:ext cx="663588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2435400"/>
                    <a:ext cx="66358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Rectangle 3"/>
          <p:cNvGraphicFramePr/>
          <p:nvPr/>
        </p:nvGraphicFramePr>
        <p:xfrm>
          <a:off x="1908000" y="5176800"/>
          <a:ext cx="302580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5176800"/>
                    <a:ext cx="30258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21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" action="ppaction://hlinkshowjump?jump=endshow"/>
          </p:cNvPr>
          <p:cNvPicPr/>
          <p:nvPr/>
        </p:nvPicPr>
        <p:blipFill>
          <a:blip r:embed="rId10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509760" y="1557360"/>
            <a:ext cx="7920000" cy="814320"/>
            <a:chOff x="509760" y="1557360"/>
            <a:chExt cx="7920000" cy="814320"/>
          </a:xfrm>
        </p:grpSpPr>
        <p:sp>
          <p:nvSpPr>
            <p:cNvPr id="223" name=""/>
            <p:cNvSpPr/>
            <p:nvPr/>
          </p:nvSpPr>
          <p:spPr>
            <a:xfrm>
              <a:off x="509760" y="1557360"/>
              <a:ext cx="79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  </a:t>
              </a:r>
              <a:r>
                <a:rPr b="0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定义</a:t>
              </a:r>
              <a:r>
                <a:rPr b="0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5.3</a:t>
              </a:r>
              <a:r>
                <a:rPr b="0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：设        </a:t>
              </a:r>
              <a:r>
                <a:rPr b="0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=              ,</a:t>
              </a:r>
              <a:r>
                <a:rPr b="0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若存在一个非负的函数</a:t>
              </a:r>
              <a:r>
                <a:rPr b="0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</a:t>
              </a:r>
              <a:r>
                <a:rPr b="0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0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使得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224" name=""/>
            <p:cNvGraphicFramePr/>
            <p:nvPr/>
          </p:nvGraphicFramePr>
          <p:xfrm>
            <a:off x="2925720" y="1641240"/>
            <a:ext cx="1112760" cy="3859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925720" y="1641240"/>
                      <a:ext cx="1112760" cy="38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4284720" y="1603440"/>
                  <a:ext cx="208764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2124000" y="2022480"/>
                  <a:ext cx="50328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d>
                        <m:dPr>
                          <m:begChr m:val="("/>
                          <m:endChr m:val=")"/>
                        </m:dPr>
                        <m:e/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8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55640" y="3141720"/>
            <a:ext cx="7416720" cy="780840"/>
            <a:chOff x="755640" y="3141720"/>
            <a:chExt cx="7416720" cy="780840"/>
          </a:xfrm>
        </p:grpSpPr>
        <p:sp>
          <p:nvSpPr>
            <p:cNvPr id="230" name=""/>
            <p:cNvSpPr/>
            <p:nvPr/>
          </p:nvSpPr>
          <p:spPr>
            <a:xfrm>
              <a:off x="755640" y="3141720"/>
              <a:ext cx="741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对一切      成立，则称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（或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）有分布密度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并称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为连续型随机向量。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1403280" y="3573360"/>
                  <a:ext cx="50328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d>
                        <m:dPr>
                          <m:begChr m:val="("/>
                          <m:endChr m:val=")"/>
                        </m:dPr>
                        <m:e/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2340000" y="3141720"/>
                  <a:ext cx="86508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∈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p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33" name=""/>
            <p:cNvGraphicFramePr/>
            <p:nvPr/>
          </p:nvGraphicFramePr>
          <p:xfrm>
            <a:off x="5867280" y="3181320"/>
            <a:ext cx="720720" cy="4237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34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867280" y="3181320"/>
                      <a:ext cx="720720" cy="42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4859280" y="3213000"/>
                  <a:ext cx="36036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2496960" y="3573360"/>
                  <a:ext cx="36072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7" name=""/>
          <p:cNvGrpSpPr/>
          <p:nvPr/>
        </p:nvGrpSpPr>
        <p:grpSpPr>
          <a:xfrm>
            <a:off x="468360" y="4219560"/>
            <a:ext cx="7559640" cy="459720"/>
            <a:chOff x="468360" y="4219560"/>
            <a:chExt cx="7559640" cy="459720"/>
          </a:xfrm>
        </p:grpSpPr>
        <p:grpSp>
          <p:nvGrpSpPr>
            <p:cNvPr id="238" name=""/>
            <p:cNvGrpSpPr/>
            <p:nvPr/>
          </p:nvGrpSpPr>
          <p:grpSpPr>
            <a:xfrm>
              <a:off x="468360" y="4219560"/>
              <a:ext cx="7559640" cy="459720"/>
              <a:chOff x="468360" y="4219560"/>
              <a:chExt cx="7559640" cy="459720"/>
            </a:xfrm>
          </p:grpSpPr>
          <p:sp>
            <p:nvSpPr>
              <p:cNvPr id="239" name=""/>
              <p:cNvSpPr/>
              <p:nvPr/>
            </p:nvSpPr>
            <p:spPr>
              <a:xfrm>
                <a:off x="468360" y="4219560"/>
                <a:ext cx="755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    </a:t>
                </a:r>
                <a:r>
                  <a:rPr b="1" lang="zh-CN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一个</a:t>
                </a:r>
                <a:r>
                  <a:rPr b="1" i="1" lang="zh-CN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维变量的函数</a:t>
                </a:r>
                <a:r>
                  <a:rPr b="1" i="1" lang="zh-CN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   </a:t>
                </a:r>
                <a:r>
                  <a:rPr b="1" lang="zh-CN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能作为</a:t>
                </a:r>
                <a:r>
                  <a:rPr b="1" lang="en-US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   </a:t>
                </a:r>
                <a:r>
                  <a:rPr b="1" lang="zh-CN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中某个随机向量的分布密度，当且仅当</a:t>
                </a:r>
                <a:endParaRPr b="0" lang="en-US" sz="2400" spc="-1" strike="noStrike">
                  <a:solidFill>
                    <a:srgbClr val="f4fafa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0" name=""/>
                  <p:cNvSpPr txBox="1"/>
                  <p:nvPr/>
                </p:nvSpPr>
                <p:spPr>
                  <a:xfrm>
                    <a:off x="5275440" y="4238640"/>
                    <a:ext cx="431640" cy="38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1" name=""/>
                  <p:cNvSpPr txBox="1"/>
                  <p:nvPr/>
                </p:nvSpPr>
                <p:spPr>
                  <a:xfrm>
                    <a:off x="3851280" y="4292640"/>
                    <a:ext cx="503280" cy="349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/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42" name="Rectangle 3"/>
                <p:cNvSpPr txBox="1"/>
                <p:nvPr/>
              </p:nvSpPr>
              <p:spPr>
                <a:xfrm>
                  <a:off x="1789200" y="4343400"/>
                  <a:ext cx="287280" cy="3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91F8-F83A-49CE-9A89-E5290196F1F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9EA555-C51F-4BD1-89E4-86C279F98380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1324" name=""/>
          <p:cNvGrpSpPr/>
          <p:nvPr/>
        </p:nvGrpSpPr>
        <p:grpSpPr>
          <a:xfrm>
            <a:off x="1019880" y="2872440"/>
            <a:ext cx="4993560" cy="1388520"/>
            <a:chOff x="1019880" y="2872440"/>
            <a:chExt cx="4993560" cy="1388520"/>
          </a:xfrm>
        </p:grpSpPr>
        <p:graphicFrame>
          <p:nvGraphicFramePr>
            <p:cNvPr id="1325" name=""/>
            <p:cNvGraphicFramePr/>
            <p:nvPr/>
          </p:nvGraphicFramePr>
          <p:xfrm>
            <a:off x="1692360" y="3005280"/>
            <a:ext cx="1512720" cy="411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92360" y="3005280"/>
                      <a:ext cx="1512720" cy="41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7" name=""/>
            <p:cNvGraphicFramePr/>
            <p:nvPr/>
          </p:nvGraphicFramePr>
          <p:xfrm>
            <a:off x="3290760" y="3011400"/>
            <a:ext cx="851040" cy="500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2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90760" y="3011400"/>
                      <a:ext cx="85104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9" name=""/>
            <p:cNvSpPr/>
            <p:nvPr/>
          </p:nvSpPr>
          <p:spPr>
            <a:xfrm>
              <a:off x="1019880" y="2915280"/>
              <a:ext cx="69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3.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若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192120" y="2872440"/>
              <a:ext cx="2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280040" y="2970720"/>
              <a:ext cx="151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为非奇异阵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则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1332" name=""/>
            <p:cNvGraphicFramePr/>
            <p:nvPr/>
          </p:nvGraphicFramePr>
          <p:xfrm>
            <a:off x="3276720" y="3789360"/>
            <a:ext cx="273672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3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76720" y="3789360"/>
                      <a:ext cx="273672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34" name="" descr=""/>
            <p:cNvPicPr/>
            <p:nvPr/>
          </p:nvPicPr>
          <p:blipFill>
            <a:blip r:embed="rId7"/>
            <a:stretch/>
          </p:blipFill>
          <p:spPr>
            <a:xfrm>
              <a:off x="1959120" y="2997360"/>
              <a:ext cx="21888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5" name="" descr=""/>
            <p:cNvPicPr/>
            <p:nvPr/>
          </p:nvPicPr>
          <p:blipFill>
            <a:blip r:embed="rId8"/>
            <a:stretch/>
          </p:blipFill>
          <p:spPr>
            <a:xfrm>
              <a:off x="4059360" y="3792600"/>
              <a:ext cx="218880" cy="36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6" name=""/>
          <p:cNvGrpSpPr/>
          <p:nvPr/>
        </p:nvGrpSpPr>
        <p:grpSpPr>
          <a:xfrm>
            <a:off x="1027800" y="4489920"/>
            <a:ext cx="7741440" cy="1290240"/>
            <a:chOff x="1027800" y="4489920"/>
            <a:chExt cx="7741440" cy="1290240"/>
          </a:xfrm>
        </p:grpSpPr>
        <p:sp>
          <p:nvSpPr>
            <p:cNvPr id="1337" name=""/>
            <p:cNvSpPr/>
            <p:nvPr/>
          </p:nvSpPr>
          <p:spPr>
            <a:xfrm>
              <a:off x="3390480" y="4489920"/>
              <a:ext cx="2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pSp>
          <p:nvGrpSpPr>
            <p:cNvPr id="1338" name=""/>
            <p:cNvGrpSpPr/>
            <p:nvPr/>
          </p:nvGrpSpPr>
          <p:grpSpPr>
            <a:xfrm>
              <a:off x="1027800" y="4578840"/>
              <a:ext cx="7741440" cy="1201320"/>
              <a:chOff x="1027800" y="4578840"/>
              <a:chExt cx="7741440" cy="1201320"/>
            </a:xfrm>
          </p:grpSpPr>
          <p:sp>
            <p:nvSpPr>
              <p:cNvPr id="1339" name=""/>
              <p:cNvSpPr/>
              <p:nvPr/>
            </p:nvSpPr>
            <p:spPr>
              <a:xfrm>
                <a:off x="4016520" y="4578840"/>
                <a:ext cx="122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4fafa"/>
                    </a:solidFill>
                    <a:latin typeface="宋体"/>
                    <a:ea typeface="黑体"/>
                  </a:rPr>
                  <a:t>为任一</a:t>
                </a:r>
                <a:endParaRPr b="0" lang="en-US" sz="2400" spc="-1" strike="noStrike">
                  <a:solidFill>
                    <a:srgbClr val="f4fafa"/>
                  </a:solidFill>
                  <a:latin typeface="Arial"/>
                </a:endParaRPr>
              </a:p>
            </p:txBody>
          </p:sp>
          <p:graphicFrame>
            <p:nvGraphicFramePr>
              <p:cNvPr id="1340" name=""/>
              <p:cNvGraphicFramePr/>
              <p:nvPr/>
            </p:nvGraphicFramePr>
            <p:xfrm>
              <a:off x="1712880" y="4635360"/>
              <a:ext cx="1655640" cy="4492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34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1712880" y="4635360"/>
                        <a:ext cx="1655640" cy="449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42" name=""/>
              <p:cNvGraphicFramePr/>
              <p:nvPr/>
            </p:nvGraphicFramePr>
            <p:xfrm>
              <a:off x="3760920" y="4606920"/>
              <a:ext cx="379440" cy="4381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34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3760920" y="4606920"/>
                        <a:ext cx="379440" cy="438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44" name=""/>
              <p:cNvGraphicFramePr/>
              <p:nvPr/>
            </p:nvGraphicFramePr>
            <p:xfrm>
              <a:off x="5064120" y="4605480"/>
              <a:ext cx="406440" cy="4316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34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064120" y="4605480"/>
                        <a:ext cx="406440" cy="431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46" name=""/>
              <p:cNvGraphicFramePr/>
              <p:nvPr/>
            </p:nvGraphicFramePr>
            <p:xfrm>
              <a:off x="7400880" y="4613400"/>
              <a:ext cx="1368360" cy="42048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347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400880" y="4613400"/>
                        <a:ext cx="1368360" cy="420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48" name=""/>
              <p:cNvGraphicFramePr/>
              <p:nvPr/>
            </p:nvGraphicFramePr>
            <p:xfrm>
              <a:off x="1687680" y="5194440"/>
              <a:ext cx="1800000" cy="58572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349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1687680" y="5194440"/>
                        <a:ext cx="1800000" cy="585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50" name=""/>
              <p:cNvSpPr/>
              <p:nvPr/>
            </p:nvSpPr>
            <p:spPr>
              <a:xfrm>
                <a:off x="1027800" y="4580280"/>
                <a:ext cx="69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4.</a:t>
                </a:r>
                <a:r>
                  <a:rPr b="1" lang="zh-CN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若</a:t>
                </a:r>
                <a:endParaRPr b="0" lang="en-US" sz="2400" spc="-1" strike="noStrike">
                  <a:solidFill>
                    <a:srgbClr val="f4fafa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712120" y="4578840"/>
                <a:ext cx="151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元常向量</a:t>
                </a:r>
                <a:r>
                  <a:rPr b="1" lang="en-US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,</a:t>
                </a:r>
                <a:r>
                  <a:rPr b="1" lang="zh-CN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满足</a:t>
                </a:r>
                <a:endParaRPr b="0" lang="en-US" sz="2400" spc="-1" strike="noStrike">
                  <a:solidFill>
                    <a:srgbClr val="f4fafa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1339560" y="522648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4fafa"/>
                    </a:solidFill>
                    <a:latin typeface="黑体"/>
                    <a:ea typeface="黑体"/>
                  </a:rPr>
                  <a:t>则</a:t>
                </a:r>
                <a:endParaRPr b="0" lang="en-US" sz="2400" spc="-1" strike="noStrike">
                  <a:solidFill>
                    <a:srgbClr val="f4fafa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017240" y="4700160"/>
                <a:ext cx="2203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4fafa"/>
                    </a:solidFill>
                    <a:latin typeface="Arial"/>
                    <a:ea typeface="黑体"/>
                  </a:rPr>
                  <a:t> </a:t>
                </a:r>
                <a:endParaRPr b="0" lang="en-US" sz="1100" spc="-1" strike="noStrike">
                  <a:solidFill>
                    <a:srgbClr val="f4fafa"/>
                  </a:solidFill>
                  <a:latin typeface="Arial"/>
                </a:endParaRPr>
              </a:p>
            </p:txBody>
          </p:sp>
          <p:pic>
            <p:nvPicPr>
              <p:cNvPr id="135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1984320" y="4622760"/>
                <a:ext cx="284040" cy="36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2289240" y="5300640"/>
                <a:ext cx="218880" cy="361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56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357" name="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358" name="" descr="">
            <a:hlinkClick r:id="" action="ppaction://hlinkshowjump?jump=previousslide"/>
          </p:cNvPr>
          <p:cNvPicPr/>
          <p:nvPr/>
        </p:nvPicPr>
        <p:blipFill>
          <a:blip r:embed="rId23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359" name="" descr="">
            <a:hlinkClick r:id="" action="ppaction://hlinkshowjump?jump=endshow"/>
          </p:cNvPr>
          <p:cNvPicPr/>
          <p:nvPr/>
        </p:nvPicPr>
        <p:blipFill>
          <a:blip r:embed="rId24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360" name="" descr="">
            <a:hlinkClick r:id="" action="ppaction://hlinkshowjump?jump=nextslide"/>
          </p:cNvPr>
          <p:cNvPicPr/>
          <p:nvPr/>
        </p:nvPicPr>
        <p:blipFill>
          <a:blip r:embed="rId25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361" name="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2" name=""/>
          <p:cNvGraphicFramePr/>
          <p:nvPr/>
        </p:nvGraphicFramePr>
        <p:xfrm>
          <a:off x="1692360" y="1531800"/>
          <a:ext cx="1728720" cy="44460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363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1692360" y="1531800"/>
                    <a:ext cx="17287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4" name=""/>
          <p:cNvGraphicFramePr/>
          <p:nvPr/>
        </p:nvGraphicFramePr>
        <p:xfrm>
          <a:off x="3556080" y="1546200"/>
          <a:ext cx="1439640" cy="42228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365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556080" y="1546200"/>
                    <a:ext cx="14396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6" name=""/>
          <p:cNvSpPr/>
          <p:nvPr/>
        </p:nvSpPr>
        <p:spPr>
          <a:xfrm>
            <a:off x="1019880" y="14580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若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4972320" y="1483200"/>
            <a:ext cx="17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且相互独立</a:t>
            </a:r>
            <a:r>
              <a:rPr b="1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则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p:graphicFrame>
        <p:nvGraphicFramePr>
          <p:cNvPr id="1368" name=""/>
          <p:cNvGraphicFramePr/>
          <p:nvPr/>
        </p:nvGraphicFramePr>
        <p:xfrm>
          <a:off x="3492360" y="1981080"/>
          <a:ext cx="2303640" cy="71928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369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3492360" y="1981080"/>
                    <a:ext cx="23036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0" name="" descr=""/>
          <p:cNvPicPr/>
          <p:nvPr/>
        </p:nvPicPr>
        <p:blipFill>
          <a:blip r:embed="rId34"/>
          <a:stretch/>
        </p:blipFill>
        <p:spPr>
          <a:xfrm>
            <a:off x="1992240" y="1547640"/>
            <a:ext cx="219240" cy="362160"/>
          </a:xfrm>
          <a:prstGeom prst="rect">
            <a:avLst/>
          </a:prstGeom>
          <a:ln w="0">
            <a:noFill/>
          </a:ln>
        </p:spPr>
      </p:pic>
      <p:pic>
        <p:nvPicPr>
          <p:cNvPr id="1371" name="" descr=""/>
          <p:cNvPicPr/>
          <p:nvPr/>
        </p:nvPicPr>
        <p:blipFill>
          <a:blip r:embed="rId35"/>
          <a:stretch/>
        </p:blipFill>
        <p:spPr>
          <a:xfrm>
            <a:off x="4102200" y="2120760"/>
            <a:ext cx="209520" cy="39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5CE4-7DE4-452B-8432-53D5033C2816}" type="slidenum">
              <a:t>6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19446-150A-4A05-8892-B803CA96A5E3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7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0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3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1376" name=""/>
          <p:cNvGrpSpPr/>
          <p:nvPr/>
        </p:nvGrpSpPr>
        <p:grpSpPr>
          <a:xfrm>
            <a:off x="1187280" y="3200400"/>
            <a:ext cx="7272360" cy="541440"/>
            <a:chOff x="1187280" y="3200400"/>
            <a:chExt cx="7272360" cy="541440"/>
          </a:xfrm>
        </p:grpSpPr>
        <p:sp>
          <p:nvSpPr>
            <p:cNvPr id="1377" name=""/>
            <p:cNvSpPr/>
            <p:nvPr/>
          </p:nvSpPr>
          <p:spPr>
            <a:xfrm>
              <a:off x="1187280" y="3259080"/>
              <a:ext cx="727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特别的</a:t>
              </a:r>
              <a:r>
                <a:rPr b="1" lang="en-US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设    和    分别为     和     的第   个对角元</a:t>
              </a:r>
              <a:r>
                <a:rPr b="1" lang="en-US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则： 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1378" name=""/>
            <p:cNvGraphicFramePr/>
            <p:nvPr/>
          </p:nvGraphicFramePr>
          <p:xfrm>
            <a:off x="2522520" y="3200400"/>
            <a:ext cx="450720" cy="541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22520" y="3200400"/>
                      <a:ext cx="450720" cy="54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0" name=""/>
            <p:cNvGraphicFramePr/>
            <p:nvPr/>
          </p:nvGraphicFramePr>
          <p:xfrm>
            <a:off x="3238560" y="3289320"/>
            <a:ext cx="369720" cy="442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38560" y="3289320"/>
                      <a:ext cx="36972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2" name=""/>
            <p:cNvGraphicFramePr/>
            <p:nvPr/>
          </p:nvGraphicFramePr>
          <p:xfrm>
            <a:off x="4525920" y="3324240"/>
            <a:ext cx="419040" cy="303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8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25920" y="3324240"/>
                      <a:ext cx="419040" cy="30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4" name=""/>
            <p:cNvGraphicFramePr/>
            <p:nvPr/>
          </p:nvGraphicFramePr>
          <p:xfrm>
            <a:off x="5219640" y="3297240"/>
            <a:ext cx="432000" cy="368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8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19640" y="3297240"/>
                      <a:ext cx="43200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6" name=""/>
            <p:cNvGraphicFramePr/>
            <p:nvPr/>
          </p:nvGraphicFramePr>
          <p:xfrm>
            <a:off x="6300720" y="3325680"/>
            <a:ext cx="200160" cy="378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8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00720" y="3325680"/>
                      <a:ext cx="200160" cy="3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8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1389" name=""/>
          <p:cNvGrpSpPr/>
          <p:nvPr/>
        </p:nvGrpSpPr>
        <p:grpSpPr>
          <a:xfrm>
            <a:off x="2411280" y="3933720"/>
            <a:ext cx="3889440" cy="982800"/>
            <a:chOff x="2411280" y="3933720"/>
            <a:chExt cx="3889440" cy="982800"/>
          </a:xfrm>
        </p:grpSpPr>
        <p:graphicFrame>
          <p:nvGraphicFramePr>
            <p:cNvPr id="1390" name=""/>
            <p:cNvGraphicFramePr/>
            <p:nvPr/>
          </p:nvGraphicFramePr>
          <p:xfrm>
            <a:off x="2411280" y="3933720"/>
            <a:ext cx="3889440" cy="982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9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411280" y="3933720"/>
                      <a:ext cx="3889440" cy="98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92" name="" descr=""/>
            <p:cNvPicPr/>
            <p:nvPr/>
          </p:nvPicPr>
          <p:blipFill>
            <a:blip r:embed="rId13"/>
            <a:stretch/>
          </p:blipFill>
          <p:spPr>
            <a:xfrm>
              <a:off x="2987640" y="4149720"/>
              <a:ext cx="50472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3" name=""/>
          <p:cNvGrpSpPr/>
          <p:nvPr/>
        </p:nvGrpSpPr>
        <p:grpSpPr>
          <a:xfrm>
            <a:off x="2338560" y="2019240"/>
            <a:ext cx="4321080" cy="934920"/>
            <a:chOff x="2338560" y="2019240"/>
            <a:chExt cx="4321080" cy="934920"/>
          </a:xfrm>
        </p:grpSpPr>
        <p:graphicFrame>
          <p:nvGraphicFramePr>
            <p:cNvPr id="1394" name=""/>
            <p:cNvGraphicFramePr/>
            <p:nvPr/>
          </p:nvGraphicFramePr>
          <p:xfrm>
            <a:off x="2338560" y="2019240"/>
            <a:ext cx="4321080" cy="9349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395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338560" y="2019240"/>
                      <a:ext cx="4321080" cy="93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96" name="" descr=""/>
            <p:cNvPicPr/>
            <p:nvPr/>
          </p:nvPicPr>
          <p:blipFill>
            <a:blip r:embed="rId16"/>
            <a:stretch/>
          </p:blipFill>
          <p:spPr>
            <a:xfrm>
              <a:off x="3492360" y="2276640"/>
              <a:ext cx="371520" cy="55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7" name=""/>
          <p:cNvGrpSpPr/>
          <p:nvPr/>
        </p:nvGrpSpPr>
        <p:grpSpPr>
          <a:xfrm>
            <a:off x="1189080" y="1379520"/>
            <a:ext cx="7704000" cy="482760"/>
            <a:chOff x="1189080" y="1379520"/>
            <a:chExt cx="7704000" cy="482760"/>
          </a:xfrm>
        </p:grpSpPr>
        <p:sp>
          <p:nvSpPr>
            <p:cNvPr id="1398" name=""/>
            <p:cNvSpPr/>
            <p:nvPr/>
          </p:nvSpPr>
          <p:spPr>
            <a:xfrm>
              <a:off x="1189080" y="1379520"/>
              <a:ext cx="770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5.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若          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为任一   元非零常向量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比值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1399" name=""/>
            <p:cNvGraphicFramePr/>
            <p:nvPr/>
          </p:nvGraphicFramePr>
          <p:xfrm>
            <a:off x="2070000" y="1436760"/>
            <a:ext cx="1565280" cy="425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40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70000" y="1436760"/>
                      <a:ext cx="1565280" cy="4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01" name=""/>
            <p:cNvGraphicFramePr/>
            <p:nvPr/>
          </p:nvGraphicFramePr>
          <p:xfrm>
            <a:off x="3708360" y="1484280"/>
            <a:ext cx="311040" cy="3589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402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708360" y="1484280"/>
                      <a:ext cx="31104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03" name=""/>
            <p:cNvGraphicFramePr/>
            <p:nvPr/>
          </p:nvGraphicFramePr>
          <p:xfrm>
            <a:off x="5003640" y="1484280"/>
            <a:ext cx="355680" cy="3780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404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003640" y="1484280"/>
                      <a:ext cx="355680" cy="3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05" name="" descr=""/>
            <p:cNvPicPr/>
            <p:nvPr/>
          </p:nvPicPr>
          <p:blipFill>
            <a:blip r:embed="rId23"/>
            <a:stretch/>
          </p:blipFill>
          <p:spPr>
            <a:xfrm>
              <a:off x="2340000" y="1463760"/>
              <a:ext cx="216000" cy="3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6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407" name="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408" name="" descr="">
            <a:hlinkClick r:id="" action="ppaction://hlinkshowjump?jump=previousslide"/>
          </p:cNvPr>
          <p:cNvPicPr/>
          <p:nvPr/>
        </p:nvPicPr>
        <p:blipFill>
          <a:blip r:embed="rId26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409" name="" descr="">
            <a:hlinkClick r:id="" action="ppaction://hlinkshowjump?jump=endshow"/>
          </p:cNvPr>
          <p:cNvPicPr/>
          <p:nvPr/>
        </p:nvPicPr>
        <p:blipFill>
          <a:blip r:embed="rId27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410" name="" descr="">
            <a:hlinkClick r:id="" action="ppaction://hlinkshowjump?jump=nextslide"/>
          </p:cNvPr>
          <p:cNvPicPr/>
          <p:nvPr/>
        </p:nvPicPr>
        <p:blipFill>
          <a:blip r:embed="rId28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411" name="" descr="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6946-69CF-471C-BFF1-CD8567F2887B}" type="slidenum">
              <a:t>6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B9D8E-6F30-4330-AF3E-4BC41628135B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324000" y="1773360"/>
            <a:ext cx="8513640" cy="2332080"/>
            <a:chOff x="324000" y="1773360"/>
            <a:chExt cx="8513640" cy="2332080"/>
          </a:xfrm>
        </p:grpSpPr>
        <p:sp>
          <p:nvSpPr>
            <p:cNvPr id="1430" name=""/>
            <p:cNvSpPr/>
            <p:nvPr/>
          </p:nvSpPr>
          <p:spPr>
            <a:xfrm>
              <a:off x="324000" y="1773360"/>
              <a:ext cx="849600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  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在数理统计中</a:t>
              </a:r>
              <a:r>
                <a:rPr b="1" lang="en-US" sz="24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若                </a:t>
              </a:r>
              <a:r>
                <a:rPr b="1" lang="en-US" sz="24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,              ,</a:t>
              </a:r>
              <a:r>
                <a:rPr b="1" lang="zh-CN" sz="24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且    与    相互独立</a:t>
              </a:r>
              <a:r>
                <a:rPr b="1" lang="en-US" sz="24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则称 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       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服从自由度为    的    分布</a:t>
              </a:r>
              <a:r>
                <a:rPr b="1" lang="en-US" sz="24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又称为学生分布</a:t>
              </a:r>
              <a:r>
                <a:rPr b="1" lang="en-US" sz="24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(student distribution),</a:t>
              </a:r>
              <a:r>
                <a:rPr b="1" lang="zh-CN" sz="24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记为             </a:t>
              </a:r>
              <a:r>
                <a:rPr b="1" lang="en-US" sz="24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.</a:t>
              </a:r>
              <a:r>
                <a:rPr b="1" lang="zh-CN" sz="24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如果将    平方</a:t>
              </a:r>
              <a:r>
                <a:rPr b="1" lang="en-US" sz="24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即               </a:t>
              </a:r>
              <a:r>
                <a:rPr b="1" lang="en-US" sz="24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则              </a:t>
              </a:r>
              <a:r>
                <a:rPr b="1" lang="en-US" sz="24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即        分布的平方服从第一自由度为</a:t>
              </a:r>
              <a:r>
                <a:rPr b="1" lang="en-US" sz="24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第二自由度为    的中心分布</a:t>
              </a:r>
              <a:r>
                <a:rPr b="1" lang="en-US" sz="24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. 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1431" name=""/>
            <p:cNvGraphicFramePr/>
            <p:nvPr/>
          </p:nvGraphicFramePr>
          <p:xfrm>
            <a:off x="8477280" y="3672000"/>
            <a:ext cx="360360" cy="360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477280" y="3672000"/>
                      <a:ext cx="36036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3" name=""/>
            <p:cNvGraphicFramePr/>
            <p:nvPr/>
          </p:nvGraphicFramePr>
          <p:xfrm>
            <a:off x="3059280" y="1954080"/>
            <a:ext cx="1296720" cy="354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59280" y="1954080"/>
                      <a:ext cx="129672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5" name=""/>
            <p:cNvGraphicFramePr/>
            <p:nvPr/>
          </p:nvGraphicFramePr>
          <p:xfrm>
            <a:off x="4356000" y="1925640"/>
            <a:ext cx="1079640" cy="380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3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56000" y="1925640"/>
                      <a:ext cx="1079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7" name=""/>
            <p:cNvGraphicFramePr/>
            <p:nvPr/>
          </p:nvGraphicFramePr>
          <p:xfrm>
            <a:off x="5770440" y="1941480"/>
            <a:ext cx="360360" cy="322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3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70440" y="1941480"/>
                      <a:ext cx="360360" cy="32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9" name=""/>
            <p:cNvGraphicFramePr/>
            <p:nvPr/>
          </p:nvGraphicFramePr>
          <p:xfrm>
            <a:off x="6516720" y="1989000"/>
            <a:ext cx="270000" cy="306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4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516720" y="1989000"/>
                      <a:ext cx="270000" cy="30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1" name=""/>
            <p:cNvGraphicFramePr/>
            <p:nvPr/>
          </p:nvGraphicFramePr>
          <p:xfrm>
            <a:off x="468360" y="2565360"/>
            <a:ext cx="792000" cy="528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4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68360" y="2565360"/>
                      <a:ext cx="792000" cy="52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3" name=""/>
            <p:cNvGraphicFramePr/>
            <p:nvPr/>
          </p:nvGraphicFramePr>
          <p:xfrm>
            <a:off x="3059280" y="2708280"/>
            <a:ext cx="249120" cy="2872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4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059280" y="2708280"/>
                      <a:ext cx="249120" cy="28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5" name=""/>
            <p:cNvGraphicFramePr/>
            <p:nvPr/>
          </p:nvGraphicFramePr>
          <p:xfrm>
            <a:off x="3772080" y="2637000"/>
            <a:ext cx="207720" cy="3682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46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772080" y="2637000"/>
                      <a:ext cx="20772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7" name=""/>
            <p:cNvGraphicFramePr/>
            <p:nvPr/>
          </p:nvGraphicFramePr>
          <p:xfrm>
            <a:off x="2771640" y="3165480"/>
            <a:ext cx="935280" cy="4046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44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771640" y="3165480"/>
                      <a:ext cx="935280" cy="40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9" name=""/>
            <p:cNvGraphicFramePr/>
            <p:nvPr/>
          </p:nvGraphicFramePr>
          <p:xfrm>
            <a:off x="4741920" y="3151080"/>
            <a:ext cx="333360" cy="3780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45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741920" y="3151080"/>
                      <a:ext cx="333360" cy="3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1" name=""/>
            <p:cNvGraphicFramePr/>
            <p:nvPr/>
          </p:nvGraphicFramePr>
          <p:xfrm>
            <a:off x="6072120" y="3094200"/>
            <a:ext cx="1079640" cy="4539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45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072120" y="3094200"/>
                      <a:ext cx="107964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3" name=""/>
            <p:cNvGraphicFramePr/>
            <p:nvPr/>
          </p:nvGraphicFramePr>
          <p:xfrm>
            <a:off x="7558200" y="3100320"/>
            <a:ext cx="1079280" cy="4478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454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558200" y="3100320"/>
                      <a:ext cx="107928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5" name=""/>
            <p:cNvGraphicFramePr/>
            <p:nvPr/>
          </p:nvGraphicFramePr>
          <p:xfrm>
            <a:off x="781200" y="3666960"/>
            <a:ext cx="502920" cy="3654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456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781200" y="3666960"/>
                      <a:ext cx="50292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7" name=""/>
            <p:cNvGraphicFramePr/>
            <p:nvPr/>
          </p:nvGraphicFramePr>
          <p:xfrm>
            <a:off x="7296120" y="3672000"/>
            <a:ext cx="312840" cy="3603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458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7296120" y="3672000"/>
                      <a:ext cx="31284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59" name="" descr=""/>
            <p:cNvPicPr/>
            <p:nvPr/>
          </p:nvPicPr>
          <p:blipFill>
            <a:blip r:embed="rId29"/>
            <a:stretch/>
          </p:blipFill>
          <p:spPr>
            <a:xfrm>
              <a:off x="3348000" y="1916280"/>
              <a:ext cx="21924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0" name="" descr=""/>
            <p:cNvPicPr/>
            <p:nvPr/>
          </p:nvPicPr>
          <p:blipFill>
            <a:blip r:embed="rId30"/>
            <a:stretch/>
          </p:blipFill>
          <p:spPr>
            <a:xfrm>
              <a:off x="4572000" y="1940040"/>
              <a:ext cx="21924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1" name="" descr=""/>
            <p:cNvPicPr/>
            <p:nvPr/>
          </p:nvPicPr>
          <p:blipFill>
            <a:blip r:embed="rId31"/>
            <a:stretch/>
          </p:blipFill>
          <p:spPr>
            <a:xfrm>
              <a:off x="2987640" y="3164040"/>
              <a:ext cx="21924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2" name="" descr=""/>
            <p:cNvPicPr/>
            <p:nvPr/>
          </p:nvPicPr>
          <p:blipFill>
            <a:blip r:embed="rId32"/>
            <a:stretch/>
          </p:blipFill>
          <p:spPr>
            <a:xfrm>
              <a:off x="7786800" y="3125880"/>
              <a:ext cx="218880" cy="36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3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464" name="" descr="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465" name="" descr="">
            <a:hlinkClick r:id="" action="ppaction://hlinkshowjump?jump=previousslide"/>
          </p:cNvPr>
          <p:cNvPicPr/>
          <p:nvPr/>
        </p:nvPicPr>
        <p:blipFill>
          <a:blip r:embed="rId3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466" name="" descr="">
            <a:hlinkClick r:id="" action="ppaction://hlinkshowjump?jump=endshow"/>
          </p:cNvPr>
          <p:cNvPicPr/>
          <p:nvPr/>
        </p:nvPicPr>
        <p:blipFill>
          <a:blip r:embed="rId3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467" name="" descr="">
            <a:hlinkClick r:id="" action="ppaction://hlinkshowjump?jump=nextslide"/>
          </p:cNvPr>
          <p:cNvPicPr/>
          <p:nvPr/>
        </p:nvPicPr>
        <p:blipFill>
          <a:blip r:embed="rId3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468" name="" descr="">
            <a:hlinkClick r:id="rId38" action="ppaction://hlinksldjump"/>
          </p:cNvPr>
          <p:cNvPicPr/>
          <p:nvPr/>
        </p:nvPicPr>
        <p:blipFill>
          <a:blip r:embed="rId39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1469" name=""/>
          <p:cNvSpPr/>
          <p:nvPr/>
        </p:nvSpPr>
        <p:spPr>
          <a:xfrm>
            <a:off x="3646080" y="692280"/>
            <a:ext cx="23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fafa"/>
                </a:solidFill>
                <a:latin typeface="Arial"/>
                <a:ea typeface="黑体"/>
              </a:rPr>
              <a:t>二、     分布与     分布</a:t>
            </a:r>
            <a:endParaRPr b="0" lang="en-US" sz="2800" spc="-1" strike="noStrike">
              <a:solidFill>
                <a:srgbClr val="f4fafa"/>
              </a:solidFill>
              <a:latin typeface="Arial"/>
            </a:endParaRPr>
          </a:p>
        </p:txBody>
      </p:sp>
      <p:graphicFrame>
        <p:nvGraphicFramePr>
          <p:cNvPr id="1470" name=""/>
          <p:cNvGraphicFramePr/>
          <p:nvPr/>
        </p:nvGraphicFramePr>
        <p:xfrm>
          <a:off x="5392800" y="765000"/>
          <a:ext cx="403200" cy="50328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1471" name="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5392800" y="765000"/>
                    <a:ext cx="403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DA7A-C5D4-4785-AC7F-C3276878CC1A}" type="slidenum">
              <a:t>6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24E7D-6B87-4D37-BFA9-3A13F7FBB4D5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2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1481" name=""/>
          <p:cNvGrpSpPr/>
          <p:nvPr/>
        </p:nvGrpSpPr>
        <p:grpSpPr>
          <a:xfrm>
            <a:off x="1042920" y="3716280"/>
            <a:ext cx="6481800" cy="1972800"/>
            <a:chOff x="1042920" y="3716280"/>
            <a:chExt cx="6481800" cy="1972800"/>
          </a:xfrm>
        </p:grpSpPr>
        <p:sp>
          <p:nvSpPr>
            <p:cNvPr id="1482" name=""/>
            <p:cNvSpPr/>
            <p:nvPr/>
          </p:nvSpPr>
          <p:spPr>
            <a:xfrm>
              <a:off x="1042920" y="3716280"/>
              <a:ext cx="60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中心  分布可化为中心  分布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其关系为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: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1483" name=""/>
            <p:cNvGraphicFramePr/>
            <p:nvPr/>
          </p:nvGraphicFramePr>
          <p:xfrm>
            <a:off x="1781280" y="3765600"/>
            <a:ext cx="358560" cy="35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81280" y="3765600"/>
                      <a:ext cx="35856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5" name=""/>
            <p:cNvGraphicFramePr/>
            <p:nvPr/>
          </p:nvGraphicFramePr>
          <p:xfrm>
            <a:off x="4173480" y="3776760"/>
            <a:ext cx="360360" cy="360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73480" y="3776760"/>
                      <a:ext cx="36036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7" name=""/>
            <p:cNvGraphicFramePr/>
            <p:nvPr/>
          </p:nvGraphicFramePr>
          <p:xfrm>
            <a:off x="2268360" y="4292640"/>
            <a:ext cx="4319640" cy="730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8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68360" y="4292640"/>
                      <a:ext cx="4319640" cy="73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9" name=""/>
            <p:cNvSpPr/>
            <p:nvPr/>
          </p:nvSpPr>
          <p:spPr>
            <a:xfrm>
              <a:off x="1044720" y="5229360"/>
              <a:ext cx="64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显然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当     时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有            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1490" name=""/>
            <p:cNvGraphicFramePr/>
            <p:nvPr/>
          </p:nvGraphicFramePr>
          <p:xfrm>
            <a:off x="2243160" y="5256360"/>
            <a:ext cx="719280" cy="419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9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43160" y="5256360"/>
                      <a:ext cx="71928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2" name=""/>
            <p:cNvGraphicFramePr/>
            <p:nvPr/>
          </p:nvGraphicFramePr>
          <p:xfrm>
            <a:off x="3767040" y="5281560"/>
            <a:ext cx="1871640" cy="405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9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767040" y="5281560"/>
                      <a:ext cx="1871640" cy="40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94" name=""/>
          <p:cNvGrpSpPr/>
          <p:nvPr/>
        </p:nvGrpSpPr>
        <p:grpSpPr>
          <a:xfrm>
            <a:off x="468360" y="1341360"/>
            <a:ext cx="8097840" cy="1381320"/>
            <a:chOff x="468360" y="1341360"/>
            <a:chExt cx="8097840" cy="1381320"/>
          </a:xfrm>
        </p:grpSpPr>
        <p:sp>
          <p:nvSpPr>
            <p:cNvPr id="1495" name=""/>
            <p:cNvSpPr/>
            <p:nvPr/>
          </p:nvSpPr>
          <p:spPr>
            <a:xfrm>
              <a:off x="468360" y="1341360"/>
              <a:ext cx="80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定义</a:t>
              </a:r>
              <a:r>
                <a:rPr b="1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5.8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设          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         ,    ,    ,    ,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与相互独立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则称随机变量 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1496" name=""/>
            <p:cNvGraphicFramePr/>
            <p:nvPr/>
          </p:nvGraphicFramePr>
          <p:xfrm>
            <a:off x="2124000" y="1438200"/>
            <a:ext cx="1513080" cy="411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9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124000" y="1438200"/>
                      <a:ext cx="1513080" cy="41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8" name=""/>
            <p:cNvGraphicFramePr/>
            <p:nvPr/>
          </p:nvGraphicFramePr>
          <p:xfrm>
            <a:off x="3746520" y="1434960"/>
            <a:ext cx="1368360" cy="409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9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746520" y="1434960"/>
                      <a:ext cx="1368360" cy="4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0" name=""/>
            <p:cNvGraphicFramePr/>
            <p:nvPr/>
          </p:nvGraphicFramePr>
          <p:xfrm>
            <a:off x="5292720" y="1460520"/>
            <a:ext cx="647640" cy="3412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50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292720" y="1460520"/>
                      <a:ext cx="647640" cy="34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2" name=""/>
            <p:cNvGraphicFramePr/>
            <p:nvPr/>
          </p:nvGraphicFramePr>
          <p:xfrm>
            <a:off x="6059520" y="1490760"/>
            <a:ext cx="647640" cy="3236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3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059520" y="1490760"/>
                      <a:ext cx="64764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4" name=""/>
            <p:cNvGraphicFramePr/>
            <p:nvPr/>
          </p:nvGraphicFramePr>
          <p:xfrm>
            <a:off x="6732720" y="1484280"/>
            <a:ext cx="761760" cy="3430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50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732720" y="1484280"/>
                      <a:ext cx="7617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6" name=""/>
            <p:cNvGraphicFramePr/>
            <p:nvPr/>
          </p:nvGraphicFramePr>
          <p:xfrm>
            <a:off x="7616880" y="1433520"/>
            <a:ext cx="360360" cy="3603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507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16880" y="1433520"/>
                      <a:ext cx="36036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8" name=""/>
            <p:cNvGraphicFramePr/>
            <p:nvPr/>
          </p:nvGraphicFramePr>
          <p:xfrm>
            <a:off x="8205840" y="1425600"/>
            <a:ext cx="360360" cy="3222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509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205840" y="1425600"/>
                      <a:ext cx="360360" cy="32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0" name=""/>
            <p:cNvGraphicFramePr/>
            <p:nvPr/>
          </p:nvGraphicFramePr>
          <p:xfrm>
            <a:off x="1835280" y="2133720"/>
            <a:ext cx="2376360" cy="588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511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1835280" y="2133720"/>
                      <a:ext cx="237636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2" name=""/>
            <p:cNvSpPr/>
            <p:nvPr/>
          </p:nvSpPr>
          <p:spPr>
            <a:xfrm>
              <a:off x="5314320" y="212760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 </a:t>
              </a:r>
              <a:r>
                <a:rPr b="0" lang="en-US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(5.33)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pic>
          <p:nvPicPr>
            <p:cNvPr id="1513" name="" descr=""/>
            <p:cNvPicPr/>
            <p:nvPr/>
          </p:nvPicPr>
          <p:blipFill>
            <a:blip r:embed="rId27"/>
            <a:stretch/>
          </p:blipFill>
          <p:spPr>
            <a:xfrm>
              <a:off x="2411280" y="1413000"/>
              <a:ext cx="21924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" descr=""/>
            <p:cNvPicPr/>
            <p:nvPr/>
          </p:nvPicPr>
          <p:blipFill>
            <a:blip r:embed="rId28"/>
            <a:stretch/>
          </p:blipFill>
          <p:spPr>
            <a:xfrm>
              <a:off x="3957480" y="1382760"/>
              <a:ext cx="219240" cy="36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5" name=""/>
          <p:cNvGrpSpPr/>
          <p:nvPr/>
        </p:nvGrpSpPr>
        <p:grpSpPr>
          <a:xfrm>
            <a:off x="468360" y="2781360"/>
            <a:ext cx="8136000" cy="884160"/>
            <a:chOff x="468360" y="2781360"/>
            <a:chExt cx="8136000" cy="884160"/>
          </a:xfrm>
        </p:grpSpPr>
        <p:sp>
          <p:nvSpPr>
            <p:cNvPr id="1516" name=""/>
            <p:cNvSpPr/>
            <p:nvPr/>
          </p:nvSpPr>
          <p:spPr>
            <a:xfrm>
              <a:off x="468360" y="2781360"/>
              <a:ext cx="813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所服从的分布称为第一自由度为  第二自由度为  的中心  分布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记为 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1517" name=""/>
            <p:cNvGraphicFramePr/>
            <p:nvPr/>
          </p:nvGraphicFramePr>
          <p:xfrm>
            <a:off x="5435640" y="2857680"/>
            <a:ext cx="355680" cy="3776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518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5435640" y="2857680"/>
                      <a:ext cx="355680" cy="37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9" name=""/>
            <p:cNvGraphicFramePr/>
            <p:nvPr/>
          </p:nvGraphicFramePr>
          <p:xfrm>
            <a:off x="7596360" y="2857680"/>
            <a:ext cx="311040" cy="35856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520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7596360" y="2857680"/>
                      <a:ext cx="31104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1" name=""/>
            <p:cNvGraphicFramePr/>
            <p:nvPr/>
          </p:nvGraphicFramePr>
          <p:xfrm>
            <a:off x="1217520" y="3213000"/>
            <a:ext cx="360360" cy="36036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522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1217520" y="3213000"/>
                      <a:ext cx="36036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3" name=""/>
            <p:cNvGraphicFramePr/>
            <p:nvPr/>
          </p:nvGraphicFramePr>
          <p:xfrm>
            <a:off x="2843280" y="3195720"/>
            <a:ext cx="1368360" cy="46980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1524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2843280" y="3195720"/>
                      <a:ext cx="136836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25" name="" descr=""/>
            <p:cNvPicPr/>
            <p:nvPr/>
          </p:nvPicPr>
          <p:blipFill>
            <a:blip r:embed="rId37"/>
            <a:stretch/>
          </p:blipFill>
          <p:spPr>
            <a:xfrm>
              <a:off x="3132000" y="3233880"/>
              <a:ext cx="219240" cy="36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6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527" name="" descr="">
            <a:hlinkClick r:id="rId38" action="ppaction://hlinksldjump"/>
          </p:cNvPr>
          <p:cNvPicPr/>
          <p:nvPr/>
        </p:nvPicPr>
        <p:blipFill>
          <a:blip r:embed="rId39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528" name="" descr="">
            <a:hlinkClick r:id="" action="ppaction://hlinkshowjump?jump=previousslide"/>
          </p:cNvPr>
          <p:cNvPicPr/>
          <p:nvPr/>
        </p:nvPicPr>
        <p:blipFill>
          <a:blip r:embed="rId40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529" name="" descr="">
            <a:hlinkClick r:id="" action="ppaction://hlinkshowjump?jump=endshow"/>
          </p:cNvPr>
          <p:cNvPicPr/>
          <p:nvPr/>
        </p:nvPicPr>
        <p:blipFill>
          <a:blip r:embed="rId41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530" name="" descr="">
            <a:hlinkClick r:id="" action="ppaction://hlinkshowjump?jump=nextslide"/>
          </p:cNvPr>
          <p:cNvPicPr/>
          <p:nvPr/>
        </p:nvPicPr>
        <p:blipFill>
          <a:blip r:embed="rId42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531" name="" descr="">
            <a:hlinkClick r:id="rId43" action="ppaction://hlinksldjump"/>
          </p:cNvPr>
          <p:cNvPicPr/>
          <p:nvPr/>
        </p:nvPicPr>
        <p:blipFill>
          <a:blip r:embed="rId44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AD35-F24C-4CE9-B55D-CA38BD85405D}" type="slidenum">
              <a:t>6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E5499-B3E1-4870-9134-BA5EE561F351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9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1536" name=""/>
          <p:cNvGrpSpPr/>
          <p:nvPr/>
        </p:nvGrpSpPr>
        <p:grpSpPr>
          <a:xfrm>
            <a:off x="2627280" y="404640"/>
            <a:ext cx="5464080" cy="673200"/>
            <a:chOff x="2627280" y="404640"/>
            <a:chExt cx="5464080" cy="673200"/>
          </a:xfrm>
        </p:grpSpPr>
        <p:sp>
          <p:nvSpPr>
            <p:cNvPr id="1537" name=""/>
            <p:cNvSpPr/>
            <p:nvPr/>
          </p:nvSpPr>
          <p:spPr>
            <a:xfrm>
              <a:off x="2627280" y="404640"/>
              <a:ext cx="54640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F</a:t>
              </a:r>
              <a:r>
                <a:rPr b="1" lang="zh-CN" sz="3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中心分布与</a:t>
              </a:r>
              <a:r>
                <a:rPr b="1" lang="en-US" sz="3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Wilks</a:t>
              </a:r>
              <a:r>
                <a:rPr b="1" lang="zh-CN" sz="3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分布</a:t>
              </a:r>
              <a:endParaRPr b="0" lang="en-US" sz="38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1538" name=""/>
            <p:cNvGraphicFramePr/>
            <p:nvPr/>
          </p:nvGraphicFramePr>
          <p:xfrm>
            <a:off x="4246560" y="495360"/>
            <a:ext cx="259560" cy="54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46560" y="495360"/>
                      <a:ext cx="259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4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755640" y="1844640"/>
            <a:ext cx="7201080" cy="2270160"/>
            <a:chOff x="755640" y="1844640"/>
            <a:chExt cx="7201080" cy="2270160"/>
          </a:xfrm>
        </p:grpSpPr>
        <p:sp>
          <p:nvSpPr>
            <p:cNvPr id="1547" name=""/>
            <p:cNvSpPr/>
            <p:nvPr/>
          </p:nvSpPr>
          <p:spPr>
            <a:xfrm>
              <a:off x="755640" y="1844640"/>
              <a:ext cx="7201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在数理统计中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若        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        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且与相互独立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则称       所服从的分布为第一自由度为  第二自由度为  的中心  分布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.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记为         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.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分布本质上是从正态总体        随机抽取的两个样本方差的比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. 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1548" name=""/>
            <p:cNvGraphicFramePr/>
            <p:nvPr/>
          </p:nvGraphicFramePr>
          <p:xfrm>
            <a:off x="3757680" y="2066760"/>
            <a:ext cx="1152360" cy="39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57680" y="2066760"/>
                      <a:ext cx="1152360" cy="3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0" name=""/>
            <p:cNvGraphicFramePr/>
            <p:nvPr/>
          </p:nvGraphicFramePr>
          <p:xfrm>
            <a:off x="5084640" y="2036880"/>
            <a:ext cx="1224000" cy="431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84640" y="2036880"/>
                      <a:ext cx="12240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2" name=""/>
            <p:cNvGraphicFramePr/>
            <p:nvPr/>
          </p:nvGraphicFramePr>
          <p:xfrm>
            <a:off x="2268360" y="2460600"/>
            <a:ext cx="1008360" cy="75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5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68360" y="2460600"/>
                      <a:ext cx="1008360" cy="75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4" name=""/>
            <p:cNvGraphicFramePr/>
            <p:nvPr/>
          </p:nvGraphicFramePr>
          <p:xfrm>
            <a:off x="7210440" y="2654280"/>
            <a:ext cx="398520" cy="351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5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10440" y="2654280"/>
                      <a:ext cx="398520" cy="35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6" name=""/>
            <p:cNvGraphicFramePr/>
            <p:nvPr/>
          </p:nvGraphicFramePr>
          <p:xfrm>
            <a:off x="2340000" y="3213000"/>
            <a:ext cx="311040" cy="358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5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340000" y="3213000"/>
                      <a:ext cx="31104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8" name=""/>
            <p:cNvGraphicFramePr/>
            <p:nvPr/>
          </p:nvGraphicFramePr>
          <p:xfrm>
            <a:off x="3635280" y="3141720"/>
            <a:ext cx="360360" cy="360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55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635280" y="3141720"/>
                      <a:ext cx="36036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60" name=""/>
            <p:cNvGraphicFramePr/>
            <p:nvPr/>
          </p:nvGraphicFramePr>
          <p:xfrm>
            <a:off x="6804000" y="3141720"/>
            <a:ext cx="360360" cy="360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56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804000" y="3141720"/>
                      <a:ext cx="36036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62" name=""/>
            <p:cNvGraphicFramePr/>
            <p:nvPr/>
          </p:nvGraphicFramePr>
          <p:xfrm>
            <a:off x="3597120" y="3683160"/>
            <a:ext cx="1152720" cy="4316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63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597120" y="3683160"/>
                      <a:ext cx="115272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64" name="" descr=""/>
            <p:cNvPicPr/>
            <p:nvPr/>
          </p:nvPicPr>
          <p:blipFill>
            <a:blip r:embed="rId19"/>
            <a:stretch/>
          </p:blipFill>
          <p:spPr>
            <a:xfrm>
              <a:off x="3995640" y="2075040"/>
              <a:ext cx="21924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5" name="" descr=""/>
            <p:cNvPicPr/>
            <p:nvPr/>
          </p:nvPicPr>
          <p:blipFill>
            <a:blip r:embed="rId20"/>
            <a:stretch/>
          </p:blipFill>
          <p:spPr>
            <a:xfrm>
              <a:off x="5351400" y="2087640"/>
              <a:ext cx="219240" cy="36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6" name=""/>
            <p:cNvGrpSpPr/>
            <p:nvPr/>
          </p:nvGrpSpPr>
          <p:grpSpPr>
            <a:xfrm>
              <a:off x="5364000" y="3141720"/>
              <a:ext cx="1368360" cy="415800"/>
              <a:chOff x="5364000" y="3141720"/>
              <a:chExt cx="1368360" cy="415800"/>
            </a:xfrm>
          </p:grpSpPr>
          <p:graphicFrame>
            <p:nvGraphicFramePr>
              <p:cNvPr id="1567" name=""/>
              <p:cNvGraphicFramePr/>
              <p:nvPr/>
            </p:nvGraphicFramePr>
            <p:xfrm>
              <a:off x="5364000" y="3141720"/>
              <a:ext cx="1368360" cy="41580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568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5364000" y="3141720"/>
                        <a:ext cx="1368360" cy="415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56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5579640" y="3141720"/>
                <a:ext cx="289080" cy="290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70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571" name="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572" name="" descr="">
            <a:hlinkClick r:id="" action="ppaction://hlinkshowjump?jump=previousslide"/>
          </p:cNvPr>
          <p:cNvPicPr/>
          <p:nvPr/>
        </p:nvPicPr>
        <p:blipFill>
          <a:blip r:embed="rId26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573" name="" descr="">
            <a:hlinkClick r:id="" action="ppaction://hlinkshowjump?jump=endshow"/>
          </p:cNvPr>
          <p:cNvPicPr/>
          <p:nvPr/>
        </p:nvPicPr>
        <p:blipFill>
          <a:blip r:embed="rId27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574" name="" descr="">
            <a:hlinkClick r:id="" action="ppaction://hlinkshowjump?jump=nextslide"/>
          </p:cNvPr>
          <p:cNvPicPr/>
          <p:nvPr/>
        </p:nvPicPr>
        <p:blipFill>
          <a:blip r:embed="rId28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575" name="" descr="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B77C-851A-4ED8-9D9B-A302B9614283}" type="slidenum">
              <a:t>6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0F972-531D-4798-BA70-AF7D95AEE0CD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539640" y="4273560"/>
            <a:ext cx="7632720" cy="1100160"/>
            <a:chOff x="539640" y="4273560"/>
            <a:chExt cx="7632720" cy="1100160"/>
          </a:xfrm>
        </p:grpSpPr>
        <p:sp>
          <p:nvSpPr>
            <p:cNvPr id="1578" name=""/>
            <p:cNvSpPr/>
            <p:nvPr/>
          </p:nvSpPr>
          <p:spPr>
            <a:xfrm>
              <a:off x="539640" y="4273560"/>
              <a:ext cx="7632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所服从的分布称为维数为  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第一自由度为  第二自由度为   的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Wilks Λ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分布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记为 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1579" name=""/>
            <p:cNvGraphicFramePr/>
            <p:nvPr/>
          </p:nvGraphicFramePr>
          <p:xfrm>
            <a:off x="4559400" y="4464000"/>
            <a:ext cx="355680" cy="37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59400" y="4464000"/>
                      <a:ext cx="355680" cy="3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81" name=""/>
            <p:cNvGraphicFramePr/>
            <p:nvPr/>
          </p:nvGraphicFramePr>
          <p:xfrm>
            <a:off x="6877080" y="4327560"/>
            <a:ext cx="392040" cy="588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77080" y="4327560"/>
                      <a:ext cx="39204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83" name=""/>
            <p:cNvGraphicFramePr/>
            <p:nvPr/>
          </p:nvGraphicFramePr>
          <p:xfrm>
            <a:off x="1895400" y="4802400"/>
            <a:ext cx="385920" cy="558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8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95400" y="4802400"/>
                      <a:ext cx="38592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85" name=""/>
            <p:cNvGraphicFramePr/>
            <p:nvPr/>
          </p:nvGraphicFramePr>
          <p:xfrm>
            <a:off x="5280120" y="4942080"/>
            <a:ext cx="1871640" cy="431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80120" y="4942080"/>
                      <a:ext cx="187164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87" name="" descr=""/>
            <p:cNvPicPr/>
            <p:nvPr/>
          </p:nvPicPr>
          <p:blipFill>
            <a:blip r:embed="rId9"/>
            <a:stretch/>
          </p:blipFill>
          <p:spPr>
            <a:xfrm>
              <a:off x="5580000" y="4940280"/>
              <a:ext cx="219240" cy="3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8" name=""/>
          <p:cNvGrpSpPr/>
          <p:nvPr/>
        </p:nvGrpSpPr>
        <p:grpSpPr>
          <a:xfrm>
            <a:off x="1763640" y="2855880"/>
            <a:ext cx="4974480" cy="860400"/>
            <a:chOff x="1763640" y="2855880"/>
            <a:chExt cx="4974480" cy="860400"/>
          </a:xfrm>
        </p:grpSpPr>
        <p:graphicFrame>
          <p:nvGraphicFramePr>
            <p:cNvPr id="1589" name=""/>
            <p:cNvGraphicFramePr/>
            <p:nvPr/>
          </p:nvGraphicFramePr>
          <p:xfrm>
            <a:off x="1763640" y="2855880"/>
            <a:ext cx="2592360" cy="8604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59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763640" y="2855880"/>
                      <a:ext cx="2592360" cy="86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1" name=""/>
            <p:cNvSpPr/>
            <p:nvPr/>
          </p:nvSpPr>
          <p:spPr>
            <a:xfrm>
              <a:off x="5771160" y="2912040"/>
              <a:ext cx="96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(5.34)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468360" y="1527120"/>
            <a:ext cx="7775640" cy="1117800"/>
            <a:chOff x="468360" y="1527120"/>
            <a:chExt cx="7775640" cy="1117800"/>
          </a:xfrm>
        </p:grpSpPr>
        <p:sp>
          <p:nvSpPr>
            <p:cNvPr id="1593" name=""/>
            <p:cNvSpPr/>
            <p:nvPr/>
          </p:nvSpPr>
          <p:spPr>
            <a:xfrm>
              <a:off x="468360" y="1527120"/>
              <a:ext cx="77756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定义</a:t>
              </a:r>
              <a:r>
                <a:rPr b="1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5.9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设           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          ,     ,     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且   与   相互独立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则称随机变量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1594" name=""/>
            <p:cNvGraphicFramePr/>
            <p:nvPr/>
          </p:nvGraphicFramePr>
          <p:xfrm>
            <a:off x="1666800" y="2154240"/>
            <a:ext cx="430200" cy="4906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59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666800" y="2154240"/>
                      <a:ext cx="430200" cy="49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6" name=""/>
            <p:cNvGraphicFramePr/>
            <p:nvPr/>
          </p:nvGraphicFramePr>
          <p:xfrm>
            <a:off x="7139160" y="1671480"/>
            <a:ext cx="792000" cy="4320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597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7139160" y="1671480"/>
                      <a:ext cx="79200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8" name=""/>
            <p:cNvGraphicFramePr/>
            <p:nvPr/>
          </p:nvGraphicFramePr>
          <p:xfrm>
            <a:off x="2725560" y="1663560"/>
            <a:ext cx="1584360" cy="43200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599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2725560" y="1663560"/>
                      <a:ext cx="158436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00" name=""/>
            <p:cNvGraphicFramePr/>
            <p:nvPr/>
          </p:nvGraphicFramePr>
          <p:xfrm>
            <a:off x="4546440" y="1666800"/>
            <a:ext cx="1440000" cy="47952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601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4546440" y="1666800"/>
                      <a:ext cx="1440000" cy="47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02" name=""/>
            <p:cNvGraphicFramePr/>
            <p:nvPr/>
          </p:nvGraphicFramePr>
          <p:xfrm>
            <a:off x="6189840" y="1704960"/>
            <a:ext cx="720720" cy="36036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603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6189840" y="1704960"/>
                      <a:ext cx="72072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04" name=""/>
            <p:cNvGraphicFramePr/>
            <p:nvPr/>
          </p:nvGraphicFramePr>
          <p:xfrm>
            <a:off x="912960" y="2141640"/>
            <a:ext cx="369720" cy="44424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605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912960" y="2141640"/>
                      <a:ext cx="36972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606" name="" descr=""/>
            <p:cNvPicPr/>
            <p:nvPr/>
          </p:nvPicPr>
          <p:blipFill>
            <a:blip r:embed="rId24"/>
            <a:stretch/>
          </p:blipFill>
          <p:spPr>
            <a:xfrm>
              <a:off x="3025800" y="1687680"/>
              <a:ext cx="21888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7" name="" descr=""/>
            <p:cNvPicPr/>
            <p:nvPr/>
          </p:nvPicPr>
          <p:blipFill>
            <a:blip r:embed="rId25"/>
            <a:stretch/>
          </p:blipFill>
          <p:spPr>
            <a:xfrm>
              <a:off x="4834080" y="1700280"/>
              <a:ext cx="218880" cy="36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8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609" name="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610" name="" descr="">
            <a:hlinkClick r:id="" action="ppaction://hlinkshowjump?jump=previousslide"/>
          </p:cNvPr>
          <p:cNvPicPr/>
          <p:nvPr/>
        </p:nvPicPr>
        <p:blipFill>
          <a:blip r:embed="rId28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611" name="" descr="">
            <a:hlinkClick r:id="" action="ppaction://hlinkshowjump?jump=endshow"/>
          </p:cNvPr>
          <p:cNvPicPr/>
          <p:nvPr/>
        </p:nvPicPr>
        <p:blipFill>
          <a:blip r:embed="rId29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612" name="" descr="">
            <a:hlinkClick r:id="" action="ppaction://hlinkshowjump?jump=nextslide"/>
          </p:cNvPr>
          <p:cNvPicPr/>
          <p:nvPr/>
        </p:nvPicPr>
        <p:blipFill>
          <a:blip r:embed="rId30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613" name="" descr="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CBC5-948C-4E8A-B65B-32694AAA77FA}" type="slidenum">
              <a:t>6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69681-477A-4E46-BA9A-1D1400386DC1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8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3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6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61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618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619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62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1621" name=""/>
          <p:cNvSpPr/>
          <p:nvPr/>
        </p:nvSpPr>
        <p:spPr>
          <a:xfrm>
            <a:off x="684360" y="134136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由于</a:t>
            </a:r>
            <a:r>
              <a:rPr b="0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Λ</a:t>
            </a:r>
            <a:r>
              <a:rPr b="0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分布在多元统计中的重要性</a:t>
            </a:r>
            <a:r>
              <a:rPr b="0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关于它的近似分布和精确分布不断有学者进行研究</a:t>
            </a:r>
            <a:r>
              <a:rPr b="0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当</a:t>
            </a:r>
            <a:r>
              <a:rPr b="0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p</a:t>
            </a:r>
            <a:r>
              <a:rPr b="0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和  中的一个比较小时</a:t>
            </a:r>
            <a:r>
              <a:rPr b="0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, Λ</a:t>
            </a:r>
            <a:r>
              <a:rPr b="0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分布可化为</a:t>
            </a:r>
            <a:r>
              <a:rPr b="0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F</a:t>
            </a:r>
            <a:r>
              <a:rPr b="0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分布</a:t>
            </a:r>
            <a:r>
              <a:rPr b="0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表</a:t>
            </a:r>
            <a:r>
              <a:rPr b="0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5-2</a:t>
            </a:r>
            <a:r>
              <a:rPr b="0" lang="zh-CN" sz="2400" spc="-1" strike="noStrike">
                <a:solidFill>
                  <a:srgbClr val="f4fafa"/>
                </a:solidFill>
                <a:latin typeface="黑体"/>
                <a:ea typeface="黑体"/>
              </a:rPr>
              <a:t>列举了常见的情况</a:t>
            </a:r>
            <a:r>
              <a:rPr b="0" lang="en-US" sz="2400" spc="-1" strike="noStrike">
                <a:solidFill>
                  <a:srgbClr val="f4fafa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1623" name=""/>
          <p:cNvGrpSpPr/>
          <p:nvPr/>
        </p:nvGrpSpPr>
        <p:grpSpPr>
          <a:xfrm>
            <a:off x="1116000" y="2725560"/>
            <a:ext cx="5610240" cy="462240"/>
            <a:chOff x="1116000" y="2725560"/>
            <a:chExt cx="5610240" cy="462240"/>
          </a:xfrm>
        </p:grpSpPr>
        <mc:AlternateContent>
          <mc:Choice xmlns:a14="http://schemas.microsoft.com/office/drawing/2010/main" Requires="a14">
            <p:sp>
              <p:nvSpPr>
                <p:cNvPr id="1624" name=""/>
                <p:cNvSpPr txBox="1"/>
                <p:nvPr/>
              </p:nvSpPr>
              <p:spPr>
                <a:xfrm>
                  <a:off x="2627280" y="2781360"/>
                  <a:ext cx="409896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Λ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与F</m:t>
                      </m:r>
                      <m:r>
                        <m:rPr>
                          <m:lit/>
                          <m:nor/>
                        </m:rPr>
                        <m:t xml:space="preserve">的关系，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25" name=""/>
            <p:cNvSpPr/>
            <p:nvPr/>
          </p:nvSpPr>
          <p:spPr>
            <a:xfrm>
              <a:off x="1116000" y="27255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表</a:t>
              </a:r>
              <a:r>
                <a:rPr b="0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5-2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</p:grpSp>
      <p:pic>
        <p:nvPicPr>
          <p:cNvPr id="1626" name="" descr=""/>
          <p:cNvPicPr/>
          <p:nvPr/>
        </p:nvPicPr>
        <p:blipFill>
          <a:blip r:embed="rId8"/>
          <a:stretch/>
        </p:blipFill>
        <p:spPr>
          <a:xfrm>
            <a:off x="1403280" y="3357720"/>
            <a:ext cx="5472360" cy="282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7" name=""/>
          <p:cNvGraphicFramePr/>
          <p:nvPr/>
        </p:nvGraphicFramePr>
        <p:xfrm>
          <a:off x="6554880" y="1700280"/>
          <a:ext cx="36504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4880" y="1700280"/>
                    <a:ext cx="3650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352F-3430-4060-A829-8CB43285BC09}" type="slidenum">
              <a:t>6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CECC4-06F0-4336-B83A-EF46A706B727}" type="datetime1">
              <a:rPr lang="en-US"/>
              <a:t>07/30/26</a:t>
            </a:fld>
          </a:p>
        </p:txBody>
      </p:sp>
    </p:spTree>
  </p:cSld>
  <p:transition>
    <p:blinds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6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63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632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633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63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163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1637" name=""/>
          <p:cNvGrpSpPr/>
          <p:nvPr/>
        </p:nvGrpSpPr>
        <p:grpSpPr>
          <a:xfrm>
            <a:off x="755640" y="1700280"/>
            <a:ext cx="7754760" cy="2255760"/>
            <a:chOff x="755640" y="1700280"/>
            <a:chExt cx="7754760" cy="2255760"/>
          </a:xfrm>
        </p:grpSpPr>
        <p:sp>
          <p:nvSpPr>
            <p:cNvPr id="1638" name=""/>
            <p:cNvSpPr/>
            <p:nvPr/>
          </p:nvSpPr>
          <p:spPr>
            <a:xfrm>
              <a:off x="755640" y="1700280"/>
              <a:ext cx="76327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当   不属于表</a:t>
              </a:r>
              <a:r>
                <a:rPr b="0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5-2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情况时</a:t>
              </a:r>
              <a:r>
                <a:rPr b="0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 Bartlett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指出用 分布来近似表示</a:t>
              </a:r>
              <a:r>
                <a:rPr b="0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即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近似服从       </a:t>
              </a:r>
              <a:r>
                <a:rPr b="0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.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1639" name=""/>
            <p:cNvGraphicFramePr/>
            <p:nvPr/>
          </p:nvGraphicFramePr>
          <p:xfrm>
            <a:off x="1700280" y="1738440"/>
            <a:ext cx="647640" cy="471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64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700280" y="1738440"/>
                      <a:ext cx="64764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1" name=""/>
            <p:cNvGraphicFramePr/>
            <p:nvPr/>
          </p:nvGraphicFramePr>
          <p:xfrm>
            <a:off x="8121600" y="1712880"/>
            <a:ext cx="388800" cy="444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64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8121600" y="1712880"/>
                      <a:ext cx="38880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3" name=""/>
            <p:cNvGraphicFramePr/>
            <p:nvPr/>
          </p:nvGraphicFramePr>
          <p:xfrm>
            <a:off x="1619280" y="2635560"/>
            <a:ext cx="5400720" cy="6476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644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619280" y="2635560"/>
                      <a:ext cx="540072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5" name=""/>
            <p:cNvGraphicFramePr/>
            <p:nvPr/>
          </p:nvGraphicFramePr>
          <p:xfrm>
            <a:off x="2208240" y="3407040"/>
            <a:ext cx="1295280" cy="5490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646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208240" y="3407040"/>
                      <a:ext cx="1295280" cy="54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47" name="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1648" name=""/>
          <p:cNvGrpSpPr/>
          <p:nvPr/>
        </p:nvGrpSpPr>
        <p:grpSpPr>
          <a:xfrm>
            <a:off x="179280" y="4149720"/>
            <a:ext cx="7777080" cy="900000"/>
            <a:chOff x="179280" y="4149720"/>
            <a:chExt cx="7777080" cy="900000"/>
          </a:xfrm>
        </p:grpSpPr>
        <p:sp>
          <p:nvSpPr>
            <p:cNvPr id="1649" name=""/>
            <p:cNvSpPr/>
            <p:nvPr/>
          </p:nvSpPr>
          <p:spPr>
            <a:xfrm>
              <a:off x="179280" y="4365720"/>
              <a:ext cx="59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</a:t>
              </a:r>
              <a:r>
                <a:rPr b="0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Rao </a:t>
              </a:r>
              <a:r>
                <a:rPr b="0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后来又研究用</a:t>
              </a:r>
              <a:r>
                <a:rPr b="0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F</a:t>
              </a:r>
              <a:r>
                <a:rPr b="0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分布来近似</a:t>
              </a:r>
              <a:r>
                <a:rPr b="0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0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即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1650" name=""/>
            <p:cNvGraphicFramePr/>
            <p:nvPr/>
          </p:nvGraphicFramePr>
          <p:xfrm>
            <a:off x="5651280" y="4149720"/>
            <a:ext cx="2305080" cy="90000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651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5651280" y="4149720"/>
                      <a:ext cx="2305080" cy="90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52" name="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71FE-C65E-4ED0-B6D0-5E3BF8ECF9FE}" type="slidenum">
              <a:t>6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6503B-9941-4859-BCE5-E5AB42CB18EF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6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65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656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657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658" name="" descr=""/>
          <p:cNvPicPr/>
          <p:nvPr/>
        </p:nvPicPr>
        <p:blipFill>
          <a:blip r:embed="rId6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165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aphicFrame>
        <p:nvGraphicFramePr>
          <p:cNvPr id="1664" name=""/>
          <p:cNvGraphicFramePr/>
          <p:nvPr/>
        </p:nvGraphicFramePr>
        <p:xfrm>
          <a:off x="1476360" y="2133720"/>
          <a:ext cx="2879640" cy="23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6360" y="2133720"/>
                    <a:ext cx="2879640" cy="23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66" name=""/>
          <p:cNvGrpSpPr/>
          <p:nvPr/>
        </p:nvGrpSpPr>
        <p:grpSpPr>
          <a:xfrm>
            <a:off x="1523520" y="1483200"/>
            <a:ext cx="2472120" cy="461520"/>
            <a:chOff x="1523520" y="1483200"/>
            <a:chExt cx="2472120" cy="461520"/>
          </a:xfrm>
        </p:grpSpPr>
        <p:sp>
          <p:nvSpPr>
            <p:cNvPr id="1667" name=""/>
            <p:cNvSpPr/>
            <p:nvPr/>
          </p:nvSpPr>
          <p:spPr>
            <a:xfrm>
              <a:off x="1523520" y="1483200"/>
              <a:ext cx="24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4fafa"/>
                  </a:solidFill>
                  <a:latin typeface="宋体"/>
                  <a:ea typeface="黑体"/>
                </a:rPr>
                <a:t>近似服从            </a:t>
              </a:r>
              <a:r>
                <a:rPr b="0" lang="en-US" sz="2400" spc="-1" strike="noStrike">
                  <a:solidFill>
                    <a:srgbClr val="f4fafa"/>
                  </a:solidFill>
                  <a:latin typeface="宋体"/>
                  <a:ea typeface="黑体"/>
                </a:rPr>
                <a:t>,</a:t>
              </a:r>
              <a:r>
                <a:rPr b="0" lang="zh-CN" sz="2400" spc="-1" strike="noStrike">
                  <a:solidFill>
                    <a:srgbClr val="f4fafa"/>
                  </a:solidFill>
                  <a:latin typeface="宋体"/>
                  <a:ea typeface="黑体"/>
                </a:rPr>
                <a:t>其中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1668" name=""/>
            <p:cNvGraphicFramePr/>
            <p:nvPr/>
          </p:nvGraphicFramePr>
          <p:xfrm>
            <a:off x="2339640" y="1551240"/>
            <a:ext cx="1656000" cy="393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6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339640" y="1551240"/>
                      <a:ext cx="165600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7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1671" name=""/>
          <p:cNvGrpSpPr/>
          <p:nvPr/>
        </p:nvGrpSpPr>
        <p:grpSpPr>
          <a:xfrm>
            <a:off x="1042920" y="4869000"/>
            <a:ext cx="6842160" cy="459720"/>
            <a:chOff x="1042920" y="4869000"/>
            <a:chExt cx="6842160" cy="459720"/>
          </a:xfrm>
        </p:grpSpPr>
        <p:sp>
          <p:nvSpPr>
            <p:cNvPr id="1672" name=""/>
            <p:cNvSpPr/>
            <p:nvPr/>
          </p:nvSpPr>
          <p:spPr>
            <a:xfrm>
              <a:off x="1042920" y="4869000"/>
              <a:ext cx="684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  </a:t>
              </a:r>
              <a:r>
                <a:rPr b="0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不一定是整数</a:t>
              </a:r>
              <a:r>
                <a:rPr b="0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0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用与它最近的整数来作为</a:t>
              </a:r>
              <a:r>
                <a:rPr b="0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F</a:t>
              </a:r>
              <a:r>
                <a:rPr b="0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分布的第二自由度</a:t>
              </a:r>
              <a:r>
                <a:rPr b="0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1673" name=""/>
            <p:cNvGraphicFramePr/>
            <p:nvPr/>
          </p:nvGraphicFramePr>
          <p:xfrm>
            <a:off x="1258920" y="4897440"/>
            <a:ext cx="1081080" cy="426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7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58920" y="4897440"/>
                      <a:ext cx="108108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C810-AC63-468F-9191-826220314B3C}" type="slidenum">
              <a:t>6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8F749-AC69-4206-BB7A-224ECF310C66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676" name="" descr=""/>
          <p:cNvPicPr/>
          <p:nvPr/>
        </p:nvPicPr>
        <p:blipFill>
          <a:blip r:embed="rId1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67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678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679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680" name="" descr=""/>
          <p:cNvPicPr/>
          <p:nvPr/>
        </p:nvPicPr>
        <p:blipFill>
          <a:blip r:embed="rId5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1690" name=""/>
          <p:cNvGrpSpPr/>
          <p:nvPr/>
        </p:nvGrpSpPr>
        <p:grpSpPr>
          <a:xfrm>
            <a:off x="971640" y="2060640"/>
            <a:ext cx="7561080" cy="1117800"/>
            <a:chOff x="971640" y="2060640"/>
            <a:chExt cx="7561080" cy="1117800"/>
          </a:xfrm>
        </p:grpSpPr>
        <p:sp>
          <p:nvSpPr>
            <p:cNvPr id="1691" name=""/>
            <p:cNvSpPr/>
            <p:nvPr/>
          </p:nvSpPr>
          <p:spPr>
            <a:xfrm>
              <a:off x="971640" y="2060640"/>
              <a:ext cx="75610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若       </a:t>
              </a:r>
              <a:r>
                <a:rPr b="0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有                        </a:t>
              </a:r>
              <a:r>
                <a:rPr b="0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.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该结论说明</a:t>
              </a:r>
              <a:r>
                <a:rPr b="0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在使用</a:t>
              </a:r>
              <a:r>
                <a:rPr b="0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Λ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统计量时也可考虑    的情形</a:t>
              </a:r>
              <a:r>
                <a:rPr b="0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,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有关</a:t>
              </a:r>
              <a:r>
                <a:rPr b="0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Λ</a:t>
              </a:r>
              <a:r>
                <a:rPr b="0" lang="zh-CN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统计量的其他性质参见文献</a:t>
              </a:r>
              <a:r>
                <a:rPr b="0" lang="en-US" sz="28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[1].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1692" name=""/>
            <p:cNvGraphicFramePr/>
            <p:nvPr/>
          </p:nvGraphicFramePr>
          <p:xfrm>
            <a:off x="1835280" y="2133720"/>
            <a:ext cx="1008000" cy="5382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69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835280" y="2133720"/>
                      <a:ext cx="100800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94" name=""/>
            <p:cNvGraphicFramePr/>
            <p:nvPr/>
          </p:nvGraphicFramePr>
          <p:xfrm>
            <a:off x="3492360" y="2205000"/>
            <a:ext cx="4175280" cy="4636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69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492360" y="2205000"/>
                      <a:ext cx="4175280" cy="46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96" name=""/>
            <p:cNvGraphicFramePr/>
            <p:nvPr/>
          </p:nvGraphicFramePr>
          <p:xfrm>
            <a:off x="6877080" y="2708280"/>
            <a:ext cx="792000" cy="4237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697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877080" y="2708280"/>
                      <a:ext cx="792000" cy="42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F221-F2C5-4C36-AD3F-EBF5E59130A1}" type="slidenum">
              <a:t>6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5116D-9B1A-41A2-9976-72E71C9E46F8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9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4fafa"/>
                </a:solidFill>
                <a:latin typeface="黑体"/>
                <a:ea typeface="黑体"/>
              </a:rPr>
              <a:t>三、多元变量的独立性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2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39640" y="1628640"/>
            <a:ext cx="7921800" cy="2355840"/>
            <a:chOff x="539640" y="1628640"/>
            <a:chExt cx="7921800" cy="2355840"/>
          </a:xfrm>
        </p:grpSpPr>
        <p:sp>
          <p:nvSpPr>
            <p:cNvPr id="259" name=""/>
            <p:cNvSpPr/>
            <p:nvPr/>
          </p:nvSpPr>
          <p:spPr>
            <a:xfrm>
              <a:off x="539640" y="2781360"/>
              <a:ext cx="7921800" cy="788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对一切     成立。若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为     的联合分布函数，         分别为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和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的分布函数，则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与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独立当且仅当                                （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5.4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）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aphicFrame>
          <p:nvGraphicFramePr>
            <p:cNvPr id="260" name=""/>
            <p:cNvGraphicFramePr/>
            <p:nvPr/>
          </p:nvGraphicFramePr>
          <p:xfrm>
            <a:off x="1666800" y="2276640"/>
            <a:ext cx="6050160" cy="4600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666800" y="2276640"/>
                      <a:ext cx="6050160" cy="46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2" name=""/>
            <p:cNvSpPr/>
            <p:nvPr/>
          </p:nvSpPr>
          <p:spPr>
            <a:xfrm>
              <a:off x="1875240" y="1628640"/>
              <a:ext cx="504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黑体"/>
                </a:rPr>
                <a:t>定义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黑体"/>
                </a:rPr>
                <a:t>5.4</a:t>
              </a:r>
              <a:r>
                <a:rPr b="1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：两个随机向量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和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Arial"/>
                  <a:ea typeface="黑体"/>
                </a:rPr>
                <a:t>称为是相互独立的，若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Rectangle 3"/>
                <p:cNvSpPr txBox="1"/>
                <p:nvPr/>
              </p:nvSpPr>
              <p:spPr>
                <a:xfrm>
                  <a:off x="4284720" y="2840040"/>
                  <a:ext cx="93672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Rectangle 3"/>
                <p:cNvSpPr txBox="1"/>
                <p:nvPr/>
              </p:nvSpPr>
              <p:spPr>
                <a:xfrm>
                  <a:off x="3924360" y="1700280"/>
                  <a:ext cx="360360" cy="3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4643280" y="1703520"/>
                  <a:ext cx="27180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2268360" y="2852640"/>
                  <a:ext cx="86364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" name="Rectangle 3"/>
                <p:cNvSpPr txBox="1"/>
                <p:nvPr/>
              </p:nvSpPr>
              <p:spPr>
                <a:xfrm>
                  <a:off x="5511960" y="2852640"/>
                  <a:ext cx="86508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1090440" y="3166920"/>
                  <a:ext cx="158436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和</m:t>
                      </m:r>
                      <m:r>
                        <m:t xml:space="preserve"> 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3513240" y="3166920"/>
                  <a:ext cx="360360" cy="32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4186080" y="3154320"/>
                  <a:ext cx="30348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7236000" y="3154320"/>
                  <a:ext cx="331560" cy="37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6588000" y="3179880"/>
                  <a:ext cx="36036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2843280" y="3575160"/>
                  <a:ext cx="259236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4" name=""/>
          <p:cNvSpPr/>
          <p:nvPr/>
        </p:nvSpPr>
        <p:spPr>
          <a:xfrm>
            <a:off x="0" y="337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50920" y="5589720"/>
            <a:ext cx="7775640" cy="459720"/>
            <a:chOff x="250920" y="5589720"/>
            <a:chExt cx="7775640" cy="459720"/>
          </a:xfrm>
        </p:grpSpPr>
        <p:sp>
          <p:nvSpPr>
            <p:cNvPr id="286" name=""/>
            <p:cNvSpPr/>
            <p:nvPr/>
          </p:nvSpPr>
          <p:spPr>
            <a:xfrm>
              <a:off x="250920" y="5589720"/>
              <a:ext cx="777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cc"/>
                  </a:solidFill>
                  <a:latin typeface="黑体"/>
                  <a:ea typeface="黑体"/>
                </a:rPr>
                <a:t>注意</a:t>
              </a:r>
              <a:r>
                <a:rPr b="1" lang="en-US" sz="2400" spc="-1" strike="noStrike">
                  <a:solidFill>
                    <a:srgbClr val="ff66cc"/>
                  </a:solidFill>
                  <a:latin typeface="黑体"/>
                  <a:ea typeface="黑体"/>
                </a:rPr>
                <a:t>:</a:t>
              </a:r>
              <a:r>
                <a:rPr b="1" lang="zh-CN" sz="2400" spc="-1" strike="noStrike">
                  <a:solidFill>
                    <a:srgbClr val="ff66cc"/>
                  </a:solidFill>
                  <a:latin typeface="黑体"/>
                  <a:ea typeface="黑体"/>
                </a:rPr>
                <a:t>在上述定义中， 和  的维数一般是不同的。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" name=""/>
                <p:cNvSpPr txBox="1"/>
                <p:nvPr/>
              </p:nvSpPr>
              <p:spPr>
                <a:xfrm>
                  <a:off x="4173480" y="5686560"/>
                  <a:ext cx="27000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3492360" y="5686560"/>
                  <a:ext cx="36036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9" name=""/>
          <p:cNvGrpSpPr/>
          <p:nvPr/>
        </p:nvGrpSpPr>
        <p:grpSpPr>
          <a:xfrm>
            <a:off x="324000" y="4149720"/>
            <a:ext cx="7704000" cy="1300320"/>
            <a:chOff x="324000" y="4149720"/>
            <a:chExt cx="7704000" cy="1300320"/>
          </a:xfrm>
        </p:grpSpPr>
        <p:sp>
          <p:nvSpPr>
            <p:cNvPr id="290" name=""/>
            <p:cNvSpPr/>
            <p:nvPr/>
          </p:nvSpPr>
          <p:spPr>
            <a:xfrm>
              <a:off x="324000" y="4149720"/>
              <a:ext cx="770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若     有密度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，用          分别表示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和      的分布密度，则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和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独立当且仅当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   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                       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(5.5)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1042920" y="4162320"/>
              <a:ext cx="6824880" cy="1287720"/>
              <a:chOff x="1042920" y="4162320"/>
              <a:chExt cx="6824880" cy="1287720"/>
            </a:xfrm>
          </p:grpSpPr>
          <mc:AlternateContent>
            <mc:Choice xmlns:a14="http://schemas.microsoft.com/office/drawing/2010/main" Requires="a14">
              <p:sp>
                <p:nvSpPr>
                  <p:cNvPr id="292" name=""/>
                  <p:cNvSpPr txBox="1"/>
                  <p:nvPr/>
                </p:nvSpPr>
                <p:spPr>
                  <a:xfrm>
                    <a:off x="1042920" y="4221000"/>
                    <a:ext cx="720720" cy="347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3" name=""/>
                  <p:cNvSpPr txBox="1"/>
                  <p:nvPr/>
                </p:nvSpPr>
                <p:spPr>
                  <a:xfrm>
                    <a:off x="2700360" y="4233960"/>
                    <a:ext cx="863640" cy="369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4" name=""/>
                  <p:cNvSpPr txBox="1"/>
                  <p:nvPr/>
                </p:nvSpPr>
                <p:spPr>
                  <a:xfrm>
                    <a:off x="4067280" y="4162320"/>
                    <a:ext cx="1584360" cy="419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和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5" name=""/>
                  <p:cNvSpPr txBox="1"/>
                  <p:nvPr/>
                </p:nvSpPr>
                <p:spPr>
                  <a:xfrm>
                    <a:off x="6877080" y="4221000"/>
                    <a:ext cx="360360" cy="322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6" name=""/>
                  <p:cNvSpPr txBox="1"/>
                  <p:nvPr/>
                </p:nvSpPr>
                <p:spPr>
                  <a:xfrm>
                    <a:off x="2530440" y="4637160"/>
                    <a:ext cx="325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7" name=""/>
                  <p:cNvSpPr txBox="1"/>
                  <p:nvPr/>
                </p:nvSpPr>
                <p:spPr>
                  <a:xfrm>
                    <a:off x="7596360" y="4246560"/>
                    <a:ext cx="271440" cy="306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8" name=""/>
                  <p:cNvSpPr txBox="1"/>
                  <p:nvPr/>
                </p:nvSpPr>
                <p:spPr>
                  <a:xfrm>
                    <a:off x="3203640" y="4627440"/>
                    <a:ext cx="269640" cy="304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9" name=""/>
                  <p:cNvSpPr txBox="1"/>
                  <p:nvPr/>
                </p:nvSpPr>
                <p:spPr>
                  <a:xfrm>
                    <a:off x="2411280" y="4998960"/>
                    <a:ext cx="2665440" cy="451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B8CE-E718-4224-9D2E-31BFC232E01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9B5A6-92C0-446A-BA48-699112E9BD88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1699" name="" descr=""/>
          <p:cNvPicPr/>
          <p:nvPr/>
        </p:nvPicPr>
        <p:blipFill>
          <a:blip r:embed="rId1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70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701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702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1703" name="" descr=""/>
          <p:cNvPicPr/>
          <p:nvPr/>
        </p:nvPicPr>
        <p:blipFill>
          <a:blip r:embed="rId5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170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1713" name=""/>
          <p:cNvSpPr txBox="1"/>
          <p:nvPr/>
        </p:nvSpPr>
        <p:spPr>
          <a:xfrm>
            <a:off x="2340000" y="1773360"/>
            <a:ext cx="449892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4fafa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The end!</a:t>
            </a:r>
            <a:endParaRPr b="1" lang="en-US" sz="3200" spc="1" strike="noStrike">
              <a:ln w="9360">
                <a:solidFill>
                  <a:srgbClr val="f4fafa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4fafa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Thanks!</a:t>
            </a:r>
            <a:endParaRPr b="1" lang="en-US" sz="3200" spc="1" strike="noStrike">
              <a:ln w="9360">
                <a:solidFill>
                  <a:srgbClr val="f4fafa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C280-08A3-4BBC-9E54-EAF2B26CA255}" type="slidenum">
              <a:t>7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AB15F-52EB-43EC-8D4F-917535F06191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5" dur="5000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0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4fafa"/>
                </a:solidFill>
                <a:latin typeface="黑体"/>
                <a:ea typeface="黑体"/>
              </a:rPr>
              <a:t>四、随机向量的数字特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332000" y="4149720"/>
            <a:ext cx="5184720" cy="503280"/>
            <a:chOff x="1332000" y="4149720"/>
            <a:chExt cx="5184720" cy="503280"/>
          </a:xfrm>
        </p:grpSpPr>
        <p:sp>
          <p:nvSpPr>
            <p:cNvPr id="302" name=""/>
            <p:cNvSpPr/>
            <p:nvPr/>
          </p:nvSpPr>
          <p:spPr>
            <a:xfrm>
              <a:off x="1544760" y="4149720"/>
              <a:ext cx="497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是一个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维向量，称为均值向量</a:t>
              </a: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Rectangle 3"/>
                <p:cNvSpPr txBox="1"/>
                <p:nvPr/>
              </p:nvSpPr>
              <p:spPr>
                <a:xfrm>
                  <a:off x="1332000" y="4272120"/>
                  <a:ext cx="349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4" name="Rectangle 3"/>
                <p:cNvSpPr txBox="1"/>
                <p:nvPr/>
              </p:nvSpPr>
              <p:spPr>
                <a:xfrm>
                  <a:off x="2484360" y="4292640"/>
                  <a:ext cx="284400" cy="3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3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816120" y="5037120"/>
          <a:ext cx="6145200" cy="9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16120" y="5037120"/>
                    <a:ext cx="61452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468360" y="4581360"/>
            <a:ext cx="7416360" cy="459720"/>
            <a:chOff x="468360" y="4581360"/>
            <a:chExt cx="7416360" cy="459720"/>
          </a:xfrm>
        </p:grpSpPr>
        <p:sp>
          <p:nvSpPr>
            <p:cNvPr id="319" name=""/>
            <p:cNvSpPr/>
            <p:nvPr/>
          </p:nvSpPr>
          <p:spPr>
            <a:xfrm>
              <a:off x="468360" y="4581360"/>
              <a:ext cx="74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当     为常数矩阵时，由定义可立即推出如下性质：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891000" y="4678200"/>
                  <a:ext cx="74988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 </m:t>
                      </m:r>
                      <m:r>
                        <m:t xml:space="preserve">、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1" name=""/>
          <p:cNvGrpSpPr/>
          <p:nvPr/>
        </p:nvGrpSpPr>
        <p:grpSpPr>
          <a:xfrm>
            <a:off x="468360" y="1268280"/>
            <a:ext cx="8351640" cy="1191240"/>
            <a:chOff x="468360" y="1268280"/>
            <a:chExt cx="8351640" cy="1191240"/>
          </a:xfrm>
        </p:grpSpPr>
        <p:sp>
          <p:nvSpPr>
            <p:cNvPr id="322" name=""/>
            <p:cNvSpPr/>
            <p:nvPr/>
          </p:nvSpPr>
          <p:spPr>
            <a:xfrm>
              <a:off x="468360" y="1268280"/>
              <a:ext cx="835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、随机向量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的均值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设               有  个分量。若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存在，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定义随机向量</a:t>
              </a:r>
              <a:r>
                <a:rPr b="1" i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f4fafa"/>
                  </a:solidFill>
                  <a:latin typeface="黑体"/>
                  <a:ea typeface="黑体"/>
                </a:rPr>
                <a:t>的均值为</a:t>
              </a:r>
              <a:endParaRPr b="0" lang="en-US" sz="24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2195640" y="1341360"/>
                  <a:ext cx="35856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4" name=""/>
                <p:cNvSpPr txBox="1"/>
                <p:nvPr/>
              </p:nvSpPr>
              <p:spPr>
                <a:xfrm>
                  <a:off x="1679400" y="1712880"/>
                  <a:ext cx="230364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6084720" y="1712880"/>
                  <a:ext cx="129564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684360" y="2019240"/>
                  <a:ext cx="161928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p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4208400" y="2100240"/>
                  <a:ext cx="35892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8" name="Rectangle 3"/>
                <p:cNvSpPr txBox="1"/>
                <p:nvPr/>
              </p:nvSpPr>
              <p:spPr>
                <a:xfrm>
                  <a:off x="4284720" y="1773360"/>
                  <a:ext cx="285840" cy="3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9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396800" y="2509920"/>
            <a:ext cx="5503680" cy="1424880"/>
            <a:chOff x="1396800" y="2509920"/>
            <a:chExt cx="5503680" cy="1424880"/>
          </a:xfrm>
        </p:grpSpPr>
        <p:sp>
          <p:nvSpPr>
            <p:cNvPr id="332" name=""/>
            <p:cNvSpPr/>
            <p:nvPr/>
          </p:nvSpPr>
          <p:spPr>
            <a:xfrm>
              <a:off x="3128760" y="253692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)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82720" y="253692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(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59160" y="3645000"/>
              <a:ext cx="69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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84680" y="3645000"/>
              <a:ext cx="69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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46560" y="3645000"/>
              <a:ext cx="69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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389320" y="3645000"/>
              <a:ext cx="69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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89320" y="2527200"/>
              <a:ext cx="69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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37040" y="37591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P</a:t>
              </a:r>
              <a:endParaRPr b="0" lang="en-US" sz="11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019320" y="37591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P</a:t>
              </a:r>
              <a:endParaRPr b="0" lang="en-US" sz="11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906720" y="2509920"/>
              <a:ext cx="139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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930320" y="307188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)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23760" y="2967120"/>
              <a:ext cx="124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</a:t>
              </a:r>
              <a:endParaRPr b="0" lang="en-US" sz="25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776280" y="2967120"/>
              <a:ext cx="124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</a:t>
              </a:r>
              <a:endParaRPr b="0" lang="en-US" sz="25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615000" y="30718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6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530400" y="3071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.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86400" y="30718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5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92480" y="361152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)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682720" y="361152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(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469600" y="32558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 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162240" y="289548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)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82720" y="289548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(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2280" y="307188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(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30200" y="3043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2</a:t>
              </a:r>
              <a:endParaRPr b="0" lang="en-US" sz="11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11120" y="2682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1</a:t>
              </a:r>
              <a:endParaRPr b="0" lang="en-US" sz="11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012840" y="3043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2</a:t>
              </a:r>
              <a:endParaRPr b="0" lang="en-US" sz="11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991960" y="2682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1</a:t>
              </a:r>
              <a:endParaRPr b="0" lang="en-US" sz="11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49760" y="307188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μ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24040" y="307188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X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17920" y="3044880"/>
              <a:ext cx="192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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59160" y="3436920"/>
              <a:ext cx="69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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59160" y="3209760"/>
              <a:ext cx="69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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59160" y="2981160"/>
              <a:ext cx="69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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59160" y="2754360"/>
              <a:ext cx="69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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259160" y="2527200"/>
              <a:ext cx="69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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84680" y="3436920"/>
              <a:ext cx="69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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784680" y="3209760"/>
              <a:ext cx="69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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84680" y="2981160"/>
              <a:ext cx="69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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84680" y="2754360"/>
              <a:ext cx="69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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84680" y="2527200"/>
              <a:ext cx="69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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04960" y="3044880"/>
              <a:ext cx="192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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46560" y="3436920"/>
              <a:ext cx="69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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46560" y="3209760"/>
              <a:ext cx="69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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346560" y="2981160"/>
              <a:ext cx="69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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46560" y="2754360"/>
              <a:ext cx="69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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346560" y="2527200"/>
              <a:ext cx="69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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389320" y="3436920"/>
              <a:ext cx="69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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89320" y="3209760"/>
              <a:ext cx="69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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89320" y="2981160"/>
              <a:ext cx="69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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89320" y="2754360"/>
              <a:ext cx="69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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09600" y="3044880"/>
              <a:ext cx="192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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825280" y="36115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X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87240" y="36115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E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825280" y="289548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X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87240" y="289548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E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25280" y="25369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X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87240" y="25369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E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96800" y="307188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f4fafa"/>
                  </a:solidFill>
                  <a:latin typeface="Times New Roman"/>
                  <a:ea typeface="黑体"/>
                </a:rPr>
                <a:t>E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06720" y="3584520"/>
              <a:ext cx="139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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06720" y="2868480"/>
              <a:ext cx="139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f4fafa"/>
                  </a:solidFill>
                  <a:latin typeface="Symbol"/>
                  <a:ea typeface="Symbol"/>
                </a:rPr>
                <a:t></a:t>
              </a:r>
              <a:endParaRPr b="0" lang="en-US" sz="19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1" name=""/>
                <p:cNvSpPr txBox="1"/>
                <p:nvPr/>
              </p:nvSpPr>
              <p:spPr>
                <a:xfrm>
                  <a:off x="2822400" y="3213000"/>
                  <a:ext cx="21600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⋮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3924360" y="3213000"/>
                  <a:ext cx="16200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⋮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8966-A76C-4400-98C4-A707576249C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6F5DC-74B6-405D-8C9D-4FF13E700F1E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1346040" y="2629080"/>
          <a:ext cx="7232760" cy="20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629080"/>
                    <a:ext cx="723276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258920" y="2162160"/>
                <a:ext cx="51134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EX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EX</m:t>
                    </m:r>
                    <m:sSup>
                      <m:e>
                        <m:r>
                          <m:t xml:space="preserve">)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6369840" y="662148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0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39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324000" y="1413000"/>
            <a:ext cx="4464000" cy="520560"/>
            <a:chOff x="324000" y="1413000"/>
            <a:chExt cx="4464000" cy="520560"/>
          </a:xfrm>
        </p:grpSpPr>
        <p:sp>
          <p:nvSpPr>
            <p:cNvPr id="404" name=""/>
            <p:cNvSpPr/>
            <p:nvPr/>
          </p:nvSpPr>
          <p:spPr>
            <a:xfrm>
              <a:off x="324000" y="1413000"/>
              <a:ext cx="44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、随机向量</a:t>
              </a:r>
              <a:r>
                <a:rPr b="1" i="1" lang="zh-CN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   </a:t>
              </a:r>
              <a:r>
                <a:rPr b="1" lang="zh-CN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自协方差阵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5" name=""/>
                <p:cNvSpPr txBox="1"/>
                <p:nvPr/>
              </p:nvSpPr>
              <p:spPr>
                <a:xfrm>
                  <a:off x="2436840" y="1519200"/>
                  <a:ext cx="431640" cy="3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755640" y="4648320"/>
            <a:ext cx="7632720" cy="960480"/>
            <a:chOff x="755640" y="4648320"/>
            <a:chExt cx="7632720" cy="960480"/>
          </a:xfrm>
        </p:grpSpPr>
        <p:sp>
          <p:nvSpPr>
            <p:cNvPr id="408" name=""/>
            <p:cNvSpPr/>
            <p:nvPr/>
          </p:nvSpPr>
          <p:spPr>
            <a:xfrm>
              <a:off x="755640" y="4648320"/>
              <a:ext cx="741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      </a:t>
              </a:r>
              <a:r>
                <a:rPr b="0" lang="zh-CN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称它为</a:t>
              </a:r>
              <a:r>
                <a:rPr b="0" i="1" lang="zh-CN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   </a:t>
              </a:r>
              <a:r>
                <a:rPr b="0" lang="zh-CN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维随机向量</a:t>
              </a:r>
              <a:r>
                <a:rPr b="1" i="1" lang="zh-CN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   </a:t>
              </a:r>
              <a:r>
                <a:rPr b="0" lang="zh-CN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的协方差阵，简称为</a:t>
              </a:r>
              <a:r>
                <a:rPr b="1" i="1" lang="zh-CN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   </a:t>
              </a:r>
              <a:r>
                <a:rPr b="0" lang="zh-CN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的协方差阵。称             为</a:t>
              </a:r>
              <a:r>
                <a:rPr b="1" i="1" lang="zh-CN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   </a:t>
              </a:r>
              <a:r>
                <a:rPr b="0" lang="zh-CN" sz="2800" spc="-1" strike="noStrike">
                  <a:solidFill>
                    <a:srgbClr val="f4fafa"/>
                  </a:solidFill>
                  <a:latin typeface="Arial"/>
                  <a:ea typeface="黑体"/>
                </a:rPr>
                <a:t>的广义方差，它是协差阵的行列式之值。</a:t>
              </a:r>
              <a:endParaRPr b="0" lang="en-US" sz="2800" spc="-1" strike="noStrike">
                <a:solidFill>
                  <a:srgbClr val="f4faf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9" name="Rectangle 3"/>
                <p:cNvSpPr txBox="1"/>
                <p:nvPr/>
              </p:nvSpPr>
              <p:spPr>
                <a:xfrm>
                  <a:off x="2484360" y="4749840"/>
                  <a:ext cx="352440" cy="3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0" name="Rectangle 3"/>
                <p:cNvSpPr txBox="1"/>
                <p:nvPr/>
              </p:nvSpPr>
              <p:spPr>
                <a:xfrm>
                  <a:off x="4572000" y="4724280"/>
                  <a:ext cx="360360" cy="33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1" name=""/>
                <p:cNvSpPr txBox="1"/>
                <p:nvPr/>
              </p:nvSpPr>
              <p:spPr>
                <a:xfrm>
                  <a:off x="8024760" y="4759200"/>
                  <a:ext cx="36360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2" name=""/>
                <p:cNvSpPr txBox="1"/>
                <p:nvPr/>
              </p:nvSpPr>
              <p:spPr>
                <a:xfrm>
                  <a:off x="3378240" y="5097600"/>
                  <a:ext cx="144000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v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5232240" y="5187960"/>
                  <a:ext cx="37332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EE86-7DAE-42B1-B628-5C3C5E0D2D1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AA99F-576E-4B14-84F5-B522DA8C2965}" type="datetime1">
              <a:rPr lang="en-US"/>
              <a:t>07/30/26</a:t>
            </a:fld>
          </a:p>
        </p:txBody>
      </p:sp>
    </p:spTree>
  </p:cSld>
  <p:transition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23:37:05Z</dcterms:created>
  <dc:creator>Tao</dc:creator>
  <dc:description/>
  <dc:language>en-US</dc:language>
  <cp:lastModifiedBy>Administrator</cp:lastModifiedBy>
  <dcterms:modified xsi:type="dcterms:W3CDTF">2015-03-07T03:32:42Z</dcterms:modified>
  <cp:revision>441</cp:revision>
  <dc:subject/>
  <dc:title>幻灯片 1</dc:title>
</cp:coreProperties>
</file>