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1D1-3D1D-4EDC-A982-BA66B395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2FB-C25A-4756-9943-09820FE2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3D4-75C5-433F-8FE2-CE5CE1CF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99D9-958E-4A03-A0F1-A27C4990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CD4-4F37-40F0-9DA3-38E3FEBD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A16-295B-44FA-A60C-0916D492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4766-1109-44BA-B1AC-859F5B2A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17B-9B1E-4F60-9851-AF32278E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7280" y="274320"/>
            <a:ext cx="713916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652D-7244-4275-AC1E-F769FCA6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ECED-D087-4167-B3CF-F90517AF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CBC-B80B-4E85-A180-30FF0EFB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D67-C0A1-401C-A95A-5DAEC791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D51A-7F19-41DD-95DC-BC15F1D08AD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39640" y="6337080"/>
            <a:ext cx="40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336699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CDA4-9E66-4922-993D-E98E101CFD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" name="Picture 7" descr="tb3"/>
          <p:cNvPicPr/>
          <p:nvPr/>
        </p:nvPicPr>
        <p:blipFill>
          <a:blip r:embed="rId2"/>
          <a:stretch/>
        </p:blipFill>
        <p:spPr>
          <a:xfrm>
            <a:off x="250920" y="260280"/>
            <a:ext cx="1008000" cy="85428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468360" y="6237360"/>
            <a:ext cx="82072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CC26-AA6C-46D2-BC2A-2C95626C0827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4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F265-4233-4B3C-A1AB-C089C6EE8C68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39640" y="1557360"/>
            <a:ext cx="8229600" cy="4680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4fafa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fafa"/>
                </a:solidFill>
                <a:latin typeface="黑体"/>
                <a:ea typeface="黑体"/>
              </a:rPr>
              <a:t>§13.1 </a:t>
            </a:r>
            <a:r>
              <a:rPr b="0" lang="zh-CN" sz="3600" spc="-1" strike="noStrike">
                <a:solidFill>
                  <a:srgbClr val="f4fafa"/>
                </a:solidFill>
                <a:latin typeface="黑体"/>
                <a:ea typeface="黑体"/>
              </a:rPr>
              <a:t>对应分析的基本理论 </a:t>
            </a:r>
            <a:endParaRPr b="1" lang="en-US" sz="3600" spc="-1" strike="noStrike">
              <a:solidFill>
                <a:srgbClr val="f4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4fafa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4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4fafa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fafa"/>
                </a:solidFill>
                <a:latin typeface="黑体"/>
                <a:ea typeface="黑体"/>
              </a:rPr>
              <a:t>§13.2 </a:t>
            </a:r>
            <a:r>
              <a:rPr b="0" lang="zh-CN" sz="3600" spc="-1" strike="noStrike">
                <a:solidFill>
                  <a:srgbClr val="f4fafa"/>
                </a:solidFill>
                <a:latin typeface="黑体"/>
                <a:ea typeface="黑体"/>
              </a:rPr>
              <a:t>对应分析的步骤及逻辑框图</a:t>
            </a:r>
            <a:endParaRPr b="1" lang="en-US" sz="3600" spc="-1" strike="noStrike">
              <a:solidFill>
                <a:srgbClr val="f4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4fafa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4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4fafa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fafa"/>
                </a:solidFill>
                <a:latin typeface="黑体"/>
                <a:ea typeface="黑体"/>
              </a:rPr>
              <a:t>§13.3 </a:t>
            </a:r>
            <a:r>
              <a:rPr b="0" lang="zh-CN" sz="3600" spc="-1" strike="noStrike">
                <a:solidFill>
                  <a:srgbClr val="f4fafa"/>
                </a:solidFill>
                <a:latin typeface="黑体"/>
                <a:ea typeface="黑体"/>
              </a:rPr>
              <a:t>对应分析的上机实现 </a:t>
            </a:r>
            <a:endParaRPr b="1" lang="en-US" sz="3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404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afa"/>
                </a:solidFill>
                <a:latin typeface="黑体"/>
              </a:rPr>
              <a:t>第 </a:t>
            </a:r>
            <a:r>
              <a:rPr b="1" lang="en-US" sz="4000" spc="-1" strike="noStrike">
                <a:solidFill>
                  <a:srgbClr val="f4fafa"/>
                </a:solidFill>
                <a:latin typeface="黑体"/>
              </a:rPr>
              <a:t>13 </a:t>
            </a:r>
            <a:r>
              <a:rPr b="1" lang="zh-CN" sz="4000" spc="-1" strike="noStrike">
                <a:solidFill>
                  <a:srgbClr val="f4fafa"/>
                </a:solidFill>
                <a:latin typeface="黑体"/>
              </a:rPr>
              <a:t>章    对应分析</a:t>
            </a:r>
            <a:r>
              <a:rPr b="1" lang="zh-CN" sz="3200" spc="-1" strike="noStrike">
                <a:solidFill>
                  <a:srgbClr val="f4fafa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137440" cy="5759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920000" cy="5832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5761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EBA7-CC28-44A8-BFC0-914A09E3AA98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2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8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7885-4E44-4A96-BFB8-66EA1526CC09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79280" y="1341360"/>
            <a:ext cx="1800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fafa"/>
                </a:solidFill>
                <a:latin typeface="Times New Roman"/>
                <a:ea typeface="黑体"/>
              </a:rPr>
              <a:t>对应分析的步骤及逻辑框图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2268360" y="189000"/>
            <a:ext cx="6875640" cy="6669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496360" cy="4897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889760" cy="630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893080" cy="417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136000" cy="6264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7200720" cy="4681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840720" cy="410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559640" cy="554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23:37:05Z</dcterms:created>
  <dc:creator>Tao</dc:creator>
  <dc:description/>
  <dc:language>en-US</dc:language>
  <cp:lastModifiedBy>hxq</cp:lastModifiedBy>
  <dcterms:modified xsi:type="dcterms:W3CDTF">2010-12-21T02:05:33Z</dcterms:modified>
  <cp:revision>303</cp:revision>
  <dc:subject/>
  <dc:title>幻灯片 1</dc:title>
</cp:coreProperties>
</file>