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33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5.wmf" ContentType="image/x-wmf"/>
  <Override PartName="/ppt/media/image2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4.jpeg" ContentType="image/jpeg"/>
  <Override PartName="/ppt/media/image40.png" ContentType="image/png"/>
  <Override PartName="/ppt/media/image1.jpeg" ContentType="image/jpeg"/>
  <Override PartName="/ppt/media/image4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6B1-FE4C-4030-91B0-79DC3115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999-1C9C-48F6-9D5A-E18EA9F8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946-00CE-43A7-860B-89F969CF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A2D-7410-4432-AB00-AE6FAF9B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207-AFF2-45B1-9FD9-54BFB259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E3D-1BA8-46BB-833E-DB003E27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9A6-3366-4817-81ED-595EAB6E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BB3-1188-4FE2-9101-CE7AA5FB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7280" y="274320"/>
            <a:ext cx="71391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437-55EB-4CDC-977E-43FADBB1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C87-3171-4F68-88EE-3717FCB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124-1C6D-400E-ADD5-4B8A3CB5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44D-A169-4EC8-993F-84C6F9C3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9C62-4538-4C2E-825F-2348928469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39640" y="633708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336699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84D5-CE2C-4EC2-BD14-801437B1F0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" name="Picture 7" descr="tb3"/>
          <p:cNvPicPr/>
          <p:nvPr/>
        </p:nvPicPr>
        <p:blipFill>
          <a:blip r:embed="rId2"/>
          <a:stretch/>
        </p:blipFill>
        <p:spPr>
          <a:xfrm>
            <a:off x="250920" y="260280"/>
            <a:ext cx="1008000" cy="85428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68360" y="6237360"/>
            <a:ext cx="8207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DFF0-776D-4D4B-B3FF-9B52D092E0C4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4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40E3-6329-41DB-884E-5CEA7B0B7E39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9640" y="1557360"/>
            <a:ext cx="8229600" cy="468000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fa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10.1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判别分析的基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思想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fa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10.2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距离判别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fa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10.3   Bayes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判别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fa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10.4   Fisher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判别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fa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10.5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逐步判别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fa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§10.6    </a:t>
            </a:r>
            <a:r>
              <a:rPr b="1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判别分析应用的几个例子</a:t>
            </a:r>
            <a:r>
              <a:rPr b="0" lang="zh-CN" sz="3200" spc="-1" strike="noStrike">
                <a:solidFill>
                  <a:srgbClr val="f4fafa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404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fafa"/>
                </a:solidFill>
                <a:latin typeface="黑体"/>
              </a:rPr>
              <a:t>第</a:t>
            </a:r>
            <a:r>
              <a:rPr b="1" lang="en-US" sz="3600" spc="-1" strike="noStrike">
                <a:solidFill>
                  <a:srgbClr val="f4fafa"/>
                </a:solidFill>
                <a:latin typeface="黑体"/>
              </a:rPr>
              <a:t>10</a:t>
            </a:r>
            <a:r>
              <a:rPr b="1" lang="zh-CN" sz="3600" spc="-1" strike="noStrike">
                <a:solidFill>
                  <a:srgbClr val="f4fafa"/>
                </a:solidFill>
                <a:latin typeface="黑体"/>
              </a:rPr>
              <a:t>章  判别分析</a:t>
            </a:r>
            <a:r>
              <a:rPr b="1" lang="zh-CN" sz="3200" spc="-1" strike="noStrike">
                <a:solidFill>
                  <a:srgbClr val="f4fafa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25520" y="1271520"/>
            <a:ext cx="8294760" cy="431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6520" y="743040"/>
            <a:ext cx="8132760" cy="5371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9360" y="1276200"/>
            <a:ext cx="8047080" cy="4305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1200" y="1990800"/>
            <a:ext cx="8123040" cy="2876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2960" y="1809720"/>
            <a:ext cx="8399520" cy="3238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604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8425080" cy="2143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3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351640" cy="575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8636040" cy="2060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Rectangl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640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964720" cy="597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54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AAC2-8C93-4D28-A739-F0C44D053E5A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49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E575-09C3-4031-B0B0-659AC6F58587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4fafa"/>
                </a:solidFill>
                <a:latin typeface="黑体"/>
                <a:ea typeface="黑体"/>
              </a:rPr>
              <a:t>§10.1   </a:t>
            </a: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判别分析的基本思想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1f89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1f892"/>
                </a:solidFill>
                <a:latin typeface="Times New Roman"/>
                <a:ea typeface="黑体"/>
              </a:rPr>
              <a:t>判别分析能够解决两组或者更多组的情况。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1f89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1f892"/>
                </a:solidFill>
                <a:latin typeface="Times New Roman"/>
                <a:ea typeface="黑体"/>
              </a:rPr>
              <a:t>当包含两组时，称作两组判别分析。当包含三组或者三组以上时，称作多组判别分析（</a:t>
            </a:r>
            <a:r>
              <a:rPr b="0" lang="en-US" sz="2400" spc="-1" strike="noStrike">
                <a:solidFill>
                  <a:srgbClr val="f1f892"/>
                </a:solidFill>
                <a:latin typeface="Times New Roman"/>
                <a:ea typeface="黑体"/>
              </a:rPr>
              <a:t>Multiple discriminant analysis</a:t>
            </a:r>
            <a:r>
              <a:rPr b="0" lang="zh-CN" sz="2400" spc="-1" strike="noStrike">
                <a:solidFill>
                  <a:srgbClr val="f1f892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  <a:ea typeface="黑体"/>
              </a:rPr>
              <a:t>。 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fa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  <a:ea typeface="黑体"/>
              </a:rPr>
              <a:t>判别分析的假设条件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fa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  <a:ea typeface="黑体"/>
              </a:rPr>
              <a:t>判别分析最基本的要求是</a:t>
            </a:r>
            <a:r>
              <a:rPr b="0" lang="en-US" sz="2400" spc="-1" strike="noStrike">
                <a:solidFill>
                  <a:srgbClr val="f4fafa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  <a:ea typeface="黑体"/>
              </a:rPr>
              <a:t>分组类型在两组以上；在第一阶段工作是每组案例的规模必须至少在一个以上。解释变量必须是可测量的，才能够计算其平均值和方差，使其能合理地应用于统计函数。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893080" cy="518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28800" y="1905120"/>
            <a:ext cx="7288200" cy="3047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68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5113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5157720"/>
            <a:ext cx="8424720" cy="1440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83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5905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5240" cy="640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193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Rectangl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97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2E19-3A45-4A5B-83D6-E05E2A34F5BE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0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8DBF-23B4-40E3-901F-093E7C87D0A0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547640" y="274680"/>
            <a:ext cx="713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4fafa"/>
                </a:solidFill>
                <a:latin typeface="黑体"/>
                <a:ea typeface="黑体"/>
              </a:rPr>
              <a:t>§10.1   </a:t>
            </a: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判别分析的基本理论</a:t>
            </a:r>
            <a:endParaRPr b="1" lang="en-US" sz="38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25360"/>
            <a:ext cx="8064720" cy="155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判别分析的</a:t>
            </a:r>
            <a:r>
              <a:rPr b="0" lang="zh-CN" sz="2400" spc="-1" strike="noStrike">
                <a:solidFill>
                  <a:srgbClr val="f1f892"/>
                </a:solidFill>
                <a:latin typeface="Times New Roman"/>
              </a:rPr>
              <a:t>假设之一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，是每一个判别变量（解释变量）不能是其他判别变量的线性组合。即不存在多重共线性问题。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判别分析的</a:t>
            </a:r>
            <a:r>
              <a:rPr b="0" lang="zh-CN" sz="2400" spc="-1" strike="noStrike">
                <a:solidFill>
                  <a:srgbClr val="f1f892"/>
                </a:solidFill>
                <a:latin typeface="Times New Roman"/>
              </a:rPr>
              <a:t>假设之二</a:t>
            </a:r>
            <a:r>
              <a:rPr b="0" lang="zh-CN" sz="2400" spc="-1" strike="noStrike">
                <a:solidFill>
                  <a:srgbClr val="f4fafa"/>
                </a:solidFill>
                <a:latin typeface="Times New Roman"/>
              </a:rPr>
              <a:t>，是各组变量的协方差矩阵相等。判别分析最简单和最常用的形式是采用线性判别函数，它们是判别变量的简单线性组合。在各组协方差矩阵相等的假设条件下，可以使用很简单的公式来计算判别函数和进行显著性检验。</a:t>
            </a:r>
            <a:r>
              <a:rPr b="1" lang="zh-CN" sz="2400" spc="-1" strike="noStrike">
                <a:solidFill>
                  <a:srgbClr val="f4faf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fafa"/>
                </a:solidFill>
                <a:latin typeface="Arial"/>
              </a:rPr>
              <a:t>判别分析的</a:t>
            </a:r>
            <a:r>
              <a:rPr b="0" lang="zh-CN" sz="2400" spc="-1" strike="noStrike">
                <a:solidFill>
                  <a:srgbClr val="f1f892"/>
                </a:solidFill>
                <a:latin typeface="Arial"/>
              </a:rPr>
              <a:t>假设之三</a:t>
            </a:r>
            <a:r>
              <a:rPr b="0" lang="zh-CN" sz="2400" spc="-1" strike="noStrike">
                <a:solidFill>
                  <a:srgbClr val="f4fafa"/>
                </a:solidFill>
                <a:latin typeface="Arial"/>
              </a:rPr>
              <a:t>，是各判别变量之间具有多元正态分布，即每个变量对于所有其他变量的固定值有正态分布。在这种条件下可以精确计算显著性检验值和分组归属的概率。当违背该假设时，计算的概率将非常不准确。</a:t>
            </a:r>
            <a:endParaRPr b="1" lang="en-US" sz="2400" spc="-1" strike="noStrike">
              <a:solidFill>
                <a:srgbClr val="f4faf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8120" y="549360"/>
            <a:ext cx="8809200" cy="568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893080" cy="518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 0" descr=""/>
          <p:cNvPicPr/>
          <p:nvPr/>
        </p:nvPicPr>
        <p:blipFill>
          <a:blip r:embed="rId1"/>
          <a:stretch/>
        </p:blipFill>
        <p:spPr>
          <a:xfrm>
            <a:off x="324000" y="0"/>
            <a:ext cx="7272360" cy="39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9280" y="4005360"/>
            <a:ext cx="8964720" cy="2620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35080" y="476280"/>
            <a:ext cx="8008920" cy="2276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3200" spc="-1" strike="noStrike">
              <a:solidFill>
                <a:srgbClr val="f4fafa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00000" y="2997360"/>
          <a:ext cx="7632720" cy="33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997360"/>
                    <a:ext cx="763272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0280" y="0"/>
            <a:ext cx="83628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42120" cy="161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8059680" cy="904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5B4C-2D87-4D0C-9B4D-BBDF2EA2D850}" type="datetime">
              <a:rPr b="0" lang="zh-CN" sz="1400" spc="-1" strike="noStrike">
                <a:solidFill>
                  <a:srgbClr val="f4fafa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1" name="页脚占位符 4"/>
          <p:cNvSpPr/>
          <p:nvPr/>
        </p:nvSpPr>
        <p:spPr>
          <a:xfrm>
            <a:off x="2340000" y="6337440"/>
            <a:ext cx="403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fafa"/>
                </a:solidFill>
                <a:latin typeface="Arial"/>
                <a:ea typeface="宋体"/>
              </a:rPr>
              <a:t>中国人民大学六西格玛质量管理研究中心</a:t>
            </a:r>
            <a:endParaRPr b="1" lang="en-US" sz="16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6B03-4181-4724-8650-23B4C7609A73}" type="slidenum">
              <a:rPr b="0" lang="en-US" sz="1400" spc="-1" strike="noStrike">
                <a:solidFill>
                  <a:srgbClr val="f4faf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4fafa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4fafa"/>
                </a:solidFill>
                <a:latin typeface="黑体"/>
                <a:ea typeface="黑体"/>
              </a:rPr>
              <a:t>§10.2   </a:t>
            </a:r>
            <a:r>
              <a:rPr b="1" lang="zh-CN" sz="3800" spc="-1" strike="noStrike">
                <a:solidFill>
                  <a:srgbClr val="f4fafa"/>
                </a:solidFill>
                <a:latin typeface="黑体"/>
                <a:ea typeface="黑体"/>
              </a:rPr>
              <a:t>距离判别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3272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348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88176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016840" y="639756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246800" y="639756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369840" y="6613560"/>
            <a:ext cx="19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  上页  下页  返回  结束 </a:t>
            </a:r>
            <a:endParaRPr b="1" lang="en-US" sz="1000" spc="-1" strike="noStrike">
              <a:solidFill>
                <a:srgbClr val="f4faf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514440" y="1268280"/>
            <a:ext cx="8116920" cy="482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79640" y="5229360"/>
            <a:ext cx="2521080" cy="438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8760" y="765000"/>
            <a:ext cx="8288280" cy="4249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820908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7202520" cy="2962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713800" cy="532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80360" cy="3341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028000" cy="3000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345520" cy="424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8151840" cy="2565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23:37:05Z</dcterms:created>
  <dc:creator>Tao</dc:creator>
  <dc:description/>
  <dc:language>en-US</dc:language>
  <cp:lastModifiedBy>hxq</cp:lastModifiedBy>
  <dcterms:modified xsi:type="dcterms:W3CDTF">2010-11-29T07:06:45Z</dcterms:modified>
  <cp:revision>284</cp:revision>
  <dc:subject/>
  <dc:title>幻灯片 1</dc:title>
</cp:coreProperties>
</file>